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23E-E6FE-4F9B-B428-9F36C844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FFB-9F24-4E17-88A2-A8F319AB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11E-4678-407E-8936-4C8128EF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17E-5E9C-45B8-92FE-F3CCD5EF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1A6B-0731-418D-94F4-3727AF4E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80AF-536C-42A0-8236-BEBD4833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D185-1B70-49D3-A2D9-67ABFEF5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9E2C-F766-44D0-AF53-82214A97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33EB-9742-47AA-8898-8179D0B7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A622-10B1-4A54-B5B7-171DC4B6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85E8-6A45-49CA-ACE6-8827B511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F0E-D873-4DA1-9869-C98B7FC2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B989-DF29-44BB-A4EA-3FB87C0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13EE-855E-4215-AE2A-7BB05A59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FACD-D018-4C93-AF3C-F05C257C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3A5D-64E9-4CFC-B667-84D6D864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E481-59C0-426F-AEA0-EE49B462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619-9EB0-4000-B985-AD994856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B84-EA3F-4B3A-B5E5-24E2ED6A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60E-FC72-4715-BD99-2F05E48A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FB9-6FEE-4618-941C-F3A69025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8F3-8D30-4A81-870C-4F557732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871-6BC7-49AA-B986-D9F9AB30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C21-AD89-440B-B937-3E26BA71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5269-8F75-4098-8890-3CF3DA6DEF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9775-C111-4350-82D1-57F5E6D86D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2b2b2"/>
                </a:solidFill>
                <a:latin typeface="Arial"/>
              </a:rPr>
              <a:t>Production Plann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 a group you need to be organised throughout the production so you must meet regularly and take notes of what was sai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k down the planning of the production into st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tages of production planning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he next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rite up your pitch in the form of a ration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se- your cast, locations, equipment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ryboard- this maybe done by one or two delegated group me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ast two can be done simultaneous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What do you need to ensure </a:t>
            </a:r>
            <a:br>
              <a:rPr sz="4000"/>
            </a:b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before shooting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st – are they ready, do they know when to me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tions – do you have permission if needed, have you done a ‘reccy’ to ensure su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quipment – battery charged, tapes, need a trip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s and cost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portation – how are you going to get to your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dget – are you going to pay for cast’s travel expenses, cups of te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Organisation of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ll everyone in the group be at the sh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are you going to organise your time? After school, during media lessons, weekends( will you need to book time off work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roles will you have at the shoot? Director, producer, camera oper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Shot li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fore going out to shoot you have to produce a shot 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simply list the shots you will need to get on your day/session of shoo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list doesn’t have to be in any specific 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must include the day, time, location and cast involved plus a brief description of the sh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mber you do not have to shoot your video in the order you’ve storyboarde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1:01:05Z</dcterms:created>
  <dc:creator> </dc:creator>
  <dc:description/>
  <dc:language>en-US</dc:language>
  <cp:lastModifiedBy>#</cp:lastModifiedBy>
  <dcterms:modified xsi:type="dcterms:W3CDTF">2010-01-04T08:06:46Z</dcterms:modified>
  <cp:revision>8</cp:revision>
  <dc:subject/>
  <dc:title>Planning a Shoot</dc:title>
</cp:coreProperties>
</file>