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lick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C490-AC53-4FF5-8388-7EEEC773A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54F9-308D-4714-AE29-8EF39E07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F925-8F2C-447B-8D9D-0D6116191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85A6-8BA6-411C-87E6-DA954F8ED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F4A8-1F75-4E13-A191-96703C38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9775-F378-4153-AAF3-A69019EB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1650-483F-4840-AFF6-CD65CCF7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D041-2EE9-4830-AC91-A8170750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93CE-0D19-420F-861A-FEC22DED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5E63-01A2-45CF-94DC-7A634B09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B251-1C2A-43DB-86AF-6D2ECC86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A202-B101-4F14-B4CC-A2B482A3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7803-1913-4686-9D50-E617A80E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0864-FA58-459B-A768-C778A7C9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83AE-72B2-4EEB-BD41-38E7E0C3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2AAE-AB26-4B6A-B117-8A23AB125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9156-5C0F-4072-98C8-3841A1B95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C453-757D-4116-9249-D4B8DBF8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FF06-2F5A-4D8D-88B7-F56864EE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759F-9323-4FCE-8A6D-61827D61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496C-F63B-4D34-96EE-D4BDE63E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AB84-A309-4A43-A750-41CC5F4B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0947-F584-463B-B6F9-3830C213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4A61-E8CC-4466-8C0B-890DBEB8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F227-34DA-4F56-ACF7-13BBA7BAAB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2B89-0DA4-430F-80FB-243F551DC3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b2b2b2"/>
                </a:solidFill>
                <a:latin typeface="Arial"/>
              </a:rPr>
              <a:t>Production Planning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What next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s a group you need to be organised throughout the production so you must meet regularly and take notes of what was sai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reak down the planning of the production into stag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tages of production planning ar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The next month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rite up your pitch in the form of a rationa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ganise- your cast, locations, equipment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oryboard- this maybe done by one or two delegated group me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last two can be done simultaneous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b2b2b2"/>
                </a:solidFill>
                <a:latin typeface="Arial"/>
              </a:rPr>
              <a:t>What do you need to ensure </a:t>
            </a:r>
            <a:br>
              <a:rPr sz="4000"/>
            </a:br>
            <a:r>
              <a:rPr b="0" lang="en-GB" sz="4000" spc="-1" strike="noStrike">
                <a:solidFill>
                  <a:srgbClr val="b2b2b2"/>
                </a:solidFill>
                <a:latin typeface="Arial"/>
              </a:rPr>
              <a:t>before shooting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st – are they ready, do they know when to me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cations – do you have permission if needed, have you done a ‘reccy’ to ensure sui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quipment – battery charged, tapes, need a trip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ps and cost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nsportation – how are you going to get to your 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dget – are you going to pay for cast’s travel expenses, cups of te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Organisation of grou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ll everyone in the group be at the shoo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are you going to organise your time? After school, during media lessons, weekends( will you need to book time off work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roles will you have at the shoot? Director, producer, camera opera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Shot lis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fore going out to shoot you have to produce a shot l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ery simply list the shots you will need to get on your day/session of shoo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list doesn’t have to be in any specific or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must include the day, time, location and cast involved plus a brief description of the sho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member you do not have to shoot your video in the order you’ve storyboarded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11:01:05Z</dcterms:created>
  <dc:creator> </dc:creator>
  <dc:description/>
  <dc:language>en-US</dc:language>
  <cp:lastModifiedBy>#</cp:lastModifiedBy>
  <dcterms:modified xsi:type="dcterms:W3CDTF">2010-01-04T08:06:46Z</dcterms:modified>
  <cp:revision>8</cp:revision>
  <dc:subject/>
  <dc:title>Planning a Shoot</dc:title>
</cp:coreProperties>
</file>