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lick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47A2-EB90-4FE1-A98F-67359D364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0029-4BB1-4E55-99F8-649D7AB4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FDF0-AD73-4C91-AFDC-F5BFE8777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F2C3-CF11-4A63-B35B-83CF31DFD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0A39-429C-4DC0-BF33-933CDCC20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D30A-5F79-462D-B2CB-8D3AB049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30F2-78A2-4759-A1D7-82CAA0DB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50A7-C5BF-4BE0-907C-546409B8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8863-0D2D-4AA0-817E-F94B011D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776A-B47F-4AF2-B4AE-F8ED828D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B71A-25D7-41C4-BC0B-1836030E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33E0-75F2-47DC-BE83-7894B862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CA78-B388-458C-8F9C-890D3557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927C-FEF7-482C-B3FC-C359164F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6AB6-3065-43AC-B4BD-4BF110B8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652B-08CF-47D4-98ED-22F357E48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9109-B4FE-411C-BA13-8F66B858E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597F-19C9-43E3-8E6B-B280D5EF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4B78-20E4-47E6-8F30-EE60BDD1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B178-A1CE-4A29-8D83-2ABF6ED4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69E0-4E2D-460B-8F72-97028BB0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287C-1731-4691-A488-32537B18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CAD9-3087-44DD-9F99-C310E058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381E-3C04-48B3-B47B-B868FE21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0D64-3BA9-4F7F-AE14-24575ECCD4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810E-3725-4EF2-930A-7A32FC028A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b2b2b2"/>
                </a:solidFill>
                <a:latin typeface="Arial"/>
              </a:rPr>
              <a:t>Production Planning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What next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s a group you need to be organised throughout the production so you must meet regularly and take notes of what was sai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reak down the planning of the production into stag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tages of production planning ar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The next month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rite up your pitch in the form of a rationa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ganise- your cast, locations, equipment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oryboard- this maybe done by one or two delegated group mem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last two can be done simultaneous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b2b2b2"/>
                </a:solidFill>
                <a:latin typeface="Arial"/>
              </a:rPr>
              <a:t>What do you need to ensure </a:t>
            </a:r>
            <a:br>
              <a:rPr sz="4000"/>
            </a:br>
            <a:r>
              <a:rPr b="0" lang="en-GB" sz="4000" spc="-1" strike="noStrike">
                <a:solidFill>
                  <a:srgbClr val="b2b2b2"/>
                </a:solidFill>
                <a:latin typeface="Arial"/>
              </a:rPr>
              <a:t>before shooting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st – are they ready, do they know when to mee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cations – do you have permission if needed, have you done a ‘reccy’ to ensure sui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quipment – battery charged, tapes, need a trip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ps and cost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nsportation – how are you going to get to your 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dget – are you going to pay for cast’s travel expenses, cups of te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Organisation of group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ll everyone in the group be at the shoo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are you going to organise your time? After school, during media lessons, weekends( will you need to book time off work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roles will you have at the shoot? Director, producer, camera opera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Shot lis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fore going out to shoot you have to produce a shot li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ery simply list the shots you will need to get on your day/session of shoo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list doesn’t have to be in any specific or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must include the day, time, location and cast involved plus a brief description of the sho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member you do not have to shoot your video in the order you’ve storyboarded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11:01:05Z</dcterms:created>
  <dc:creator> </dc:creator>
  <dc:description/>
  <dc:language>en-US</dc:language>
  <cp:lastModifiedBy>#</cp:lastModifiedBy>
  <dcterms:modified xsi:type="dcterms:W3CDTF">2010-01-04T08:06:46Z</dcterms:modified>
  <cp:revision>8</cp:revision>
  <dc:subject/>
  <dc:title>Planning a Shoot</dc:title>
</cp:coreProperties>
</file>