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7D8-65B6-4E31-B76C-020EE4B7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25E-CFB6-4EE6-A00E-A56A910D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6D8-D8CE-4777-8662-E5A29DF3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614-2894-4004-A94E-CFEC5F33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B2A-F810-45F6-BC47-C5D92EC5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AAB-0464-4708-9D9C-D0A679E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C3E4-036A-4A3D-AAFD-FCD989C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01E4-3684-4155-8358-8555B591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242-A754-4F5C-B73A-0E7DA102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21BF-0BE9-436A-B591-F5816F1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2008-4530-4B22-A400-5241D13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BC3-D001-40E9-BFF2-92FEAE44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2A91-2452-421F-AE50-20A4E53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813A-9952-4269-84FC-83A9549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C533-7AC2-4CE5-8070-B157A80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77C-5335-433C-98F4-672F4182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F1F3-5F80-4DDC-8040-2955B4DA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F58-96E7-41AC-A946-2DC0D39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C03-D167-4C1E-B36F-9D13A74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F30-52E1-46AA-A140-522F774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E26-CAA4-4FC1-A1B8-B2DA981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CA5-7BAB-4A1B-9D93-5D4145C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C01-86EE-45CF-AE45-B994F79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572-F9D2-425F-AA10-29DC4AB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21C4-D9FB-43C9-92D7-E9814B748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1A3-82B8-4D1E-B39D-8B1389ADA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Production Plan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group you need to be organised throughout the production so you must meet regularly and take notes of what was sa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k down the planning of the production into st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ages of production planning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next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e up your pitch in the form of a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se- your cast, locations, equipment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yboard- this maybe done by one or two delegated group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ast two can be done simultane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What do you need to ensure </a:t>
            </a:r>
            <a:br>
              <a:rPr sz="4000"/>
            </a:b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before shoo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t – are they ready, do they know when to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tions – do you have permission if needed, have you done a ‘reccy’ to ensure su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– battery charged, tapes, need a tri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s and cost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ation – how are you going to get to you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dget – are you going to pay for cast’s travel expenses, cups of te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Organisation of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ll everyone in the group be at the sh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are you going to organise your time? After school, during media lessons, weekends( will you need to book time off work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roles will you have at the shoot? Director, producer, camera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hot li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going out to shoot you have to produce a shot 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simply list the shots you will need to get on your day/session of shoo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st doesn’t have to be in any specific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must include the day, time, location and cast involved plus a brief description of the sh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mber you do not have to shoot your video in the order you’ve storyboard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1:01:05Z</dcterms:created>
  <dc:creator> </dc:creator>
  <dc:description/>
  <dc:language>en-US</dc:language>
  <cp:lastModifiedBy>#</cp:lastModifiedBy>
  <dcterms:modified xsi:type="dcterms:W3CDTF">2010-01-04T08:06:46Z</dcterms:modified>
  <cp:revision>8</cp:revision>
  <dc:subject/>
  <dc:title>Planning a Shoot</dc:title>
</cp:coreProperties>
</file>