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B81-E5A2-4C94-940D-2E9C07B5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2F6-BA7B-4AB3-9B64-FA141B1D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A2F-8494-47BD-86F9-DA8C6B85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FD6-A979-4855-A839-1F08EAE5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D42-A0FB-439D-AC75-13DA59E2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D7D-A120-4CD6-8C0A-D0CD8CF0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9B2-1762-439D-8213-A5994968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346-50B7-45B3-8B88-1642513F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1DE-0B2C-4BF3-9CDC-B2D7FFBA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D20-CFED-4EF2-9C6E-26DE6D43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A6B-6F03-4A2E-B1F3-C589786A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4DE-38BF-45A7-845E-4A7FA0D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9D3F-A0E8-47E2-B72D-1F814A961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ing – bringing focus to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 – arrangement of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 poster 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own front cover and/or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Boys Don't Cry Poster"/>
          <p:cNvPicPr/>
          <p:nvPr/>
        </p:nvPicPr>
        <p:blipFill>
          <a:blip r:embed="rId1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Road Trip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Goodfellas Poster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Pulp Fiction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3:48Z</dcterms:created>
  <dc:creator>#</dc:creator>
  <dc:description/>
  <dc:language>en-US</dc:language>
  <cp:lastModifiedBy>#</cp:lastModifiedBy>
  <dcterms:modified xsi:type="dcterms:W3CDTF">2009-11-09T14:22:40Z</dcterms:modified>
  <cp:revision>3</cp:revision>
  <dc:subject/>
  <dc:title>Photography</dc:title>
</cp:coreProperties>
</file>