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8A3-0E17-4B82-94CB-EAE27F4C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3E8-71C4-4F68-9BB7-8A3B1B1C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6B8-43F5-4FDA-AFEA-95BE6EF1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D40-ACC6-4EA6-BA0C-6E7F82DA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F40-43A4-4257-9922-6889F34C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399-2732-4CC8-8717-D7A0F22C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E88-A3F5-46A8-B39F-7B8D2D05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80F-C3F1-4D2C-AFD1-CC4C8879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A9B-A1E5-4A1C-B0C7-1CAD7895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7DD-577C-4769-8C19-C0191870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882-8949-415F-8C45-03D10A7D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797-73D9-4E97-9589-B97C2ABD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3540-18B1-4A73-9198-290372C16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ing – bringing focus to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sition – arrangement of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 poster sugg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own front cover and/or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Boys Don't Cry Poster"/>
          <p:cNvPicPr/>
          <p:nvPr/>
        </p:nvPicPr>
        <p:blipFill>
          <a:blip r:embed="rId1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Road Trip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Goodfellas Poster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Pulp Fiction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3:48Z</dcterms:created>
  <dc:creator>#</dc:creator>
  <dc:description/>
  <dc:language>en-US</dc:language>
  <cp:lastModifiedBy>#</cp:lastModifiedBy>
  <dcterms:modified xsi:type="dcterms:W3CDTF">2009-11-09T14:22:40Z</dcterms:modified>
  <cp:revision>3</cp:revision>
  <dc:subject/>
  <dc:title>Photography</dc:title>
</cp:coreProperties>
</file>