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797-6134-4C19-85F2-063DD91C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5FF-A593-485B-AACE-86A49C2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A9A-5871-4D24-89BE-105F903A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E6D-7945-42EF-9D6C-F0668E80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D8A-B5CC-4AD4-B22F-C3966AB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46F-C847-4448-8C1F-CD14C860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64C-82BE-4322-94DA-9056AC63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D5D-22B7-47CA-9A20-5421BA0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A88-8E02-4952-A94C-21EEB8C0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E75-7623-41AC-9B81-7E14924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CE6-1682-4F57-BD40-1BB004D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57C-DFFC-4327-90B7-E21A1533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7697-A043-4758-824D-981B1A890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ing – bringing focus to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– arrangement of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poster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own front cover and/or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oys Don't Cry Poster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Road Trip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Goodfellas Poster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Pulp Fiction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3:48Z</dcterms:created>
  <dc:creator>#</dc:creator>
  <dc:description/>
  <dc:language>en-US</dc:language>
  <cp:lastModifiedBy>#</cp:lastModifiedBy>
  <dcterms:modified xsi:type="dcterms:W3CDTF">2009-11-09T14:22:40Z</dcterms:modified>
  <cp:revision>3</cp:revision>
  <dc:subject/>
  <dc:title>Photography</dc:title>
</cp:coreProperties>
</file>