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511-3679-4BA0-A06D-CE513B0A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079-040C-487C-A7BB-100525DC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EEA-E55A-407E-95D0-280B5C3D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5E3-F3B6-4C80-8B0D-2B387E01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7DF-9D64-4B55-AB9E-3DA21A88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70C-5D30-4171-8321-D409A4D3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FD9-EF04-4A49-A7B2-2CFA6B03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BBC-7B38-4E24-9647-7A7DEED7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3DE-4991-4B59-ADCA-DE4F9806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A72-992F-4404-86C7-8BDEAD2E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596-E2CA-4A78-B06D-52BEAAAB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336-2936-49C6-BE74-1CFBD3D0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7C7D-E4AB-4AAA-A491-57E9A9314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ing – bringing focus to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 – arrangement of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 poster sugg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own front cover and/or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Boys Don't Cry Poster"/>
          <p:cNvPicPr/>
          <p:nvPr/>
        </p:nvPicPr>
        <p:blipFill>
          <a:blip r:embed="rId1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Road Trip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Goodfellas Poster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Pulp Fiction Poste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3:48Z</dcterms:created>
  <dc:creator>#</dc:creator>
  <dc:description/>
  <dc:language>en-US</dc:language>
  <cp:lastModifiedBy>#</cp:lastModifiedBy>
  <dcterms:modified xsi:type="dcterms:W3CDTF">2009-11-09T14:22:40Z</dcterms:modified>
  <cp:revision>3</cp:revision>
  <dc:subject/>
  <dc:title>Photography</dc:title>
</cp:coreProperties>
</file>