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420-B630-4548-8F39-EC281788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851-6810-44B1-B629-AD8FFB78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9B6-E7FB-4B08-8530-124EE92C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33F-A708-4046-AD52-1FC91D10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D49-6B2D-4966-88CC-E698A940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A09-49D9-40FC-8F32-C08AA3FE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069-72BB-4893-873D-0D486A3E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AC2-2CF6-413D-9313-775718C1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D89-468C-4A8A-8565-1DDE7600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EBF-92C7-4FC0-A1C5-88DB0790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0C8-33B3-43A6-8525-C682B782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4B3-638B-407B-8E76-AC51D6E1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1534-7405-4C03-941F-A7C1C245A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7600" y="2060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267000" cy="2504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28644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085920" cy="248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327672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2876760" cy="21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2657520" cy="2152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2905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1:42:59Z</dcterms:created>
  <dc:creator>Doug</dc:creator>
  <dc:description/>
  <dc:language>en-US</dc:language>
  <cp:lastModifiedBy>Doug</cp:lastModifiedBy>
  <dcterms:modified xsi:type="dcterms:W3CDTF">2010-04-23T23:05:59Z</dcterms:modified>
  <cp:revision>2</cp:revision>
  <dc:subject/>
  <dc:title>Original pictures</dc:title>
</cp:coreProperties>
</file>