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819-5C05-4C28-8772-59839DB5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DAE-B29B-4025-9251-A78CD270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65B-0435-4E2A-B3DB-1D8076E1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A35-C6BE-4353-8928-5E50EDEF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C77-D751-4F12-9106-F58CFAC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47A-7C55-4FBA-849E-C5C2731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EB4-429E-4E2D-8226-18A0606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17B-48D3-4632-AF89-314A003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39C-B599-4FA0-B0A7-D6F0880A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CCB-3EDE-4D08-893E-519FB84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647-F023-4062-BA8B-8C3BA28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EC5-EB1E-4354-AD89-A5D9B44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F785-D339-4160-B0DE-562AACF1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al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7600" y="20606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267000" cy="250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2864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085920" cy="248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27672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2876760" cy="21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57520" cy="215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2905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1:42:59Z</dcterms:created>
  <dc:creator>Doug</dc:creator>
  <dc:description/>
  <dc:language>en-US</dc:language>
  <cp:lastModifiedBy>Doug</cp:lastModifiedBy>
  <dcterms:modified xsi:type="dcterms:W3CDTF">2010-04-23T23:05:59Z</dcterms:modified>
  <cp:revision>2</cp:revision>
  <dc:subject/>
  <dc:title>Original pictures</dc:title>
</cp:coreProperties>
</file>