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7E7-B58F-45EC-A47A-A9B3B7DB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1B6-8F5B-486A-8261-75B229DD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D70-996E-4B59-9620-620AFE05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E69-3FE9-4E8E-B4C0-CBDADCF5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F4C-2AC2-45D1-8D76-B3AFE0D1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368-904C-4FAD-A2A4-E02C36BF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6AC-C958-411C-A5E5-FD126FA2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5CC-630A-4FC6-BF47-28365460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E8D-2147-46A0-A758-EAE037E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86E-1A97-467B-810B-E152C305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0C6-C824-430D-A42F-5C0D1E9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090-4D7C-42C2-9E61-FDAA2B20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A789-DAD6-431C-AA8F-ED71AA11F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7600" y="2060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267000" cy="250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28644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085920" cy="248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27672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876760" cy="21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2657520" cy="2152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2905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1:42:59Z</dcterms:created>
  <dc:creator>Doug</dc:creator>
  <dc:description/>
  <dc:language>en-US</dc:language>
  <cp:lastModifiedBy>Doug</cp:lastModifiedBy>
  <dcterms:modified xsi:type="dcterms:W3CDTF">2010-04-23T23:05:59Z</dcterms:modified>
  <cp:revision>2</cp:revision>
  <dc:subject/>
  <dc:title>Original pictures</dc:title>
</cp:coreProperties>
</file>