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056B-6234-439D-8F3C-9F59556BD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4C4F-98C2-4B5A-90CB-78B544F3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19CB-4868-499C-AF60-51597855F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F8ED-B680-4C1D-8F9C-01B80C329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1071-2721-4B5D-BE7C-4C1465A8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B81E-C339-4087-A0F4-705FBE23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6A81-9366-411C-A799-0E5039DE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9288-E45E-45DC-898E-2D5A7F99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E207-A2AF-4ADA-BCDC-27A9D9F1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38C4-0667-4ACA-8305-6C08982A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6E98-736E-44E3-AEF5-EDF32096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584F-3D0F-443B-85B0-E5BEAEF6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0E29-D3E5-4D7A-AED6-AA68797D6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ginal 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27600" y="206064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267000" cy="2504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03640" y="476280"/>
            <a:ext cx="3286440" cy="244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84360" y="3500280"/>
            <a:ext cx="3085920" cy="2486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003640" y="3500280"/>
            <a:ext cx="3276720" cy="24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2876760" cy="2152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35640" y="476280"/>
            <a:ext cx="2657520" cy="2152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132000" y="2997360"/>
            <a:ext cx="29052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21:42:59Z</dcterms:created>
  <dc:creator>Doug</dc:creator>
  <dc:description/>
  <dc:language>en-US</dc:language>
  <cp:lastModifiedBy>Doug</cp:lastModifiedBy>
  <dcterms:modified xsi:type="dcterms:W3CDTF">2010-04-23T23:05:59Z</dcterms:modified>
  <cp:revision>2</cp:revision>
  <dc:subject/>
  <dc:title>Original pictures</dc:title>
</cp:coreProperties>
</file>