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021-46A3-41D4-9792-BBB861C8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A74-D87C-4DCE-A76C-2BF0ECFB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D4B-C118-4B58-B292-D581413B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0B87-6B58-4BBB-8E28-3A9ACF8C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466-3534-4952-B7AE-14544B22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8B0-99DE-4211-A32A-CAF2EA7C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207-6024-420C-AC52-394F3F2C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FAE-BF4F-4A7F-ABD1-B788A57C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C3F-7872-4D87-BE37-0E054803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01B-03A3-489E-A45F-5B4FA190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6BC-9CF1-45B1-8281-90D6844E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0EA-FF16-4642-B195-BAB273DC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AA83-0235-4FB8-8035-029AF0B5E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al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7600" y="20606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267000" cy="2504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286440" cy="244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3085920" cy="248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003640" y="3500280"/>
            <a:ext cx="3276720" cy="24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2876760" cy="21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35640" y="476280"/>
            <a:ext cx="2657520" cy="2152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32000" y="2997360"/>
            <a:ext cx="2905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21:42:59Z</dcterms:created>
  <dc:creator>Doug</dc:creator>
  <dc:description/>
  <dc:language>en-US</dc:language>
  <cp:lastModifiedBy>Doug</cp:lastModifiedBy>
  <dcterms:modified xsi:type="dcterms:W3CDTF">2010-04-23T23:05:59Z</dcterms:modified>
  <cp:revision>2</cp:revision>
  <dc:subject/>
  <dc:title>Original pictures</dc:title>
</cp:coreProperties>
</file>