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D7B-7D9D-454A-8F02-C49E9DA2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7CD-5D12-41F0-BF6C-9CA6F8C0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DA4-7160-45BF-8406-73C373D3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E47-A0C9-4419-A5A5-A3EA222E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77B-87A4-41F7-A092-68669E13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C8F-DC66-4F87-9D5B-D55D86A4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977-8CA5-43E7-8297-1643B015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68D-44EA-491E-A92F-EF61ACEE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832-4DE4-4B2B-8E4D-9E9B8545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9BC-576B-4500-BB81-989BFF5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B80-5899-4FFE-A1F7-203999E9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2D0-0270-4AC8-ADEB-B728E596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894D-BCD8-44AA-9115-866A846C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7600" y="2060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267000" cy="2504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28644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085920" cy="248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327672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2876760" cy="21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2657520" cy="2152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2905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21:42:59Z</dcterms:created>
  <dc:creator>Doug</dc:creator>
  <dc:description/>
  <dc:language>en-US</dc:language>
  <cp:lastModifiedBy>Doug</cp:lastModifiedBy>
  <dcterms:modified xsi:type="dcterms:W3CDTF">2010-04-23T23:05:59Z</dcterms:modified>
  <cp:revision>2</cp:revision>
  <dc:subject/>
  <dc:title>Original pictures</dc:title>
</cp:coreProperties>
</file>