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EFD-A960-462E-8299-F1BA2EC8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0E4-2846-4A07-890A-962783D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AB-A2E6-45F7-86C0-E5ADF961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547-B21B-47CD-87EA-78D402A5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B6E-8394-4509-B2AD-9F8E135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339-FAE0-49CB-AFEA-A0C7684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C21-7A15-4444-B4AA-5F847168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B95-831D-41AD-A6A8-342C4FE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2CC-0C4C-4B77-AB34-E2AC3E0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D55-55BA-4FFA-B9D5-8DB9D04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C3B-A5EC-4EE9-BE06-9E957AA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1EC-C411-44AF-835B-917359A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C88-9851-425B-8402-7C7CA3E0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Photoshop_CS4.png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en.wikipedia.org/wiki/File:Paint_Windows_7_icon.png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en.wikipedia.org/wiki/File:Microsoft_Powerpoint_Icon.svg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http://en.wikipedia.org/wiki/File:Microsoft_Publisher_Icon.svg" TargetMode="Externa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alibri"/>
              </a:rPr>
              <a:t>How did you use media technologies/software's  in the construction and research, planning and evaluation stages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the current market leader for commercial bitmap and image manipulation software, and a product of Adobe Systems. It has been described as "an industry standard for graphics professionals"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used Photoshop to influence my images in way that would assimilates a proficient look. As you can see with the help of Photoshop I was able to add different effects to better to my imag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378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ck &amp; wh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4149000"/>
            <a:ext cx="201600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ntr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2448000" cy="27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ight ligh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4121280"/>
            <a:ext cx="2195640" cy="273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789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immed back ligh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shop CS4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765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Media technologies continu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Calibri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atures included  a zoom slider, and a crop function. Paint  saved my images and f  as a .jpg default. This dramatically impact the overall quality of an image, especially after multiple saves of the file due to its method of com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addition to this there is also a selection of 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Point presentations consist of a number of individual pages or slides. Slides  may contain text, graphics, movies, and other objects, which may be arranged freely on the slide. I used this programme to create my evaluation and to also display my original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ublis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4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ludes the enhancement documents, picture enhancement, editing Web publications, typography features and  include print and print Preview experienc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aint Windows 7 icon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084720" y="2781360"/>
            <a:ext cx="2087640" cy="37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084720" y="2565360"/>
            <a:ext cx="2592720" cy="277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26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Microsoft PowerPoint Ic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2924280"/>
            <a:ext cx="609480" cy="59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Microsoft Publisher Icon.sv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4797360"/>
            <a:ext cx="6094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347640" y="1196640"/>
            <a:ext cx="54212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ally I feel that my AS magazine front cover, covers a variety of representational aspects . Reasons being that my artist is of an afro Caribbean decent.  This was done intentionally because stereotypically, the Hip-Hop industry mainly consists of black males. And through the ages this trend has carried on. moreover the pioneers of old school Hip-hop such as jazzy Jeff and Run DMC are also  black. So I thought it would make sence conform and   release a generic artist, as the audience would be used to this. Although rappers during the 80’s usually started their careers in their 20’s I decided to subvert this by choosing for him to be aged 17. reasons being that I wanted to show other young artist that they also have a shot at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6500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6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How does your work approach issues of re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11485440" y="21215520"/>
            <a:ext cx="4609800" cy="6146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2448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alibri"/>
              </a:rPr>
              <a:t>Representation 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ually a whit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mi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no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ypically the ideal scene most people picture when thinking of a horror movie is a chase scene. Within that scene, there is some girl being chased through woods, or a house, or some dark alley by a male somehow costumed or covered so his identity cannot be dis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osition as the female as the antagonist also seems to be a rarity in the horror gen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255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81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1557360"/>
            <a:ext cx="3672000" cy="26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 RESEARCH METHOD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3500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149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0800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10920" y="3716280"/>
            <a:ext cx="57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35640" y="1267920"/>
            <a:ext cx="865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981000"/>
            <a:ext cx="165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tal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mp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ht and        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se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268280"/>
            <a:ext cx="331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feedba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149720"/>
            <a:ext cx="12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 own word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781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4508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7128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9960" y="49500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found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enr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068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119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43700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written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522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5661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umbers/st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does your media product challenges form  and conventions of real media tex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have you learned from your audience feedbac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Theodora</cp:lastModifiedBy>
  <dcterms:modified xsi:type="dcterms:W3CDTF">2010-04-21T03:12:37Z</dcterms:modified>
  <cp:revision>9</cp:revision>
  <dc:subject/>
  <dc:title>Advanced Portfolio</dc:title>
</cp:coreProperties>
</file>