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0E9F-F301-4453-9DA4-22EE53E19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BD3E-0BF8-44B0-ABE9-480B531B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E360-3CC5-411C-B818-5A27546B9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651D-6B14-4397-9865-9D0CD12B8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39B3-494F-4780-BAFE-CE46D7CD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26A7-855B-4668-8268-10DA737B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0A98-133B-4840-8C26-DD9BBF47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D647-C8D9-40F8-97D5-F10258E2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0395-4BC0-405D-A872-BD9F3CD2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C0F9-EB78-4534-B8B1-75592F4D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BA48-B503-49A1-B932-4F2DC47A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0279-B5F9-4BC6-B14D-4D2A7D2E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3B21-1AFA-4175-837F-C5F7CEFB9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hyperlink" Target="http://en.wikipedia.org/wiki/File:Photoshop_CS4.png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hyperlink" Target="http://en.wikipedia.org/wiki/File:Paint_Windows_7_icon.png" TargetMode="External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hyperlink" Target="http://en.wikipedia.org/wiki/File:Microsoft_Powerpoint_Icon.svg" TargetMode="External"/><Relationship Id="rId10" Type="http://schemas.openxmlformats.org/officeDocument/2006/relationships/image" Target="../media/image10.png"/><Relationship Id="rId11" Type="http://schemas.openxmlformats.org/officeDocument/2006/relationships/hyperlink" Target="http://en.wikipedia.org/wiki/File:Microsoft_Publisher_Icon.svg" TargetMode="External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alibri"/>
              </a:rPr>
              <a:t>How did you use media technologies/software's  in the construction and research, planning and evaluation stages</a:t>
            </a:r>
            <a:r>
              <a:rPr b="0" lang="en-US" sz="2400" spc="-1" strike="noStrike">
                <a:solidFill>
                  <a:srgbClr val="009999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alibri"/>
              </a:rPr>
              <a:t>             </a:t>
            </a:r>
            <a:r>
              <a:rPr b="0" lang="en-US" sz="2400" spc="-1" strike="noStrike">
                <a:solidFill>
                  <a:srgbClr val="009999"/>
                </a:solidFill>
                <a:latin typeface="Calibri"/>
              </a:rPr>
              <a:t>Photo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t is the current market leader for commercial bitmap and image manipulation software, and a product of Adobe Systems. It has been described as "an industry standard for graphics professionals"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used Photoshop to influence my images in way that would assimilates a proficient look. As you can see with the help of Photoshop I was able to add different effects to better to my images such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4005360"/>
            <a:ext cx="2195640" cy="2852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24000" y="3789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Black &amp; wh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340000" y="4149000"/>
            <a:ext cx="2016000" cy="2708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5600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ontra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427640" y="4149720"/>
            <a:ext cx="2448000" cy="2708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788000" y="3716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Bright ligh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948360" y="4121280"/>
            <a:ext cx="2195640" cy="2736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020000" y="3645000"/>
            <a:ext cx="172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04000" y="3789360"/>
            <a:ext cx="23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Dimmed back ligh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Photoshop CS4.p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765000"/>
            <a:ext cx="5763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Calibri"/>
              </a:rPr>
              <a:t>Media technologies continue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99"/>
                </a:solidFill>
                <a:latin typeface="Calibri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eatures included  a zoom slider, and a crop function. Paint  saved my images and f  as a .jpg default. This dramatically impact the overall quality of an image, especially after multiple saves of the file due to its method of compress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 addition to this there is also a selection of fo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owerPo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owerPoint presentations consist of a number of individual pages or slides. Slides  may contain text, graphics, movies, and other objects, which may be arranged freely on the slide. I used this programme to create my evaluation and to also display my original im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ublis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799"/>
              </a:spcBef>
              <a:buSzPct val="102812"/>
              <a:buBlip>
                <a:blip r:embed="rId4"/>
              </a:buBlip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cludes the enhancement documents, picture enhancement, editing Web publications, typography features and  include print and print Preview experience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Paint Windows 7 icon.p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6084720" y="2781360"/>
            <a:ext cx="2087640" cy="374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6084720" y="2565360"/>
            <a:ext cx="2592720" cy="277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580000" y="263700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Microsoft PowerPoint Icon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95280" y="2924280"/>
            <a:ext cx="609480" cy="590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Microsoft Publisher Icon.sv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95280" y="4797360"/>
            <a:ext cx="60948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347640" y="1196640"/>
            <a:ext cx="54212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onally I feel that my AS magazine front cover, covers a variety of representational aspects . Reasons being that my artist is of an afro Caribbean decent.  This was done intentionally because stereotypically, the Hip-Hop industry mainly consists of black males. And through the ages this trend has carried on. moreover the pioneers of old school Hip-hop such as jazzy Jeff and Run DMC are also  black. So I thought it would make sence conform and   release a generic artist, as the audience would be used to this. Although rappers during the 80’s usually started their careers in their 20’s I decided to subvert this by choosing for him to be aged 17. reasons being that I wanted to show other young artist that they also have a shot at th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765000"/>
            <a:ext cx="90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266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9999"/>
                </a:solidFill>
                <a:latin typeface="Calibri"/>
              </a:rPr>
              <a:t>How does your work approach issues of represent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-11485440" y="21215520"/>
            <a:ext cx="4609800" cy="6146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900000" y="1268280"/>
            <a:ext cx="2448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9999"/>
                </a:solidFill>
                <a:latin typeface="Calibri"/>
              </a:rPr>
              <a:t>Representation continued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3280" y="1599840"/>
            <a:ext cx="4043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Usually a white fem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ubmis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no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ypically the ideal scene most people picture when thinking of a horror movie is a chase scene. Within that scene, there is some girl being chased through woods, or a house, or some dark alley by a male somehow costumed or covered so his identity cannot be discover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position as the female as the antagonist also seems to be a rarity in the horror gen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425592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SEARCH CONTINUED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981000"/>
            <a:ext cx="748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84360" y="1557360"/>
            <a:ext cx="3672000" cy="26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EDIA RESEARCH METHOD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40360" y="3500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88000" y="4149720"/>
            <a:ext cx="863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08000" y="3429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410920" y="3716280"/>
            <a:ext cx="574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5435640" y="1267920"/>
            <a:ext cx="86508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981000"/>
            <a:ext cx="1656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3600" indent="-93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tal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mp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ight and        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27640" y="83664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se stud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5640" y="1268280"/>
            <a:ext cx="33116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udience feedback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urvey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Questionnai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cus group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92360" y="4149720"/>
            <a:ext cx="122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i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 own words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16000" y="2781360"/>
            <a:ext cx="79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450864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2771280" y="1557360"/>
            <a:ext cx="86364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19960" y="4950000"/>
            <a:ext cx="17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econd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found resear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11640" y="692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Genre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5640" y="306864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udience researc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659640" y="335772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stitutional researc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356000" y="119664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80000" y="4437000"/>
            <a:ext cx="208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Quali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written wor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32720" y="5229360"/>
            <a:ext cx="287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56360" y="5661000"/>
            <a:ext cx="208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Qua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numbers/sta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lnSpc>
                <a:spcPct val="100000"/>
              </a:lnSpc>
              <a:spcBef>
                <a:spcPts val="1199"/>
              </a:spcBef>
              <a:buSzPct val="1028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How does your media product challenges form  and conventions of real media tex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1199"/>
              </a:spcBef>
              <a:buSzPct val="1028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What have you learned from your audience feedback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09:40:56Z</dcterms:created>
  <dc:creator>#</dc:creator>
  <dc:description/>
  <dc:language>en-US</dc:language>
  <cp:lastModifiedBy>Theodora</cp:lastModifiedBy>
  <dcterms:modified xsi:type="dcterms:W3CDTF">2010-04-21T03:12:37Z</dcterms:modified>
  <cp:revision>9</cp:revision>
  <dc:subject/>
  <dc:title>Advanced Portfolio</dc:title>
</cp:coreProperties>
</file>