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7BF9-9493-4566-8C47-9EBB6AE4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1082-8AAF-44E2-9616-0604A760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C207-CCCE-40DF-BEE6-BB141369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9790-9AEA-4387-909D-48227F9D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F8E-B890-4455-A5BF-8FEFA08B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C885-AF07-4411-AECD-35E752FD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8D86-488E-4567-9DA4-3F39CCDD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907F-CCAB-418E-BDEF-A4E77F9B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A2E-C36F-4BBF-9B9A-DD75DBC4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B443-B733-4968-AB5B-70030A27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BF28-216C-4EC7-84F5-C6A3C976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2067-BC51-4FFA-8AF4-F794AADD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F04F-E9E8-461A-B9A2-045A92E12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en.wikipedia.org/wiki/File:Photoshop_CS4.png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hyperlink" Target="http://en.wikipedia.org/wiki/File:Paint_Windows_7_icon.png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hyperlink" Target="http://en.wikipedia.org/wiki/File:Microsoft_Powerpoint_Icon.svg" TargetMode="External"/><Relationship Id="rId10" Type="http://schemas.openxmlformats.org/officeDocument/2006/relationships/image" Target="../media/image10.png"/><Relationship Id="rId11" Type="http://schemas.openxmlformats.org/officeDocument/2006/relationships/hyperlink" Target="http://en.wikipedia.org/wiki/File:Microsoft_Publisher_Icon.svg" TargetMode="External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alibri"/>
              </a:rPr>
              <a:t>How did you use media technologies/software's  in the construction and research, planning and evaluation stages</a:t>
            </a:r>
            <a:r>
              <a:rPr b="0" lang="en-US" sz="2400" spc="-1" strike="noStrike">
                <a:solidFill>
                  <a:srgbClr val="009999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alibri"/>
              </a:rPr>
              <a:t>             </a:t>
            </a:r>
            <a:r>
              <a:rPr b="0" lang="en-US" sz="2400" spc="-1" strike="noStrike">
                <a:solidFill>
                  <a:srgbClr val="009999"/>
                </a:solidFill>
                <a:latin typeface="Calibri"/>
              </a:rPr>
              <a:t>Photo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 is the current market leader for commercial bitmap and image manipulation software, and a product of Adobe Systems. It has been described as "an industry standard for graphics professionals"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used Photoshop to influence my images in way that would assimilates a proficient look. As you can see with the help of Photoshop I was able to add different effects to better to my image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2195640" cy="2852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4000" y="3789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lack &amp; wh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340000" y="4149000"/>
            <a:ext cx="2016000" cy="2708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5600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ntr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427640" y="4149720"/>
            <a:ext cx="2448000" cy="2708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88000" y="3716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right ligh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948360" y="4121280"/>
            <a:ext cx="2195640" cy="2736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020000" y="364500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04000" y="378936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Dimmed back ligh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Photoshop CS4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76500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Calibri"/>
              </a:rPr>
              <a:t>Media technologies continu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Calibri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eatures included  a zoom slider, and a crop function. Paint  saved my images and f  as a .jpg default. This dramatically impact the overall quality of an image, especially after multiple saves of the file due to its method of compres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 addition to this there is also a selection of fo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ower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werPoint presentations consist of a number of individual pages or slides. Slides  may contain text, graphics, movies, and other objects, which may be arranged freely on the slide. I used this programme to create my evaluation and to also display my original im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ublis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buSzPct val="102812"/>
              <a:buBlip>
                <a:blip r:embed="rId4"/>
              </a:buBlip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cludes the enhancement documents, picture enhancement, editing Web publications, typography features and  include print and print Preview experienc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Paint Windows 7 icon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6084720" y="2781360"/>
            <a:ext cx="2087640" cy="374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6084720" y="2565360"/>
            <a:ext cx="2592720" cy="277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80000" y="263700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Microsoft PowerPoint Icon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5280" y="2924280"/>
            <a:ext cx="609480" cy="590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Microsoft Publisher Icon.sv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95280" y="4797360"/>
            <a:ext cx="60948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347640" y="1196640"/>
            <a:ext cx="54212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onally I feel that my AS magazine front cover, covers a variety of representational aspects . Reasons being that my artist is of an afro Caribbean decent.  This was done intentionally because stereotypically, the Hip-Hop industry mainly consists of black males. And through the ages this trend has carried on. moreover the pioneers of old school Hip-hop such as jazzy Jeff and Run DMC are also  black. So I thought it would make sence conform and   release a generic artist, as the audience would be used to this. Although rappers during the 80’s usually started their careers in their 20’s I decided to subvert this by choosing for him to be aged 17. reasons being that I wanted to show other young artist that they also have a shot at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76500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26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9999"/>
                </a:solidFill>
                <a:latin typeface="Calibri"/>
              </a:rPr>
              <a:t>How does your work approach issues of represen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11485440" y="21215520"/>
            <a:ext cx="4609800" cy="6146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900000" y="1268280"/>
            <a:ext cx="2448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99"/>
                </a:solidFill>
                <a:latin typeface="Calibri"/>
              </a:rPr>
              <a:t>Representation continue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3280" y="1599840"/>
            <a:ext cx="404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ually a white fe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bmi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no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ypically the ideal scene most people picture when thinking of a horror movie is a chase scene. Within that scene, there is some girl being chased through woods, or a house, or some dark alley by a male somehow costumed or covered so his identity cannot be discove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position as the female as the antagonist also seems to be a rarity in the horror gen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2559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EARCH CONTINUE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981000"/>
            <a:ext cx="748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84360" y="1557360"/>
            <a:ext cx="3672000" cy="26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EDIA RESEARCH METHOD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0360" y="3500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88000" y="414972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08000" y="3429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410920" y="3716280"/>
            <a:ext cx="574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435640" y="1267920"/>
            <a:ext cx="8650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981000"/>
            <a:ext cx="1656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tal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mp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ight and        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836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se stud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1268280"/>
            <a:ext cx="3311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dience feedbac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urve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Questionnai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cus group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4149720"/>
            <a:ext cx="122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i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 own word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278136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450864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771280" y="1557360"/>
            <a:ext cx="863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19960" y="4950000"/>
            <a:ext cx="17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cond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found resear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11640" y="692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enre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306864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dience resear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33577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stitutional resear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356000" y="1196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80000" y="4437000"/>
            <a:ext cx="208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Quali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written wo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32720" y="522936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56360" y="5661000"/>
            <a:ext cx="208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Qua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numbers/sta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ow does your media product challenges form  and conventions of real media tex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at have you learned from your audience feedback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9:40:56Z</dcterms:created>
  <dc:creator>#</dc:creator>
  <dc:description/>
  <dc:language>en-US</dc:language>
  <cp:lastModifiedBy>Theodora</cp:lastModifiedBy>
  <dcterms:modified xsi:type="dcterms:W3CDTF">2010-04-21T03:12:37Z</dcterms:modified>
  <cp:revision>9</cp:revision>
  <dc:subject/>
  <dc:title>Advanced Portfolio</dc:title>
</cp:coreProperties>
</file>