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70E1D-2B07-4FE7-9C75-45DAE8ECF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A2954-8ABF-4550-AB40-779A90FD7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D75FF-62C5-40E8-B16B-24AEB4B0F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33D40-27A1-4828-BED6-3AEF65D52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2A38C-C89B-4049-BEEB-E1E2D4217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E0168-535F-4A7A-AC71-1AC3E2047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3538D-382D-45A4-8E9E-AFAB485A7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D56D-88B8-413D-95EE-CC501AE09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B284D-465C-45B9-ADB0-50D6A3850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F8D96-4C8B-45D3-A638-6129B22F5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4303E-2BE4-47F1-B963-E05AC42D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56ACF-9778-40C2-AA6E-DCC42F28A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D7E7-9EE7-4CE4-98EF-AE7BF8010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C10E-3258-4D4E-BC3C-1040E6C30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B0D83-EFA5-4D56-AE5A-7A168B148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D738C-AC08-46C9-91F5-E516B29C7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F3AA2-8473-4C79-A08B-A7D4092F4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C8054-7755-4B92-A977-48AA1DE6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4256-B4A2-40BD-960F-988E8E13B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C4A7A-F122-4F9B-9639-6FA8F14D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AE0B-C71D-47AB-8CAC-B00AB928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30B5-865A-4ED7-84E9-EA373696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9C06-1B91-464E-BA3D-D94CF68EA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7AC5-0713-4402-A85F-480208DB3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9A93-3CC9-4179-A4E8-68339E5E7C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343B-F2AD-4584-965A-6C8E90FA5C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Y OF GANGSTER CRIME </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nelle Asmah</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ime and Gangster Films</a:t>
            </a:r>
            <a:r>
              <a:rPr b="1" lang="en-US" sz="2800" spc="-1" strike="noStrike">
                <a:solidFill>
                  <a:srgbClr val="003366"/>
                </a:solidFill>
                <a:latin typeface="Arial"/>
              </a:rPr>
              <a:t> </a:t>
            </a:r>
            <a:r>
              <a:rPr b="0" lang="en-US" sz="2800" spc="-1" strike="noStrike">
                <a:solidFill>
                  <a:srgbClr val="003366"/>
                </a:solidFill>
                <a:latin typeface="Arial"/>
              </a:rPr>
              <a:t>are developed around the sinister actions of criminals or gangsters, particularly bank robbers, underworld figures, or ruthless hoodlums who operate outside the law, stealing and violently murdering their way through life. </a:t>
            </a:r>
            <a:endParaRPr b="0" lang="en-US" sz="2800" spc="-1" strike="noStrike">
              <a:solidFill>
                <a:srgbClr val="003366"/>
              </a:solidFill>
              <a:latin typeface="Arial"/>
            </a:endParaRPr>
          </a:p>
        </p:txBody>
      </p:sp>
      <p:pic>
        <p:nvPicPr>
          <p:cNvPr id="98" name="" descr=""/>
          <p:cNvPicPr/>
          <p:nvPr/>
        </p:nvPicPr>
        <p:blipFill>
          <a:blip r:embed="rId1"/>
          <a:stretch/>
        </p:blipFill>
        <p:spPr>
          <a:xfrm>
            <a:off x="7667640" y="0"/>
            <a:ext cx="147636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Exotic locales for crimes often add an element of adventure and wealth.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m gangsters are usually materialistic, street-smart, immoral, meglo-maniac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the valued object. They rise to power with a tough cruel facade while showing an ambitious desire for success and recognition, but underneath they can express sensitivity and gentlenes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27640" y="1053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THIN CRIME AND GANGSTER FILMS THERE ARE A NUMBER OF SUB GENRES …</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son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d Crim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e Caper Film</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rime Thrille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Crime Horro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is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OF THE GREATEST EARLY CRIME AND GANGSTER FILMS</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1042920" y="2421000"/>
            <a:ext cx="1905120" cy="2819160"/>
          </a:xfrm>
          <a:prstGeom prst="rect">
            <a:avLst/>
          </a:prstGeom>
          <a:ln w="0">
            <a:noFill/>
          </a:ln>
        </p:spPr>
      </p:pic>
      <p:sp>
        <p:nvSpPr>
          <p:cNvPr id="106" name=""/>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usketeers of Pig Alley (1912)</a:t>
            </a:r>
            <a:endParaRPr b="0" lang="en-US" sz="1800" spc="-1" strike="noStrike">
              <a:solidFill>
                <a:srgbClr val="003366"/>
              </a:solidFill>
              <a:latin typeface="Arial"/>
            </a:endParaRPr>
          </a:p>
        </p:txBody>
      </p:sp>
      <p:pic>
        <p:nvPicPr>
          <p:cNvPr id="107" name="" descr=""/>
          <p:cNvPicPr/>
          <p:nvPr/>
        </p:nvPicPr>
        <p:blipFill>
          <a:blip r:embed="rId2"/>
          <a:stretch/>
        </p:blipFill>
        <p:spPr>
          <a:xfrm>
            <a:off x="3564000" y="2421000"/>
            <a:ext cx="2087640" cy="2808360"/>
          </a:xfrm>
          <a:prstGeom prst="rect">
            <a:avLst/>
          </a:prstGeom>
          <a:ln w="0">
            <a:noFill/>
          </a:ln>
        </p:spPr>
      </p:pic>
      <p:sp>
        <p:nvSpPr>
          <p:cNvPr id="108" name=""/>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 of the Past (1947)</a:t>
            </a:r>
            <a:endParaRPr b="0" lang="en-US" sz="1800" spc="-1" strike="noStrike">
              <a:solidFill>
                <a:srgbClr val="003366"/>
              </a:solidFill>
              <a:latin typeface="Arial"/>
            </a:endParaRPr>
          </a:p>
        </p:txBody>
      </p:sp>
      <p:pic>
        <p:nvPicPr>
          <p:cNvPr id="109" name="" descr=""/>
          <p:cNvPicPr/>
          <p:nvPr/>
        </p:nvPicPr>
        <p:blipFill>
          <a:blip r:embed="rId3"/>
          <a:stretch/>
        </p:blipFill>
        <p:spPr>
          <a:xfrm>
            <a:off x="5796000" y="2492280"/>
            <a:ext cx="1911240" cy="2665440"/>
          </a:xfrm>
          <a:prstGeom prst="rect">
            <a:avLst/>
          </a:prstGeom>
          <a:ln w="0">
            <a:noFill/>
          </a:ln>
        </p:spPr>
      </p:pic>
      <p:sp>
        <p:nvSpPr>
          <p:cNvPr id="110" name=""/>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 the Waterfront (19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Theo</cp:lastModifiedBy>
  <dcterms:modified xsi:type="dcterms:W3CDTF">2010-02-03T12:06:35Z</dcterms:modified>
  <cp:revision>2</cp:revision>
  <dc:subject/>
  <dc:title>HISTORY OF GANGSTER CRIME </dc:title>
</cp:coreProperties>
</file>