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18A98-B55C-41E3-B7E7-CC61066E3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8272C-A6F3-4A3F-8454-B4F0FBFDB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E8E5A-CEAF-48CD-9920-C96458E5A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FF0C2-40EB-4318-A1C9-EB5563D6F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EDB9A3-68F1-4F1F-9471-1A3B37FA7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C8B6B-8EC4-4601-96D8-B0CDB4F3C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6ED1D-9237-45D5-AB41-CB06ED6B3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855AD-500A-486B-A0A9-83DB46C7C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EA03B-C40D-480A-BDC9-7634899DE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F44E1-FB0A-4C50-B075-446F77E4D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5CC36-7A12-4884-B8FD-309174FFE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C9784-DE33-458E-9010-8EA79BD87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D9845-4AE4-4CCE-AEEB-39C01A2CA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3B917-8FC8-44BC-9675-A52C8B68D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D7740-0EAE-480B-9663-D96C3A7E2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4D5EB1-F8A2-4C80-8264-AAD82A623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8476B5-DD36-4BF6-B5FB-B10C27DE3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1D2D4-997C-4C87-A314-366E85DB0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E648E-23A8-490E-A07D-697B96E0A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34A96-BE17-4AB4-B1B4-5979F93C7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8F909-4BF4-4C9A-89E6-EAECB164C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375C-F96D-4B33-B91C-980FFB4EC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93263-5686-4B96-92DF-4581785D2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3C120-D2F2-4F41-BBA4-89C8D69A7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9F20-C242-49D9-9518-67F55559675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52A9-EC64-4648-B03F-132B692E8CD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TORY OF GANGSTER CRIME </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nelle Asmah</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ime and Gangster Films</a:t>
            </a:r>
            <a:r>
              <a:rPr b="1" lang="en-US" sz="2800" spc="-1" strike="noStrike">
                <a:solidFill>
                  <a:srgbClr val="003366"/>
                </a:solidFill>
                <a:latin typeface="Arial"/>
              </a:rPr>
              <a:t> </a:t>
            </a:r>
            <a:r>
              <a:rPr b="0" lang="en-US" sz="2800" spc="-1" strike="noStrike">
                <a:solidFill>
                  <a:srgbClr val="003366"/>
                </a:solidFill>
                <a:latin typeface="Arial"/>
              </a:rPr>
              <a:t>are developed around the sinister actions of criminals or gangsters, particularly bank robbers, underworld figures, or ruthless hoodlums who operate outside the law, stealing and violently murdering their way through life. </a:t>
            </a:r>
            <a:endParaRPr b="0" lang="en-US" sz="2800" spc="-1" strike="noStrike">
              <a:solidFill>
                <a:srgbClr val="003366"/>
              </a:solidFill>
              <a:latin typeface="Arial"/>
            </a:endParaRPr>
          </a:p>
        </p:txBody>
      </p:sp>
      <p:pic>
        <p:nvPicPr>
          <p:cNvPr id="98" name="" descr=""/>
          <p:cNvPicPr/>
          <p:nvPr/>
        </p:nvPicPr>
        <p:blipFill>
          <a:blip r:embed="rId1"/>
          <a:stretch/>
        </p:blipFill>
        <p:spPr>
          <a:xfrm>
            <a:off x="7667640" y="0"/>
            <a:ext cx="147636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rime stories in this genre often highlight the life of a crime figure or a crime's victim or victims. Or they glorify the rise and fall of a particular criminal, gang, bank robber, murderer or lawbreakers in personal power struggles or conflict with law and order figures, an underling or competitive colleague, or a rival gang. Headline-grabbing situations, real-life gangsters, or crime reports have often been used in crime films. Gangster/crime films are usually set in large, crowded cities, to provide a view of the secret world of the criminal: dark nightclubs or streets with lurid neon signs, fast cars, piles of cash, sleazy bars, contraband, seedy living quarters or rooming houses. Exotic locales for crimes often add an element of adventure and wealth.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lm gangsters are usually materialistic, street-smart, immoral, meglo-maniacal, and self-destructive. Rivalry with other criminals in gangster warfare is often a significant plot characteristic. Crime plots also include questions such as how the criminal will be apprehended by police, private eyes, special agents or lawful authorities, or mysteries such as who stole the valued object. They rise to power with a tough cruel facade while showing an ambitious desire for success and recognition, but underneath they can express sensitivity and gentlenes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27640" y="10530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ITHIN CRIME AND GANGSTER FILMS THERE ARE A NUMBER OF SUB GENRES …</a:t>
            </a:r>
            <a:endParaRPr b="1" lang="en-US" sz="3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rison Film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rganized Crim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The Caper Film</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rime Thriller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Crime Horror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b Film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is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OME OF THE GREATEST EARLY CRIME AND GANGSTER FILMS</a:t>
            </a: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5" name="" descr=""/>
          <p:cNvPicPr/>
          <p:nvPr/>
        </p:nvPicPr>
        <p:blipFill>
          <a:blip r:embed="rId1"/>
          <a:stretch/>
        </p:blipFill>
        <p:spPr>
          <a:xfrm>
            <a:off x="1042920" y="2421000"/>
            <a:ext cx="1905120" cy="2819160"/>
          </a:xfrm>
          <a:prstGeom prst="rect">
            <a:avLst/>
          </a:prstGeom>
          <a:ln w="0">
            <a:noFill/>
          </a:ln>
        </p:spPr>
      </p:pic>
      <p:sp>
        <p:nvSpPr>
          <p:cNvPr id="106" name=""/>
          <p:cNvSpPr/>
          <p:nvPr/>
        </p:nvSpPr>
        <p:spPr>
          <a:xfrm>
            <a:off x="324000" y="544500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Musketeers of Pig Alley (1912)</a:t>
            </a:r>
            <a:endParaRPr b="0" lang="en-US" sz="1800" spc="-1" strike="noStrike">
              <a:solidFill>
                <a:srgbClr val="003366"/>
              </a:solidFill>
              <a:latin typeface="Arial"/>
            </a:endParaRPr>
          </a:p>
        </p:txBody>
      </p:sp>
      <p:pic>
        <p:nvPicPr>
          <p:cNvPr id="107" name="" descr=""/>
          <p:cNvPicPr/>
          <p:nvPr/>
        </p:nvPicPr>
        <p:blipFill>
          <a:blip r:embed="rId2"/>
          <a:stretch/>
        </p:blipFill>
        <p:spPr>
          <a:xfrm>
            <a:off x="3564000" y="2421000"/>
            <a:ext cx="2087640" cy="2808360"/>
          </a:xfrm>
          <a:prstGeom prst="rect">
            <a:avLst/>
          </a:prstGeom>
          <a:ln w="0">
            <a:noFill/>
          </a:ln>
        </p:spPr>
      </p:pic>
      <p:sp>
        <p:nvSpPr>
          <p:cNvPr id="108" name=""/>
          <p:cNvSpPr/>
          <p:nvPr/>
        </p:nvSpPr>
        <p:spPr>
          <a:xfrm>
            <a:off x="3492360" y="544500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ut of the Past (1947)</a:t>
            </a:r>
            <a:endParaRPr b="0" lang="en-US" sz="1800" spc="-1" strike="noStrike">
              <a:solidFill>
                <a:srgbClr val="003366"/>
              </a:solidFill>
              <a:latin typeface="Arial"/>
            </a:endParaRPr>
          </a:p>
        </p:txBody>
      </p:sp>
      <p:pic>
        <p:nvPicPr>
          <p:cNvPr id="109" name="" descr=""/>
          <p:cNvPicPr/>
          <p:nvPr/>
        </p:nvPicPr>
        <p:blipFill>
          <a:blip r:embed="rId3"/>
          <a:stretch/>
        </p:blipFill>
        <p:spPr>
          <a:xfrm>
            <a:off x="5796000" y="2492280"/>
            <a:ext cx="1911240" cy="2665440"/>
          </a:xfrm>
          <a:prstGeom prst="rect">
            <a:avLst/>
          </a:prstGeom>
          <a:ln w="0">
            <a:noFill/>
          </a:ln>
        </p:spPr>
      </p:pic>
      <p:sp>
        <p:nvSpPr>
          <p:cNvPr id="110" name=""/>
          <p:cNvSpPr/>
          <p:nvPr/>
        </p:nvSpPr>
        <p:spPr>
          <a:xfrm>
            <a:off x="5940360" y="544500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n the Waterfront (195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1:44:27Z</dcterms:created>
  <dc:creator>Theo</dc:creator>
  <dc:description/>
  <dc:language>en-US</dc:language>
  <cp:lastModifiedBy>Theo</cp:lastModifiedBy>
  <dcterms:modified xsi:type="dcterms:W3CDTF">2010-02-03T12:06:35Z</dcterms:modified>
  <cp:revision>2</cp:revision>
  <dc:subject/>
  <dc:title>HISTORY OF GANGSTER CRIME </dc:title>
</cp:coreProperties>
</file>