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C72-7DA6-4B15-9109-9EE6F91C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4ED-956D-4455-A82C-9FAFFBD2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7FF-A553-44E5-BCDD-54B1FA39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D24-4DC9-4371-9CF6-454DACFB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7A3-54E5-4309-AC20-3FFE4516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EBE-0591-4841-8B89-AF421A7E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51A-DFF3-4C4A-A298-512DF89F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2D7-F757-4736-BFA4-9C3902B9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4D3-ECCF-48DF-81AA-79054A13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5A8-BB4B-4A26-A9AB-BADE489C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1AB-90F1-481A-A1B9-02E09F80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843-5912-4545-AA40-2105550D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06AD-0996-4C49-9BFD-B8CAC0E95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on your film carefully. It must be in the genre that your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gate section/areas to analy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your analysis on easy to read PowerPoints. Not too wor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can get access to the trailer - imdb.com is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be given an individual grade for your contribution to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then be asked to upload your presentation for your own research and planning on the wi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be a minimum of 15 minut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Seminar 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art of your research it is important that your group analyse a film campaig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2 weeks to present to the class a film trailer and a poster campaign of your group’s choice analysing the following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 and sty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length and structure of the trailer and posters. Stylistic decisions such as use of colour, animation, special effects, performance, tone and mood evoke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cinematography/photography, use of sound, mise-en-scene and editing photo manipulation software create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oes the trailer and posters adhere to the conventions of the genre or subvert th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resentation and ide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are the character’s /stars represented. Can you discuss stereotyp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s the trailer narrative linear or non-linear? Do we understand the plot of the film from the trailer and po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itutional contex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Where would you see the trailer and poster? How much have they invested in the marketing of this film? Are the stars and director mentioned? Does it have a US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6:52:41Z</dcterms:created>
  <dc:creator>Shereen</dc:creator>
  <dc:description/>
  <dc:language>en-US</dc:language>
  <cp:lastModifiedBy>doug</cp:lastModifiedBy>
  <dcterms:modified xsi:type="dcterms:W3CDTF">2009-11-08T11:50:51Z</dcterms:modified>
  <cp:revision>9</cp:revision>
  <dc:subject/>
  <dc:title>Coursework research deadlines</dc:title>
</cp:coreProperties>
</file>