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A11-3A18-4900-8A8F-48CD3BA4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2D1-8119-473E-AB04-27632F0B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6E0-DA7B-4374-B6FF-D5CFE984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A13-348E-4648-B616-3A2BCE34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D57-17D2-4C02-B424-03648C80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FD1-BC87-432E-8A10-E3D5FD8E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FB9-7284-4E30-B103-477E5186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516-84E9-4272-8616-583ED30B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6AA-4B9F-4797-BDAA-E2EC0B60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94F-3D74-4D12-8751-610DDC4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F72-898B-4815-A902-5B97BA6D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64C-67F4-4D5A-962E-D217F5D3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FE29-2347-43ED-AF0C-349EB57B6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on your film carefully. It must be in the genre that your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gate section/areas to analy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your analysis on easy to read PowerPoints. Not too wor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can get access to the trailer - imdb.com is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given an individual grade for your contribution to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then be asked to upload your presentation for your own research and planning on the wi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be a minimum of 15 minut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Seminar 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art of your research it is important that your group analyse a film campaig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2 weeks to present to the class a film trailer and a poster campaign of your group’s choice analysing the following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 and sty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length and structure of the trailer and posters. Stylistic decisions such as use of colour, animation, special effects, performance, tone and mood evoke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cinematography/photography, use of sound, mise-en-scene and editing photo manipulation software creat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oes the trailer and posters adhere to the conventions of the genre or subvert th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 and ide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are the character’s /stars represented. Can you discuss stereotyp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s the trailer narrative linear or non-linear? Do we understand the plot of the film from the trailer and po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itutional contex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Where would you see the trailer and poster? How much have they invested in the marketing of this film? Are the stars and director mentioned? Does it have a US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52:41Z</dcterms:created>
  <dc:creator>Shereen</dc:creator>
  <dc:description/>
  <dc:language>en-US</dc:language>
  <cp:lastModifiedBy>doug</cp:lastModifiedBy>
  <dcterms:modified xsi:type="dcterms:W3CDTF">2009-11-08T11:50:51Z</dcterms:modified>
  <cp:revision>9</cp:revision>
  <dc:subject/>
  <dc:title>Coursework research deadlines</dc:title>
</cp:coreProperties>
</file>