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8D4-16FB-4A35-825A-2060780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7EE-6403-492C-A023-AB84EE1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609-6888-47B9-9AC9-0AD76A9E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9F6-1605-43E2-BEC9-720DAE2E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F1F-4FDF-4C20-BBAD-649E8CA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633-A906-40F6-8271-FA7FDEA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F26-EF3A-486F-B9B8-C9BB2B4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62C-8DAE-403F-972E-BAFB42B3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00-9FD9-4BEE-868E-7F8C944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DE9-60B1-45E9-B63B-B1FD339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705-14F9-4BEC-820B-C618FF4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333-B8D7-4C87-92FA-A7B2CF97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AC3-AB5B-45CA-90D1-463E5429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on your film carefully. It must be in the genre that your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e section/areas to analy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your analysis on easy to read PowerPoints. Not too wo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can get access to the trailer - imdb.com i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given an individual grade for your contribution to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then be asked to upload your presentation for your own research and planning on the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a minimum of 15 minut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Seminar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 of your research it is important that your group analyse a film campa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2 weeks to present to the class a film trailer and a poster campaign of your group’s choice analysing the following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and sty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ength and structure of the trailer and posters. Stylistic decisions such as use of colour, animation, special effects, performance, tone and mood evok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cinematography/photography, use of sound, mise-en-scene and editing photo manipulation software creat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s the trailer and posters adhere to the conventions of the genre or subvert th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and ide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are the character’s /stars represented. Can you discuss stereotyp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s the trailer narrative linear or non-linear? Do we understand the plot of the film from the trailer and po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al contex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here would you see the trailer and poster? How much have they invested in the marketing of this film? Are the stars and director mentioned? Does it have a US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52:41Z</dcterms:created>
  <dc:creator>Shereen</dc:creator>
  <dc:description/>
  <dc:language>en-US</dc:language>
  <cp:lastModifiedBy>doug</cp:lastModifiedBy>
  <dcterms:modified xsi:type="dcterms:W3CDTF">2009-11-08T11:50:51Z</dcterms:modified>
  <cp:revision>9</cp:revision>
  <dc:subject/>
  <dc:title>Coursework research deadlines</dc:title>
</cp:coreProperties>
</file>