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D93-3E4C-4660-A891-05477CA1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C47-BE78-4545-AC13-F217127B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8BF-9FEA-4883-8230-1F2A9301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175-00DA-436C-82F3-67B3A30A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A3D-989A-4861-B15B-349473C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E69-BE16-450B-9DE9-105222B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9C6-D32C-4170-801D-F03E7C4E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9D6-EBA6-43C4-9BF5-CB0407CB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287-4789-4384-BD0B-9D90C17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B53-1F2A-4059-B8D7-448DA62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B15-2323-41F8-99DA-CDD6DB3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DAB-FAF4-408A-805B-94DF1E1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F429-D045-43C3-A697-8318B05C9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drag_me_to_hell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20" y="642600"/>
            <a:ext cx="8929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oup Seminar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42760"/>
            <a:ext cx="235728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y Sylvia, Rory and Ly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vids101.net/Group_Seminar.jpg"/>
          <p:cNvPicPr/>
          <p:nvPr/>
        </p:nvPicPr>
        <p:blipFill>
          <a:blip r:embed="rId1"/>
          <a:stretch/>
        </p:blipFill>
        <p:spPr>
          <a:xfrm>
            <a:off x="1042920" y="1494000"/>
            <a:ext cx="5821560" cy="437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596840" y="13572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Horror Film campaig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28800" y="71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UR CHOSEN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928960" y="13572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66"/>
                </a:solidFill>
                <a:latin typeface="Arial"/>
              </a:rPr>
              <a:t>DRAG ME TO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2920" y="1071720"/>
            <a:ext cx="207180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Background image and colour scheme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ho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kes the movie feel more authentic and therefore more scarier as everyone can make an association to this particular institu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ark mysterious colour sch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rag Me to Hell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06560"/>
            <a:ext cx="385776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428840" y="712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OST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H="1" flipV="1">
            <a:off x="1999800" y="1642680"/>
            <a:ext cx="929520" cy="1215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7" name="Rectangle 12"/>
          <p:cNvSpPr/>
          <p:nvPr/>
        </p:nvSpPr>
        <p:spPr>
          <a:xfrm>
            <a:off x="6715080" y="1071720"/>
            <a:ext cx="192888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in imag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lond female-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creaming as what looks like her being dragged to hell by some kind of mon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he’s Brightly 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urning fire at the bottom-dramat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715080" y="4214880"/>
            <a:ext cx="2143080" cy="228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sthea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ready tells us the genre of the movie is ho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pital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tuated at the bottom of the 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ur worst nightm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V="1">
            <a:off x="5499720" y="1499400"/>
            <a:ext cx="1500840" cy="17154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1" name="Straight Arrow Connector 6"/>
          <p:cNvCxnSpPr/>
          <p:nvPr/>
        </p:nvCxnSpPr>
        <p:spPr>
          <a:xfrm flipV="1">
            <a:off x="5785920" y="4500000"/>
            <a:ext cx="1429560" cy="1143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2" name="Rectangle 32"/>
          <p:cNvSpPr/>
          <p:nvPr/>
        </p:nvSpPr>
        <p:spPr>
          <a:xfrm>
            <a:off x="214200" y="4000680"/>
            <a:ext cx="2071800" cy="2500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Other conven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hristine Brown has a good job, a great boyfriend, and a bright future. But in three days, she’s going to hell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re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ING SOON’-teaser pos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8"/>
          <p:cNvCxnSpPr/>
          <p:nvPr/>
        </p:nvCxnSpPr>
        <p:spPr>
          <a:xfrm flipH="1" flipV="1">
            <a:off x="2142720" y="4285800"/>
            <a:ext cx="1572480" cy="10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0" y="0"/>
            <a:ext cx="964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OSTER INSTITUTIONAL CONTEX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357200" y="1476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RAIL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4240" y="171468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des and conventions-mise-en-sc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nd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-23760"/>
            <a:ext cx="9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RAILER INSTITUTIONAL CONTEX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7:39Z</dcterms:created>
  <dc:creator>Theo</dc:creator>
  <dc:description/>
  <dc:language>en-US</dc:language>
  <cp:lastModifiedBy>Theo</cp:lastModifiedBy>
  <dcterms:modified xsi:type="dcterms:W3CDTF">2009-12-15T15:10:37Z</dcterms:modified>
  <cp:revision>25</cp:revision>
  <dc:subject/>
  <dc:title>Group seminar presentation</dc:title>
</cp:coreProperties>
</file>