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E57-CF3D-4C3A-B8F7-4B8C1F90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CB8-4C0C-49D9-8C81-3909DAE9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066-F579-4B05-84C2-98E2F75E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8C5-D7CD-4779-A466-EB0121DB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CBE-B317-41AF-949E-47CDBFD1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972-B6A9-4490-AB49-F037A885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2B4-A3A4-46A3-9A0D-11BDCE0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8BB-3A44-4688-B310-4E5F16C9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DA7-B80D-43FE-BCCC-8FA127EA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6B6-19C4-44B2-84D8-F4434C4E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595-9098-404D-AC4A-FA34DE61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B69-0B69-4A83-8EFA-16B4166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D37A-3467-4A4A-8965-EFCB85F0E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drag_me_to_hell_xlg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920" y="642600"/>
            <a:ext cx="8929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oup Seminar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42760"/>
            <a:ext cx="235728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y Sylvia, Rory and Ly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vids101.net/Group_Seminar.jpg"/>
          <p:cNvPicPr/>
          <p:nvPr/>
        </p:nvPicPr>
        <p:blipFill>
          <a:blip r:embed="rId1"/>
          <a:stretch/>
        </p:blipFill>
        <p:spPr>
          <a:xfrm>
            <a:off x="1042920" y="1494000"/>
            <a:ext cx="5821560" cy="4370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596840" y="135720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Horror Film campaig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928800" y="71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UR CHOSEN MOV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2928960" y="13572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66"/>
                </a:solidFill>
                <a:latin typeface="Arial"/>
              </a:rPr>
              <a:t>DRAG ME TO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42920" y="1071720"/>
            <a:ext cx="207180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Background image and colour scheme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 ho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kes the movie feel more authentic and therefore more scarier as everyone can make an association to this particular institu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ark mysterious colour sch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Drag Me to Hell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006560"/>
            <a:ext cx="3857760" cy="5708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428840" y="712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OST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H="1" flipV="1">
            <a:off x="1999800" y="1642680"/>
            <a:ext cx="929520" cy="1215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7" name="Rectangle 12"/>
          <p:cNvSpPr/>
          <p:nvPr/>
        </p:nvSpPr>
        <p:spPr>
          <a:xfrm>
            <a:off x="6715080" y="1071720"/>
            <a:ext cx="192888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in imag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lond female-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creaming as what looks like her being dragged to hell by some kind of mons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he’s Brightly 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urning fire at the bottom-dramatic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6715080" y="4214880"/>
            <a:ext cx="2143080" cy="228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sthead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lready tells us the genre of the movie is ho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pital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tuated at the bottom of the 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ur worst nightm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0"/>
          <p:cNvCxnSpPr/>
          <p:nvPr/>
        </p:nvCxnSpPr>
        <p:spPr>
          <a:xfrm flipV="1">
            <a:off x="5499720" y="1499400"/>
            <a:ext cx="1500840" cy="17154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1" name="Straight Arrow Connector 6"/>
          <p:cNvCxnSpPr/>
          <p:nvPr/>
        </p:nvCxnSpPr>
        <p:spPr>
          <a:xfrm flipV="1">
            <a:off x="5785920" y="4500000"/>
            <a:ext cx="1429560" cy="1143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2" name="Rectangle 32"/>
          <p:cNvSpPr/>
          <p:nvPr/>
        </p:nvSpPr>
        <p:spPr>
          <a:xfrm>
            <a:off x="214200" y="4000680"/>
            <a:ext cx="2071800" cy="2500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Other conven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hristine Brown has a good job, a great boyfriend, and a bright future. But in three days, she’s going to hell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red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ING SOON’-teaser pos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8"/>
          <p:cNvCxnSpPr/>
          <p:nvPr/>
        </p:nvCxnSpPr>
        <p:spPr>
          <a:xfrm flipH="1" flipV="1">
            <a:off x="2142720" y="4285800"/>
            <a:ext cx="1572480" cy="1000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0" y="0"/>
            <a:ext cx="964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OSTER INSTITUTIONAL CONTEX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357200" y="1476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RAIL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14240" y="1714680"/>
            <a:ext cx="535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des and conventions-mise-en-sce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nd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-23760"/>
            <a:ext cx="9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TRAILER INSTITUTIONAL CONTEX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7:39Z</dcterms:created>
  <dc:creator>Theo</dc:creator>
  <dc:description/>
  <dc:language>en-US</dc:language>
  <cp:lastModifiedBy>Theo</cp:lastModifiedBy>
  <dcterms:modified xsi:type="dcterms:W3CDTF">2009-12-15T15:10:37Z</dcterms:modified>
  <cp:revision>25</cp:revision>
  <dc:subject/>
  <dc:title>Group seminar presentation</dc:title>
</cp:coreProperties>
</file>