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86A-3BD4-44C9-87B7-5A0E503C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344-C70C-47E5-958A-676B2937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81B-A199-4354-8E00-D4CE10D0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C04-208E-4A83-9FBF-FE42C298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FA2-59EB-4744-96B2-B70EE20E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1A3-FCE3-4BCB-B6C7-B5ED3663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A2F-54EF-4757-88B5-EBEAB695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6A2-CC30-4061-8AE3-A65F93C7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509-8462-4E3D-8FB4-DC9AD033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EFE-4706-4C31-BAFC-1B4870D6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169-EFF2-4B37-A321-900FAAAD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113-B607-46D5-8C13-F5B6DA74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A044-2B5F-4503-9A28-15D5F0BB6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mpawards.com/2009/drag_me_to_hell_xlg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920" y="642600"/>
            <a:ext cx="8929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oup Seminar Presen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1742760"/>
            <a:ext cx="235728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By Sylvia, Rory and Ly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vids101.net/Group_Seminar.jpg"/>
          <p:cNvPicPr/>
          <p:nvPr/>
        </p:nvPicPr>
        <p:blipFill>
          <a:blip r:embed="rId1"/>
          <a:stretch/>
        </p:blipFill>
        <p:spPr>
          <a:xfrm>
            <a:off x="1042920" y="1494000"/>
            <a:ext cx="5821560" cy="437040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4596840" y="135720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Horror Film campaig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785880"/>
            <a:ext cx="9144000" cy="50720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5857920"/>
            <a:ext cx="914400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928800" y="7142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UR CHOSEN MOV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785880"/>
            <a:ext cx="9144000" cy="50720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5857920"/>
            <a:ext cx="914400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2928960" y="13572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c66"/>
                </a:solidFill>
                <a:latin typeface="Arial"/>
              </a:rPr>
              <a:t>DRAG ME TO 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4"/>
          <p:cNvSpPr/>
          <p:nvPr/>
        </p:nvSpPr>
        <p:spPr>
          <a:xfrm>
            <a:off x="142920" y="1071720"/>
            <a:ext cx="2071800" cy="25714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ffcc66"/>
                </a:solidFill>
                <a:uFillTx/>
                <a:latin typeface="Arial"/>
              </a:rPr>
              <a:t>Background image and colour scheme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 hom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kes the movie feel more authentic and therefore more scarier as everyone can make an association to this particular institu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ark mysterious colour sche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Drag Me to Hell Poster - Click to View Extra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006560"/>
            <a:ext cx="3857760" cy="5708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1428840" y="7128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OSTER ANALY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8"/>
          <p:cNvCxnSpPr/>
          <p:nvPr/>
        </p:nvCxnSpPr>
        <p:spPr>
          <a:xfrm flipH="1" flipV="1">
            <a:off x="1999800" y="1642680"/>
            <a:ext cx="929520" cy="12153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7" name="Rectangle 12"/>
          <p:cNvSpPr/>
          <p:nvPr/>
        </p:nvSpPr>
        <p:spPr>
          <a:xfrm>
            <a:off x="6715080" y="1071720"/>
            <a:ext cx="1928880" cy="25714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ffcc66"/>
                </a:solidFill>
                <a:uFillTx/>
                <a:latin typeface="Arial"/>
              </a:rPr>
              <a:t>Main image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lond female-stere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creaming as what looks like her being dragged to hell by some kind of mons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he’s Brightly l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urning fire at the bottom-dramatic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6715080" y="4214880"/>
            <a:ext cx="2143080" cy="228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ffcc66"/>
                </a:solidFill>
                <a:uFillTx/>
                <a:latin typeface="Arial"/>
              </a:rPr>
              <a:t>Masthead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lready tells us the genre of the movie is ho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pital f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ituated at the bottom of the 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ur worst nightm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10"/>
          <p:cNvCxnSpPr/>
          <p:nvPr/>
        </p:nvCxnSpPr>
        <p:spPr>
          <a:xfrm flipV="1">
            <a:off x="5499720" y="1499400"/>
            <a:ext cx="1500840" cy="17154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1" name="Straight Arrow Connector 6"/>
          <p:cNvCxnSpPr/>
          <p:nvPr/>
        </p:nvCxnSpPr>
        <p:spPr>
          <a:xfrm flipV="1">
            <a:off x="5785920" y="4500000"/>
            <a:ext cx="1429560" cy="11437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62" name="Rectangle 32"/>
          <p:cNvSpPr/>
          <p:nvPr/>
        </p:nvSpPr>
        <p:spPr>
          <a:xfrm>
            <a:off x="214200" y="4000680"/>
            <a:ext cx="2071800" cy="25002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ffcc66"/>
                </a:solidFill>
                <a:uFillTx/>
                <a:latin typeface="Arial"/>
              </a:rPr>
              <a:t>Other convention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hristine Brown has a good job, a great boyfriend, and a bright future. But in three days, she’s going to hell.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red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MING SOON’-teaser post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28"/>
          <p:cNvCxnSpPr/>
          <p:nvPr/>
        </p:nvCxnSpPr>
        <p:spPr>
          <a:xfrm flipH="1" flipV="1">
            <a:off x="2142720" y="4285800"/>
            <a:ext cx="1572480" cy="10008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0" y="0"/>
            <a:ext cx="9644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OSTER INSTITUTIONAL CONTEX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357200" y="1476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RAILER ANALY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714240" y="1714680"/>
            <a:ext cx="535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des and conventions-mise-en-sce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nd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rget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0" y="-23760"/>
            <a:ext cx="9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Arial"/>
              </a:rPr>
              <a:t>TRAILER INSTITUTIONAL CONTEX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5:07:39Z</dcterms:created>
  <dc:creator>Theo</dc:creator>
  <dc:description/>
  <dc:language>en-US</dc:language>
  <cp:lastModifiedBy>Theo</cp:lastModifiedBy>
  <dcterms:modified xsi:type="dcterms:W3CDTF">2009-12-15T15:10:37Z</dcterms:modified>
  <cp:revision>25</cp:revision>
  <dc:subject/>
  <dc:title>Group seminar presentation</dc:title>
</cp:coreProperties>
</file>