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EEA-5993-498E-ABE6-D99334B1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31C-2B40-4407-B10A-D545242C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C4F-D0BC-4DEA-A33F-A7FCD95F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A0E-7782-461F-837B-DE8A3DF1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21F-11C6-4D8E-976D-224A300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748-041B-47A8-8A06-36A34C18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039-31A2-4B46-AAFB-4843555A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22A-201D-46CE-94CA-0F91407E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827-EA56-4BF2-9EF6-C24736B1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12E-BFDD-4A4E-8518-061E8A4E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E9B-6A63-4ECE-89F9-936E6B2B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924-676C-46AE-82AE-507BC9F3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F819-9520-4EEB-ACFA-BB8CCAFC6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on your film carefully. It must be in the genre that your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gate section/areas to analy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your analysis on easy to read PowerPoints. Not too wor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can get access to the trailer - imdb.com is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given an individual grade for your contribution to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then be asked to upload your presentation for your own research and planning on the wi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be a minimum of 15 minut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Seminar 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part of your research it is important that your group analyse a film campaig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2 weeks to present to the class a film trailer and a poster campaign of your group’s choice analysing the following 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 and sty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ength and structure of the trailer and posters. Stylistic decisions such as use of colour, animation, special effects, performance, tone and mood evoke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cinematography/photography, use of sound, mise-en-scene and editing photo manipulation software creat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does the trailer and posters adhere to the conventions of the genre or subvert th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resentation and ide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how are the character’s /stars represented. Can you discuss stereotyp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s the trailer narrative linear or non-linear? Do we understand the plot of the film from the trailer and po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tutional contex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Where would you see the trailer and poster? How much have they invested in the marketing of this film? Are the stars and director mentioned? Does it have a US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52:41Z</dcterms:created>
  <dc:creator>Shereen</dc:creator>
  <dc:description/>
  <dc:language>en-US</dc:language>
  <cp:lastModifiedBy>doug</cp:lastModifiedBy>
  <dcterms:modified xsi:type="dcterms:W3CDTF">2009-11-08T11:50:51Z</dcterms:modified>
  <cp:revision>9</cp:revision>
  <dc:subject/>
  <dc:title>Coursework research deadlines</dc:title>
</cp:coreProperties>
</file>