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C7B60-DE8C-4CAB-AF8F-802736AA9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ABE9B-8C3E-4C2F-83FD-D7A526B7B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25ED4-ADD7-4DD2-8F2B-34FDD809D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539F0-5DD1-43C0-A699-05D04A415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BF4990-B20F-498A-B594-55AB74CD9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A1A7E-C763-4FEF-AB9E-42D54E15A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77E27-D1E8-4A61-BBD0-FC89F6763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3E2E2-251C-4F60-B9C5-246FAAF1D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47523-0C04-4EBA-89E8-DF18C0E65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32A0A-C0A7-42AD-98E3-46ED45CB3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E4140-0C13-4534-8C96-0239FDF55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C0114-AD89-4ACD-9AAC-968E9E5E9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166AA-7184-45CF-BD81-8C79E4618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7AF0D-A009-4761-80FC-B3E7D2C1F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DD5C2-78DA-4560-8D53-8BEE84A6F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F8C66-119A-4DFA-B2CE-18B9ABD2A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84975-BEDE-4FE0-B15D-6440F7CC9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0689AB9-3FE4-492F-AEA6-7DE010C328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ACB884D-2BF1-4409-AEE4-9D0978A563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139983C-5E11-4FC1-BE78-54E94A8D93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C408028-5C9C-4471-9CFF-156F82C7F4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6086FDE-45C2-4594-831D-150D6EF4A3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E67EA-EE4D-47E5-BEF0-7852D4E9B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D35C559-2E5E-49C6-AD90-482F406B69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8ED5830-31D8-4383-873F-A9916FEE3E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A82E58-187D-4303-9D02-C3DDBF1BB4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CBE0C59-F33C-4029-B34C-A77BFF7854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8E5D672-CF96-4047-8679-522579D1C6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3DF8C3E-18DF-4BC5-A1A3-8901B31EBC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EF0CBFC-5BBB-4490-9115-3BB0EE2346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AB4A8AF-C7D4-4CCF-8E0B-8226EC8D25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9078096-19DE-4274-9324-83E72BFF08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34F96FB-BB4A-4AF1-B3AE-FFC78E5FAE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E507F-E779-4B54-94F0-163D1CEDE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8B18924-C0CF-48CC-986E-0F924A70AA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B4439D9-E77D-45CD-83E3-E333FC20BC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D0E6D10-ACD6-49C0-97AA-63549BFC27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7E19C94-DBBD-476E-9646-83C6AEB184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DE28387-4D2C-4622-8FF5-305A836B9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2BED3B8-963D-4F9D-9FA4-FA2E7D7AED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726FC35-24D9-4726-9768-4BB10DBE60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3B5A47A-9330-47F8-B779-1E70444834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A3D0467-433B-4783-956C-FFBB6D6C53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A1DFED7-F172-4063-943F-EB4B4F256B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799EE-A78E-4BD3-8E45-AB706AE25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D110A71-2C38-4BCE-8FCA-67695451C1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E2D83E9-1CF5-4932-B045-55D12C9E8D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EEED562-B27F-4B82-A82B-3CBEABEDF2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BCBCCCF-71B1-44A1-B0E2-A93F5F40F4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89F6A17-1926-49C1-96DC-F41D4322EE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7F3E858-89CD-4391-A11C-FFAC513FAA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A1542B6-91A0-49EB-B7C9-D8EB38997B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15FBD2-676A-4C3D-8CDA-286BD4064C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292FA01-8E55-4ED1-8A7C-03B395119E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FDF501A-FA16-4505-B5DD-464510CD58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3478C-FDB1-4A2F-8813-74AC69C89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AC8E461-D8E4-45FB-BA5D-5788554949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FCDDE2-143F-4CA3-B89C-68333A48F6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F2F489-ED56-42E6-B79E-A408C02B8E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498833-6C46-4553-B154-72DC985288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719683-50D8-4BA5-8A9C-45F5F8F771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70DB1B-E66F-408B-9584-2276DE222D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1FD400-9FE6-4FFC-BC4F-DD2819CA57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0B0A00-3354-4B56-97CE-2A6ECAABAE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F7A2BC-D3C7-4ACF-A22C-2050FB3F0A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D04878-1D64-45B6-A770-FF7AB1AE4D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B4F7C-3AD6-40D5-B22A-8CACC26F1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303894-C842-4822-A1B8-EE31D4BEC2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4230CC-7243-470F-B5EF-29FC26771A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562C97-8ADD-4435-9FB8-0269ADE797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264E8FF-5FD8-4B53-926C-AA7154EDAD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3D804AD-A0C7-49A8-94B3-ACB224C03F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CBBBDF3-A504-4408-BEFC-DFC0DC8886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E0E7DD4-FE60-446C-A99D-C4775FC73F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27710C8-0155-4197-9FED-935FEA9F77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A393F3C-80F7-4A8E-AC90-790EF8EB22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B9FD587-CEF7-4630-9592-8BD1306921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A7381-9D7F-4182-BCB3-96AFFF6A1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CDF462C-BF70-4758-B243-89BBB854CA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5B003EC-90F0-48F7-A77A-47FC7DCD5C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3940C73-D236-4C87-995D-C9CF051B81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7E3DC4C-5992-43C0-8CC0-90B29C6D2B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B06F3DD-7B35-4B55-9F39-D2AC9898D8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683165-C3F5-408D-BEB7-59A16E7902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786CD7-F005-46A9-97EB-B4EC226866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96A1BD-56AC-4AAE-B8C7-68FB059B19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F4DB80-73FA-48AB-AD77-DDB8298526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B18F95-A05F-4554-B46F-6E16136857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BEDBF-23DA-449C-8128-4ED811CB1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04E837-75C2-441C-92AD-76C117E502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1B570C-1FE8-4E81-8FC1-508071E184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0756B7-1E29-4DAE-A155-2F73DB2329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288B4A-BBC0-4388-9B9C-EF834FC1D1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6D5E97-34AF-4B17-8598-5DC8816469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CFE29B-3829-42C4-8CF4-06E204FD91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0D8682-8845-4D44-917E-974546DCEAF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5C61-80B6-4009-B48B-20D6A4A3D80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E74F-6CD1-4B51-B654-D20B5D324BAE}"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75FF-8176-44CC-9791-A0A4234FD08F}"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10CA-CCA5-4EBD-A08B-616D68E9500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50A1-72FB-49FA-A0D5-F91D27B32DC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F3BA-830C-4876-8508-DDB953E488B9}"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D7B7-D1E6-4746-8B3E-100E14C00D1F}"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CB593-D96A-4ACF-B6EA-5530008F892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GENRE RESEARCH</a:t>
            </a:r>
            <a:br>
              <a:rPr sz="4400"/>
            </a:br>
            <a:r>
              <a:rPr b="0" lang="en-US" sz="4400" spc="-1" strike="noStrike">
                <a:solidFill>
                  <a:srgbClr val="ebddc3"/>
                </a:solidFill>
                <a:latin typeface="Tw Cen MT"/>
              </a:rPr>
              <a:t>-GANGSTER CRIME</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Chanelle Asmah</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What is ‘GANGSTER CRIME’?</a:t>
            </a:r>
            <a:endParaRPr b="0" lang="en-US" sz="4400" spc="-1" strike="noStrike">
              <a:solidFill>
                <a:srgbClr val="775f55"/>
              </a:solidFill>
              <a:latin typeface="Tw Cen MT"/>
            </a:endParaRPr>
          </a:p>
        </p:txBody>
      </p:sp>
      <p:sp>
        <p:nvSpPr>
          <p:cNvPr id="353" name=""/>
          <p:cNvSpPr txBox="1"/>
          <p:nvPr/>
        </p:nvSpPr>
        <p:spPr>
          <a:xfrm>
            <a:off x="612360" y="1600200"/>
            <a:ext cx="5388120" cy="4495680"/>
          </a:xfrm>
          <a:prstGeom prst="rect">
            <a:avLst/>
          </a:prstGeom>
          <a:noFill/>
          <a:ln w="0">
            <a:noFill/>
          </a:ln>
        </p:spPr>
        <p:txBody>
          <a:bodyPr lIns="90000" rIns="90000" tIns="46800" bIns="46800"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Crime film, in the most general sense, is a film that involves various aspects crime and the criminal justice system. Stylistically, it can fall under many different genres, most commonly drama film, thriller film, mystery film, action film and film noir.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films are a subgenre of crime films dealing with organized crime, often the Mafia. Especially in early mob films, there is some overlap with film noir.</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films usually are about the rise to power of an organized gang, sometimes focusing on the gang's leader, as well as their fall. The message is almost always crime doesn't pay, though sometimes it focuses on their humanity making it more about a means to an end.</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54" name="Picture 2" descr="http://t0.gstatic.com/images?q=tbn:4JKMo63Hr2NvlM:http://www.filmsquish.com/guts/files/images/Goodfellas1.JPG"/>
          <p:cNvPicPr/>
          <p:nvPr/>
        </p:nvPicPr>
        <p:blipFill>
          <a:blip r:embed="rId1"/>
          <a:stretch/>
        </p:blipFill>
        <p:spPr>
          <a:xfrm>
            <a:off x="6170760" y="2593800"/>
            <a:ext cx="2253960" cy="16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HISTORY</a:t>
            </a:r>
            <a:endParaRPr b="0" lang="en-US" sz="4400" spc="-1" strike="noStrike">
              <a:solidFill>
                <a:srgbClr val="775f55"/>
              </a:solidFill>
              <a:latin typeface="Tw Cen MT"/>
            </a:endParaRPr>
          </a:p>
        </p:txBody>
      </p:sp>
      <p:sp>
        <p:nvSpPr>
          <p:cNvPr id="356" name=""/>
          <p:cNvSpPr txBox="1"/>
          <p:nvPr/>
        </p:nvSpPr>
        <p:spPr>
          <a:xfrm>
            <a:off x="612360" y="1600200"/>
            <a:ext cx="567396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Though mob films had their roots in earlier silent pictures, the genre in its purest form was defined in the early 1930s. It owed its innovations to the instability of the time, an instability which resulted from the Great Depression, and catalyzed the gangster genre. The failure of honest hard work and careful investment to ensure financial security led to the explosion of mob films on to the Hollywood scene, and their immense popularity speaks of a society disillusioned with the American way of life. </a:t>
            </a:r>
            <a:endParaRPr b="0" lang="en-US" sz="2500" spc="-1" strike="noStrike">
              <a:solidFill>
                <a:srgbClr val="000000"/>
              </a:solidFill>
              <a:latin typeface="Tw Cen MT"/>
            </a:endParaRPr>
          </a:p>
        </p:txBody>
      </p:sp>
      <p:pic>
        <p:nvPicPr>
          <p:cNvPr id="357" name="Picture 2" descr="See full size image"/>
          <p:cNvPicPr/>
          <p:nvPr/>
        </p:nvPicPr>
        <p:blipFill>
          <a:blip r:embed="rId1"/>
          <a:stretch/>
        </p:blipFill>
        <p:spPr>
          <a:xfrm>
            <a:off x="6357960" y="2357280"/>
            <a:ext cx="2585880" cy="19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Arial Narrow"/>
              </a:rPr>
              <a:t>EARLY CRIME AND GANGSTER FILMS</a:t>
            </a:r>
            <a:endParaRPr b="0" lang="en-US" sz="32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0" name="Picture 5" descr="417297"/>
          <p:cNvPicPr/>
          <p:nvPr/>
        </p:nvPicPr>
        <p:blipFill>
          <a:blip r:embed="rId1"/>
          <a:stretch/>
        </p:blipFill>
        <p:spPr>
          <a:xfrm>
            <a:off x="1042920" y="2421000"/>
            <a:ext cx="1905120" cy="2819160"/>
          </a:xfrm>
          <a:prstGeom prst="rect">
            <a:avLst/>
          </a:prstGeom>
          <a:ln w="0">
            <a:noFill/>
          </a:ln>
        </p:spPr>
      </p:pic>
      <p:sp>
        <p:nvSpPr>
          <p:cNvPr id="361" name="Text Box 6"/>
          <p:cNvSpPr/>
          <p:nvPr/>
        </p:nvSpPr>
        <p:spPr>
          <a:xfrm>
            <a:off x="324000" y="544500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sketeers of Pig Alley (1912)</a:t>
            </a:r>
            <a:endParaRPr b="0" lang="en-US" sz="1800" spc="-1" strike="noStrike">
              <a:solidFill>
                <a:srgbClr val="000000"/>
              </a:solidFill>
              <a:latin typeface="Arial"/>
            </a:endParaRPr>
          </a:p>
        </p:txBody>
      </p:sp>
      <p:pic>
        <p:nvPicPr>
          <p:cNvPr id="362" name="Picture 8" descr="Out-of-the-Past-Style-A--C10129551"/>
          <p:cNvPicPr/>
          <p:nvPr/>
        </p:nvPicPr>
        <p:blipFill>
          <a:blip r:embed="rId2"/>
          <a:stretch/>
        </p:blipFill>
        <p:spPr>
          <a:xfrm>
            <a:off x="3564000" y="2421000"/>
            <a:ext cx="2087640" cy="2808360"/>
          </a:xfrm>
          <a:prstGeom prst="rect">
            <a:avLst/>
          </a:prstGeom>
          <a:ln w="0">
            <a:noFill/>
          </a:ln>
        </p:spPr>
      </p:pic>
      <p:sp>
        <p:nvSpPr>
          <p:cNvPr id="363" name="Text Box 9"/>
          <p:cNvSpPr/>
          <p:nvPr/>
        </p:nvSpPr>
        <p:spPr>
          <a:xfrm>
            <a:off x="3492360" y="544500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of the Past (1947)</a:t>
            </a:r>
            <a:endParaRPr b="0" lang="en-US" sz="1800" spc="-1" strike="noStrike">
              <a:solidFill>
                <a:srgbClr val="000000"/>
              </a:solidFill>
              <a:latin typeface="Arial"/>
            </a:endParaRPr>
          </a:p>
        </p:txBody>
      </p:sp>
      <p:pic>
        <p:nvPicPr>
          <p:cNvPr id="364" name="Picture 11" descr="poster-On-The-Waterfront"/>
          <p:cNvPicPr/>
          <p:nvPr/>
        </p:nvPicPr>
        <p:blipFill>
          <a:blip r:embed="rId3"/>
          <a:stretch/>
        </p:blipFill>
        <p:spPr>
          <a:xfrm>
            <a:off x="5796000" y="2492280"/>
            <a:ext cx="1911240" cy="2665440"/>
          </a:xfrm>
          <a:prstGeom prst="rect">
            <a:avLst/>
          </a:prstGeom>
          <a:ln w="0">
            <a:noFill/>
          </a:ln>
        </p:spPr>
      </p:pic>
      <p:sp>
        <p:nvSpPr>
          <p:cNvPr id="365" name="Text Box 12"/>
          <p:cNvSpPr/>
          <p:nvPr/>
        </p:nvSpPr>
        <p:spPr>
          <a:xfrm>
            <a:off x="5940360" y="5445000"/>
            <a:ext cx="26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Waterfront (19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LATER GANGSTER CRIME FILMS</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8" name="Picture 2" descr="http://t3.gstatic.com/images?q=tbn:8qf_vX14KT5YXM:http://topper10.files.wordpress.com/2009/04/the_godfather_2.jpg"/>
          <p:cNvPicPr/>
          <p:nvPr/>
        </p:nvPicPr>
        <p:blipFill>
          <a:blip r:embed="rId1"/>
          <a:stretch/>
        </p:blipFill>
        <p:spPr>
          <a:xfrm>
            <a:off x="857160" y="1785960"/>
            <a:ext cx="1785960" cy="2427120"/>
          </a:xfrm>
          <a:prstGeom prst="rect">
            <a:avLst/>
          </a:prstGeom>
          <a:ln w="0">
            <a:noFill/>
          </a:ln>
        </p:spPr>
      </p:pic>
      <p:sp>
        <p:nvSpPr>
          <p:cNvPr id="369" name="TextBox 4"/>
          <p:cNvSpPr/>
          <p:nvPr/>
        </p:nvSpPr>
        <p:spPr>
          <a:xfrm>
            <a:off x="500040" y="4429080"/>
            <a:ext cx="314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e Godfather 2 – 1(974)</a:t>
            </a:r>
            <a:endParaRPr b="0" lang="en-US" sz="1800" spc="-1" strike="noStrike">
              <a:solidFill>
                <a:srgbClr val="000000"/>
              </a:solidFill>
              <a:latin typeface="Arial"/>
            </a:endParaRPr>
          </a:p>
        </p:txBody>
      </p:sp>
      <p:pic>
        <p:nvPicPr>
          <p:cNvPr id="370" name="Picture 6" descr="http://t0.gstatic.com/images?q=tbn:Eb4MkvoEPNfa_M:http://www.movieforum.com/movies/posters/sports/images/ragingbull.gif"/>
          <p:cNvPicPr/>
          <p:nvPr/>
        </p:nvPicPr>
        <p:blipFill>
          <a:blip r:embed="rId2"/>
          <a:stretch/>
        </p:blipFill>
        <p:spPr>
          <a:xfrm>
            <a:off x="3143160" y="1857240"/>
            <a:ext cx="2000520" cy="2292480"/>
          </a:xfrm>
          <a:prstGeom prst="rect">
            <a:avLst/>
          </a:prstGeom>
          <a:ln w="0">
            <a:noFill/>
          </a:ln>
        </p:spPr>
      </p:pic>
      <p:pic>
        <p:nvPicPr>
          <p:cNvPr id="371" name="Picture 8" descr="http://t1.gstatic.com/images?q=tbn:TP-9-xiaE7P7LM:http://www.cineclub.de/images/1996/fargo.9.jpg"/>
          <p:cNvPicPr/>
          <p:nvPr/>
        </p:nvPicPr>
        <p:blipFill>
          <a:blip r:embed="rId3"/>
          <a:stretch/>
        </p:blipFill>
        <p:spPr>
          <a:xfrm>
            <a:off x="5429160" y="1857240"/>
            <a:ext cx="2214720" cy="2408400"/>
          </a:xfrm>
          <a:prstGeom prst="rect">
            <a:avLst/>
          </a:prstGeom>
          <a:ln w="0">
            <a:noFill/>
          </a:ln>
        </p:spPr>
      </p:pic>
      <p:sp>
        <p:nvSpPr>
          <p:cNvPr id="372" name="TextBox 8"/>
          <p:cNvSpPr/>
          <p:nvPr/>
        </p:nvSpPr>
        <p:spPr>
          <a:xfrm>
            <a:off x="5654520" y="4429080"/>
            <a:ext cx="127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Fargo (1996</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73" name="TextBox 9"/>
          <p:cNvSpPr/>
          <p:nvPr/>
        </p:nvSpPr>
        <p:spPr>
          <a:xfrm>
            <a:off x="3214800" y="4429080"/>
            <a:ext cx="22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Raging Bull- (19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HIGHEST GROSSING GANGSTER CRIME FILMS</a:t>
            </a:r>
            <a:endParaRPr b="0" lang="en-US" sz="40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gross revenue is the amount of money earned by all companies involved before the price of expenses are deducted.</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Departed: $290 Million (worldwide)</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American Gangster: $266, 465,637</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Godfather 2: $193,000,000</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Heat: $187,436,818</a:t>
            </a: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REPITORE OF ELEMENTS </a:t>
            </a:r>
            <a:br>
              <a:rPr sz="4000"/>
            </a:br>
            <a:r>
              <a:rPr b="0" lang="en-GB" sz="1800" spc="-1" strike="noStrike">
                <a:solidFill>
                  <a:srgbClr val="775f55"/>
                </a:solidFill>
                <a:latin typeface="Arial Narrow"/>
              </a:rPr>
              <a:t>Ideological themes and narrative. </a:t>
            </a:r>
            <a:endParaRPr b="0" lang="en-US" sz="18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Crime stories in this genre often highlight the life of a crime figure or a crime's victim or victims. Or they glorify the rise and fall of a particular criminal, gang, bank robber, murderer or lawbreakers in personal power struggles or conflict with law and order figures, an underling or competitive colleague, or a rival gang.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Headline-grabbing situations, real-life gangsters, or crime reports have often been used in crime films. Gangster/crime films are usually set in large, crowded cities, to provide a view of the secret world of the criminal: dark nightclubs or streets with lurid neon signs, fast cars, piles of cash, sleazy bars, contraband, seedy living quarters or rooming houses.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Exotic locales for crimes often add an element of adventure and wealth.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CONTINUED ...</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Film gangsters are usually materialistic, street-smart, immoral, meglo-maniacal, and self-destructive. Rivalry with other criminals in gangster warfare is often a significant plot characteristic. </a:t>
            </a:r>
            <a:endParaRPr b="0" lang="en-US" sz="27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rime plots also include questions such as how the criminal will be apprehended by police, private eyes, special agents or lawful authorities, or mysteries such as who stole the valued object. </a:t>
            </a:r>
            <a:endParaRPr b="0" lang="en-US" sz="27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hey rise to power with a tough cruel facade while showing an ambitious desire for success and recognition, but underneath they can express sensitivity and gentleness. </a:t>
            </a:r>
            <a:endParaRPr b="0" lang="en-US" sz="27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1:44:27Z</dcterms:created>
  <dc:creator>Theo</dc:creator>
  <dc:description/>
  <dc:language>en-US</dc:language>
  <cp:lastModifiedBy> </cp:lastModifiedBy>
  <dcterms:modified xsi:type="dcterms:W3CDTF">2010-02-13T13:33:48Z</dcterms:modified>
  <cp:revision>9</cp:revision>
  <dc:subject/>
  <dc:title>HISTORY OF GANGSTER CRIME </dc:title>
</cp:coreProperties>
</file>