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A3E85-E8B9-46F6-8C34-6CB407C29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EAF6-2D5D-403E-A51D-359E7908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23BC6-1036-48E5-97DF-0D6A4B749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1910B-9B43-483D-B3F9-D5BDB959C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83CB1-790A-4B2E-B0F1-60CF443AF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42898-593E-42A4-AA1E-C7C20FA2E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9E150-4499-4768-90D6-AA096AB46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ADCB7-54D4-443C-8BB7-76EB1F420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5E9F3-88A4-40CB-9500-A43FC9F66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223DD-8C4F-4371-B58E-5F7F1EFCA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E48C9-9B7E-45F5-ABF7-AAE48D83F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E05C6-3333-4C1D-BCC0-4DDBD009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577BE-A273-4306-B6DF-A4BCB6E51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83376-DABE-4637-9A69-8F142A7C8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8633C-02AF-4798-A467-8A7FEDC99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BDD4A-3A5B-412F-A209-8A84F5396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D49B0-9247-4E49-8C07-6081FCF4A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BDEDC6B-1472-4A82-A6C7-0E94B9C871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B7546C-381C-41CB-84F8-8CCADDA5B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9D9A30-DE8E-4F52-AB60-39B49DADD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FB94F3-24A1-400B-BA96-866CB8794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D38325-D903-43B5-B4ED-791AB84D31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55E31-78A4-4684-AB5D-5AB05848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E561B2F-9851-41B5-9A3C-DEFF41046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69EB0C-45C0-4AF3-AED0-BE6C5C409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1340F6-5A1E-4748-9BCB-B69D83F14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1E88A4-4243-488B-A225-FDAF6E755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4B8FD0-CF28-4F18-A907-5CA559B77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97638A-B163-4BBB-9560-F5EB4DA14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A7B0A9-487C-4C79-87F3-9A491E89FA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845E605-95A1-42CE-BC1E-96FFAA17B9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6F0C54-BB99-4A45-81C4-9582B59F9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EDCFF3-820B-4E95-B58E-6A3CD85F3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BD924-DB8D-4464-9D10-D2A17602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556400-EE0B-4F62-A86B-9792C5CAE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E7ED7F-1DC7-470A-AE0A-4917995B6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3AE4DE-FAE9-464E-9BE0-25D812C35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0323CA-C942-46C4-9C06-A35411189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498D02-DFED-4EAC-8153-C7DDBC14D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5E7EDF-8787-425A-87D6-A36D8A8DF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3DD72B-5F29-4BFE-85EE-782C8E1BB7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E8E734F-E849-4D34-9CD6-835EC4CEBA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DD5E80-C219-40A3-8607-94BC15CC01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90A45D-C5CD-41A8-B865-E3EA51830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3CD6-8CB5-447A-8C91-FABCDD6BA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29C1CF-3E9F-442B-A96F-8773822CB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4F6DBC-F931-4830-807A-C740CF8CCB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A91040-A665-4191-BF5C-29A74AF34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D1E5AC0-A76D-49DD-B1DC-F82ED07CC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EBFFA8-F0A8-457C-AD25-381018C60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E4F28B-4330-4486-88D0-9A1509429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114C36-FB48-43A9-AE09-2C9CF4BF1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A91035-4ED5-4F11-B3AC-6CFC53284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653834-4A2D-4A54-B157-2133968C9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4032B4D-0C67-4F3F-BB98-14092D8962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40374-DC98-4620-A0EF-72A74474E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CB072D6-1123-40CD-83F5-9FB3928605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EA317E-E44C-4955-AA2E-CEB3F87C68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809A8-1C31-46DC-8080-1C44E9B3D6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39084C-FBEB-4472-9D6E-C2077083C8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744D2-1D1E-4F9B-BF9F-FF51C0114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0AC514-45E4-41B9-9D94-B7160C772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96A39-EF05-4D77-B4E2-90930633E4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6A542-E3F5-4DAD-8EC7-E778171D6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448CC-8A47-4C30-B519-561AE34E64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DF3BD-8966-4E22-A171-DBC1F8171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B4FE-D305-49C0-9059-314FF562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EF404D-4E66-4C4F-93DD-108B4886FF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41AE2B-E557-4925-88B9-6F869EB55B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79A9D8-CB7E-4377-A3CF-DBC33813ED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0852B15-7F29-4C76-9AD2-D3E71A53AA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DF66CF-DF64-4D38-A7F8-B6EE3507EC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4A3B10-4545-4616-A2CD-7528945D3B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A04BE7-765C-48D2-83A4-46211E862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B9565A-DC5C-47A0-B674-0F9F73250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C4032F-9034-4864-BBA3-9DF7430BB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A29D086-2C02-4B07-8455-AB1217683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8590A-DF29-466D-9F03-3F3700421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26D620-AAB3-4519-8FDF-CB60D82D9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C68DAD-2F88-423C-9F08-FDBC6B602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C4F790-E0F4-4AC4-9113-CD7EB9DE6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A5079A3-77B0-44D1-A27C-DA68C35092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E68E192-C4A9-423F-803D-12DBB5E4A4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4D24CF-C61C-43C4-BC15-35139C28F9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D06E50-E8DC-4343-901B-92BDF353EB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2EC214-B55C-42A3-8FDF-DFA347E4E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A3D440-D0A5-4454-8E89-9C25D3150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7A786-48DD-4BC6-A185-5EF814D74C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AFBB-637A-453E-A025-AAB0BF921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00B685-88C8-4FAD-8414-D8955988C7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1FEE2-0E05-427A-B0DC-1413404B1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DEB19-506F-4D7E-A9C4-91D796606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DD653-45DC-4741-BE97-B4D161EFA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A47432-BF2B-4915-8AB1-5FE98D4F7C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50E5FD-8DCC-4F5C-966E-D98ADA2CC1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50D512-232A-414C-BF59-C5374C5E01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ABA1-36D2-4A64-9598-A6E8EE6CFD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739F-D793-4671-AC3F-2066A32AF744}"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7557-3686-4EA9-92B4-CF7E23615FA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7356-261E-4382-8FB0-CBA366AF19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5E2D-BFF4-4DB5-AB2B-A59C701C782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72E1-9019-4D9D-8065-5772A88EB55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29F5-FD08-4F6C-9A8A-B9D10B51F25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298D-BBBE-4AF1-A098-5019B53AA9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GENRE RESEARCH</a:t>
            </a:r>
            <a:br>
              <a:rPr sz="4400"/>
            </a:br>
            <a:r>
              <a:rPr b="0" lang="en-US" sz="4400" spc="-1" strike="noStrike">
                <a:solidFill>
                  <a:srgbClr val="ebddc3"/>
                </a:solidFill>
                <a:latin typeface="Tw Cen MT"/>
              </a:rPr>
              <a:t>-GANGSTER CRI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What is ‘GANGSTER CRIME’?</a:t>
            </a:r>
            <a:endParaRPr b="0" lang="en-US" sz="4400" spc="-1" strike="noStrike">
              <a:solidFill>
                <a:srgbClr val="775f55"/>
              </a:solidFill>
              <a:latin typeface="Tw Cen MT"/>
            </a:endParaRPr>
          </a:p>
        </p:txBody>
      </p:sp>
      <p:sp>
        <p:nvSpPr>
          <p:cNvPr id="353" name=""/>
          <p:cNvSpPr txBox="1"/>
          <p:nvPr/>
        </p:nvSpPr>
        <p:spPr>
          <a:xfrm>
            <a:off x="612360" y="1600200"/>
            <a:ext cx="538812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rime film, in the most general sense, is a film that involves various aspects crime and the criminal justice system. Stylistically, it can fall under many different genres, most commonly drama film, thriller film, mystery film, action film and film noir.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are a subgenre of crime films dealing with organized crime, often the Mafia. Especially in early mob films, there is some overlap with film noir.</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usually are about the rise to power of an organized gang, sometimes focusing on the gang's leader, as well as their fall. The message is almost always crime doesn't pay, though sometimes it focuses on their humanity making it more about a means to an e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4" name="Picture 2" descr="http://t0.gstatic.com/images?q=tbn:4JKMo63Hr2NvlM:http://www.filmsquish.com/guts/files/images/Goodfellas1.JPG"/>
          <p:cNvPicPr/>
          <p:nvPr/>
        </p:nvPicPr>
        <p:blipFill>
          <a:blip r:embed="rId1"/>
          <a:stretch/>
        </p:blipFill>
        <p:spPr>
          <a:xfrm>
            <a:off x="6170760" y="2593800"/>
            <a:ext cx="225396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HISTORY</a:t>
            </a:r>
            <a:endParaRPr b="0" lang="en-US" sz="4400" spc="-1" strike="noStrike">
              <a:solidFill>
                <a:srgbClr val="775f55"/>
              </a:solidFill>
              <a:latin typeface="Tw Cen MT"/>
            </a:endParaRPr>
          </a:p>
        </p:txBody>
      </p:sp>
      <p:sp>
        <p:nvSpPr>
          <p:cNvPr id="356" name=""/>
          <p:cNvSpPr txBox="1"/>
          <p:nvPr/>
        </p:nvSpPr>
        <p:spPr>
          <a:xfrm>
            <a:off x="612360" y="1600200"/>
            <a:ext cx="567396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hough mob films had their roots in earlier silent pictures, the genre in its purest form was defined in the early 1930s. It owed its innovations to the instability of the time, an instability which resulted from the Great Depression, and catalyzed the gangster genre. The failure of honest hard work and careful investment to ensure financial security led to the explosion of mob films on to the Hollywood scene, and their immense popularity speaks of a society disillusioned with the American way of life. </a:t>
            </a:r>
            <a:endParaRPr b="0" lang="en-US" sz="2500" spc="-1" strike="noStrike">
              <a:solidFill>
                <a:srgbClr val="000000"/>
              </a:solidFill>
              <a:latin typeface="Tw Cen MT"/>
            </a:endParaRPr>
          </a:p>
        </p:txBody>
      </p:sp>
      <p:pic>
        <p:nvPicPr>
          <p:cNvPr id="357" name="Picture 2" descr="See full size image"/>
          <p:cNvPicPr/>
          <p:nvPr/>
        </p:nvPicPr>
        <p:blipFill>
          <a:blip r:embed="rId1"/>
          <a:stretch/>
        </p:blipFill>
        <p:spPr>
          <a:xfrm>
            <a:off x="6357960" y="2357280"/>
            <a:ext cx="2585880" cy="19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Arial Narrow"/>
              </a:rPr>
              <a:t>EARLY CRIME AND GANGSTER FILMS</a:t>
            </a:r>
            <a:endParaRPr b="0" lang="en-US" sz="32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0" name="Picture 5" descr="417297"/>
          <p:cNvPicPr/>
          <p:nvPr/>
        </p:nvPicPr>
        <p:blipFill>
          <a:blip r:embed="rId1"/>
          <a:stretch/>
        </p:blipFill>
        <p:spPr>
          <a:xfrm>
            <a:off x="1042920" y="2421000"/>
            <a:ext cx="1905120" cy="2819160"/>
          </a:xfrm>
          <a:prstGeom prst="rect">
            <a:avLst/>
          </a:prstGeom>
          <a:ln w="0">
            <a:noFill/>
          </a:ln>
        </p:spPr>
      </p:pic>
      <p:sp>
        <p:nvSpPr>
          <p:cNvPr id="361" name="Text Box 6"/>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keteers of Pig Alley (1912)</a:t>
            </a:r>
            <a:endParaRPr b="0" lang="en-US" sz="1800" spc="-1" strike="noStrike">
              <a:solidFill>
                <a:srgbClr val="000000"/>
              </a:solidFill>
              <a:latin typeface="Arial"/>
            </a:endParaRPr>
          </a:p>
        </p:txBody>
      </p:sp>
      <p:pic>
        <p:nvPicPr>
          <p:cNvPr id="362" name="Picture 8" descr="Out-of-the-Past-Style-A--C10129551"/>
          <p:cNvPicPr/>
          <p:nvPr/>
        </p:nvPicPr>
        <p:blipFill>
          <a:blip r:embed="rId2"/>
          <a:stretch/>
        </p:blipFill>
        <p:spPr>
          <a:xfrm>
            <a:off x="3564000" y="2421000"/>
            <a:ext cx="2087640" cy="2808360"/>
          </a:xfrm>
          <a:prstGeom prst="rect">
            <a:avLst/>
          </a:prstGeom>
          <a:ln w="0">
            <a:noFill/>
          </a:ln>
        </p:spPr>
      </p:pic>
      <p:sp>
        <p:nvSpPr>
          <p:cNvPr id="363" name="Text Box 9"/>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the Past (1947)</a:t>
            </a:r>
            <a:endParaRPr b="0" lang="en-US" sz="1800" spc="-1" strike="noStrike">
              <a:solidFill>
                <a:srgbClr val="000000"/>
              </a:solidFill>
              <a:latin typeface="Arial"/>
            </a:endParaRPr>
          </a:p>
        </p:txBody>
      </p:sp>
      <p:pic>
        <p:nvPicPr>
          <p:cNvPr id="364" name="Picture 11" descr="poster-On-The-Waterfront"/>
          <p:cNvPicPr/>
          <p:nvPr/>
        </p:nvPicPr>
        <p:blipFill>
          <a:blip r:embed="rId3"/>
          <a:stretch/>
        </p:blipFill>
        <p:spPr>
          <a:xfrm>
            <a:off x="5796000" y="2492280"/>
            <a:ext cx="1911240" cy="2665440"/>
          </a:xfrm>
          <a:prstGeom prst="rect">
            <a:avLst/>
          </a:prstGeom>
          <a:ln w="0">
            <a:noFill/>
          </a:ln>
        </p:spPr>
      </p:pic>
      <p:sp>
        <p:nvSpPr>
          <p:cNvPr id="365" name="Text Box 12"/>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Waterfront (19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LATER GANGSTER CRIME FIL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2" descr="http://t3.gstatic.com/images?q=tbn:8qf_vX14KT5YXM:http://topper10.files.wordpress.com/2009/04/the_godfather_2.jpg"/>
          <p:cNvPicPr/>
          <p:nvPr/>
        </p:nvPicPr>
        <p:blipFill>
          <a:blip r:embed="rId1"/>
          <a:stretch/>
        </p:blipFill>
        <p:spPr>
          <a:xfrm>
            <a:off x="857160" y="1785960"/>
            <a:ext cx="1785960" cy="2427120"/>
          </a:xfrm>
          <a:prstGeom prst="rect">
            <a:avLst/>
          </a:prstGeom>
          <a:ln w="0">
            <a:noFill/>
          </a:ln>
        </p:spPr>
      </p:pic>
      <p:sp>
        <p:nvSpPr>
          <p:cNvPr id="369" name="TextBox 4"/>
          <p:cNvSpPr/>
          <p:nvPr/>
        </p:nvSpPr>
        <p:spPr>
          <a:xfrm>
            <a:off x="500040" y="442908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Godfather 2 – 1(974)</a:t>
            </a:r>
            <a:endParaRPr b="0" lang="en-US" sz="1800" spc="-1" strike="noStrike">
              <a:solidFill>
                <a:srgbClr val="000000"/>
              </a:solidFill>
              <a:latin typeface="Arial"/>
            </a:endParaRPr>
          </a:p>
        </p:txBody>
      </p:sp>
      <p:pic>
        <p:nvPicPr>
          <p:cNvPr id="370" name="Picture 6" descr="http://t0.gstatic.com/images?q=tbn:Eb4MkvoEPNfa_M:http://www.movieforum.com/movies/posters/sports/images/ragingbull.gif"/>
          <p:cNvPicPr/>
          <p:nvPr/>
        </p:nvPicPr>
        <p:blipFill>
          <a:blip r:embed="rId2"/>
          <a:stretch/>
        </p:blipFill>
        <p:spPr>
          <a:xfrm>
            <a:off x="3143160" y="1857240"/>
            <a:ext cx="2000520" cy="2292480"/>
          </a:xfrm>
          <a:prstGeom prst="rect">
            <a:avLst/>
          </a:prstGeom>
          <a:ln w="0">
            <a:noFill/>
          </a:ln>
        </p:spPr>
      </p:pic>
      <p:pic>
        <p:nvPicPr>
          <p:cNvPr id="371" name="Picture 8" descr="http://t1.gstatic.com/images?q=tbn:TP-9-xiaE7P7LM:http://www.cineclub.de/images/1996/fargo.9.jpg"/>
          <p:cNvPicPr/>
          <p:nvPr/>
        </p:nvPicPr>
        <p:blipFill>
          <a:blip r:embed="rId3"/>
          <a:stretch/>
        </p:blipFill>
        <p:spPr>
          <a:xfrm>
            <a:off x="5429160" y="1857240"/>
            <a:ext cx="2214720" cy="2408400"/>
          </a:xfrm>
          <a:prstGeom prst="rect">
            <a:avLst/>
          </a:prstGeom>
          <a:ln w="0">
            <a:noFill/>
          </a:ln>
        </p:spPr>
      </p:pic>
      <p:sp>
        <p:nvSpPr>
          <p:cNvPr id="372" name="TextBox 8"/>
          <p:cNvSpPr/>
          <p:nvPr/>
        </p:nvSpPr>
        <p:spPr>
          <a:xfrm>
            <a:off x="5654520" y="4429080"/>
            <a:ext cx="127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Fargo (1996</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3" name="TextBox 9"/>
          <p:cNvSpPr/>
          <p:nvPr/>
        </p:nvSpPr>
        <p:spPr>
          <a:xfrm>
            <a:off x="3214800" y="44290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Raging Bull-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HIGHEST GROSSING GANGSTER CRIME FILMS</a:t>
            </a:r>
            <a:endParaRPr b="0" lang="en-US" sz="40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ross revenue is the amount of money earned by all companies involved before the price of expenses are deducted.</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Departed: $290 Million (worldwide)</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American Gangster: $266, 465,637</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odfather 2: $193,000,000</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Heat: $187,436,818</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REPITORE OF ELEMENTS </a:t>
            </a:r>
            <a:br>
              <a:rPr sz="4000"/>
            </a:br>
            <a:r>
              <a:rPr b="0" lang="en-GB" sz="1800" spc="-1" strike="noStrike">
                <a:solidFill>
                  <a:srgbClr val="775f55"/>
                </a:solidFill>
                <a:latin typeface="Arial Narrow"/>
              </a:rPr>
              <a:t>Ideological themes and narrative. </a:t>
            </a:r>
            <a:endParaRPr b="0" lang="en-US" sz="1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otic locales for crimes often add an element of adventure and wealth.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TINUED ...</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lm gangsters are usually materialistic, street-smart, immoral, meglo-maniacal, and self-destructive. Rivalry with other criminals in gangster warfare is often a significant plot characteristic.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ime plots also include questions such as how the criminal will be apprehended by police, private eyes, special agents or lawful authorities, or mysteries such as who stole the valued object.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y rise to power with a tough cruel facade while showing an ambitious desire for success and recognition, but underneath they can express sensitivity and gentleness.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 </cp:lastModifiedBy>
  <dcterms:modified xsi:type="dcterms:W3CDTF">2010-02-13T13:33:48Z</dcterms:modified>
  <cp:revision>9</cp:revision>
  <dc:subject/>
  <dc:title>HISTORY OF GANGSTER CRIME </dc:title>
</cp:coreProperties>
</file>