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6BD-DC56-4826-8FD7-52155F74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4EE-1E4E-4317-BB90-A21F64E9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489-0893-4946-98FB-CAAEF86B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95E4-E562-4C4F-8859-D823A526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92FE1-3D2D-4D18-A8CA-B1F458A1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3DAC2-6C5B-4169-868E-A0F8CA59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A874C-6F9B-4C07-8C95-0B680A78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C5BFE-B269-4210-A59F-5D469AC5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2A534-FE85-499F-9B70-60CF721B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066AC-8D0E-4544-920A-DE9ECB95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43A92-377C-4855-AFD9-1FFF85C9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B4CE-0B78-4D60-9F55-FCB63255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7E9BE-1968-46EB-BA6B-6CDF082B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23143-71B3-499D-8236-CDE8FA1C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149D1-258B-4819-8C21-27CAD717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4B1BF-B1E1-484A-BA73-B8FEFCE8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F3635-C3B7-4A38-8A8D-6AB662E2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9E8B-6787-4DB3-B0B8-967DA66B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C04-B050-4F39-AF23-DDD7F4AA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9D2-A639-4593-AFB2-2C885AFF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ECB0-7ABB-4EB1-977B-75ACFC58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C92-9365-4B2C-BAF5-18641005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703-BDEF-41BC-910F-EC9D32C2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B23-28B1-40EE-A612-2DAEC618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8C03-1895-4C10-B0AA-6064E73F5F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1239-A8B5-4BAE-BA1F-3C78F367A8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48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sider essay structure in relation to timed trailer ess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tinue to develop general knowledge of film mark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velop detailed understanding of the conventions of film magazine front co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2627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ell lin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Football and car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‘premiership star cars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Girls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soapbab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Abi Titmuss, Junk food: Free fry up offer,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Crime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’notorious serial killers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Langu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ormal/Sensational Language- ‘soapbabes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Form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Larger than A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tyle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Glossy, vibrant primary colours, tabloid. Boxes and bann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1773360"/>
            <a:ext cx="261144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Target Aud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ale Age: 18-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771640" y="1699920"/>
            <a:ext cx="1008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835280" y="3284280"/>
            <a:ext cx="19447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8101080" y="2205000"/>
            <a:ext cx="71280" cy="151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5877000"/>
            <a:ext cx="172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2997360"/>
            <a:ext cx="288108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Repres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xualised Images of femininity-Soap Stars in bikinis, male fantasies. Approachable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‘girls next do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ages of iconic footballers, Rooney etc. and their flash motors. ‘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3559320" cy="5950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84720" y="0"/>
            <a:ext cx="284508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uts’ –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onnotations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testicles , the nuts or t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bollocks meaning very good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lso nuts a little zany crazy, not seriou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2627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ell lin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‘’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eet the joker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PLUS!’List of films- new releas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Langu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ormal/Direct address quo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Form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Larger than A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tyle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limited colour scheme, house sty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300720" y="1773360"/>
            <a:ext cx="261144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Target Aud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ale Age: 18-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71640" y="1699920"/>
            <a:ext cx="1008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35280" y="3284280"/>
            <a:ext cx="19447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101080" y="2205000"/>
            <a:ext cx="71280" cy="151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5877000"/>
            <a:ext cx="172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3068640"/>
            <a:ext cx="28814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ister image of ‘The Joker’ form ‘Batman: The Dark Knight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Pho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 shot in a seated pose which is unusual. A production shot form the film. 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476280"/>
            <a:ext cx="2844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mpire’ –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onnotations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Grandness. Also an old cinema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92280" y="981000"/>
            <a:ext cx="38419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3056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70160" y="189000"/>
            <a:ext cx="4678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00400" y="189000"/>
            <a:ext cx="45766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ront Cover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335736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notation task: From the magazine front covers annotate using post its – focus on the key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technical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linguistic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asp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240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mpare and contrast techniques used on 2 film magazines of your ch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im to write at least 1 side of A4 – COMPLETE FOR HO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240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mpare and contrast techniques used on 2 film magazines of your ch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im to write at least 1 side of A4 – COMPLETE FOR HO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5724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Watch Film Marketing Document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ake notes abou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ything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new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you have learnt about how a film might be marke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y marketing techniques that you thought were particularly effective/ineff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Velvet Goldmine Poster"/>
          <p:cNvPicPr/>
          <p:nvPr/>
        </p:nvPicPr>
        <p:blipFill>
          <a:blip r:embed="rId1"/>
          <a:stretch/>
        </p:blipFill>
        <p:spPr>
          <a:xfrm>
            <a:off x="2556000" y="189000"/>
            <a:ext cx="423216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724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ssay feedba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3640" y="1604520"/>
            <a:ext cx="8280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tructure and grammar generally needs improving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Introduction – Main Body – 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pelling/sentence struct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More varied mention of conventions would have helped some of your ma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ssay feedba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280" y="131616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Do not be too disheartened by your grade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Your knowledge and understanding will develop over the ye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xemplar 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280" y="131616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ad through the sheet given to you and discuss in pairs these ques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s it different to your ess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echniques does it use that you could use in your next ess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he Magazine For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atever the genre and target audience most magazines conform to a set of formal conven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ve a discernible front cover with main image and masthead 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ve a contents p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clude adve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eature arti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n you think of any other conven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ilm Magazine con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atest n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views of cinema, DVD and soundtrack rel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n you think of any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mportance of Front Cov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nk about the number of magazines competing for your attention in a large WHSmiths for example. The front cover has to appe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magazine front cover performs a crucial role in enticing a reader to the public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strong sense of the contents and style of the magazine must be conveyed by their front cov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6868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ANALYSING MAGAZINE FRONT COV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Tone and Sty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lain why particular typefaces, types of graphics and other stylistic conventions are us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Sell-lines/Splash/Slog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lain the purpose and effectiveness of the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Masthe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notations/ puns of title, font, size and colo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Continued…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Competitions and freeb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y do the magazine include the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Main Im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se of a famous actor - what kind of representation? How do they pose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Target Aud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o do you think the target audience i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w does the reader interact with the magazin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else appears on the cove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16:23:57Z</dcterms:created>
  <dc:creator>tt</dc:creator>
  <dc:description/>
  <dc:language>en-US</dc:language>
  <cp:lastModifiedBy>#</cp:lastModifiedBy>
  <dcterms:modified xsi:type="dcterms:W3CDTF">2009-10-13T13:36:07Z</dcterms:modified>
  <cp:revision>80</cp:revision>
  <dc:subject/>
  <dc:title>SECTION B: COMPARATIVE TEXTUAL STUDY</dc:title>
</cp:coreProperties>
</file>