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15E5-64EA-454A-AD51-0F691F405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3B77-A6D1-46D4-BF5C-D610970AF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4D02-5088-4DF6-B553-7E404B9A9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369B-9F37-47E5-9D3C-0654A3FC6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FDBC1D-236C-4DAA-8304-8715DD11F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AC521A-2AC7-4E2E-994C-1464AEB72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A8A2E7-3A9A-4C19-99CA-52C87F5B0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F3AD5C-C9C3-43AD-B5D4-778107BC1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BA388E-2122-486B-85F0-002456DB8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5974CC-DC84-48AC-9028-18BB4C227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C77BAF-E3D0-46F4-9C3F-79FA5B5E0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FD9D-1388-4396-AB31-36D46A0CF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29DA73-B4D0-4F90-AABD-DE233426F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4E3D5B-8E18-4B13-9941-FD2F5E383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66B7F9-F6AB-4A9F-B1BC-89A9258F9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80111F-EEB0-48F7-B57A-894E1B27D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9756DE-3843-4047-ABFE-14AE8815F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6C8E-467F-4849-9F46-8102BB551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3426-B887-4F49-9250-652781841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4218-5EE4-4D6A-9DB4-277AB3346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2784-254C-4604-B3B4-5B4609B22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5BD0-4FDD-4FF2-A7DB-0B17AB07C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3288-4B6F-455D-B4D9-ACA39D8D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5DC4-B834-40DA-AFA3-7A4BBA07E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8EB1E-8226-4DF6-8935-64D95B6CB54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41B9E-553D-4173-8C3E-4D15F7C97D5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9548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Learning Objectiv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onsider essay structure in relation to timed trailer essay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ontinue to develop general knowledge of film marke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evelop detailed understanding of the conventions of film magazine front cov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2627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ff"/>
                </a:solidFill>
                <a:uFillTx/>
                <a:latin typeface="Tahoma"/>
              </a:rPr>
              <a:t>Sell lines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Football and car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;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‘premiership star cars’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ff"/>
                </a:solidFill>
                <a:uFillTx/>
                <a:latin typeface="Tahoma"/>
              </a:rPr>
              <a:t>Girls: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GB" sz="1800" spc="-1" strike="noStrike">
                <a:solidFill>
                  <a:srgbClr val="ffffff"/>
                </a:solidFill>
                <a:latin typeface="Tahoma"/>
              </a:rPr>
              <a:t>soapbabes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, Abi Titmuss, Junk food: Free fry up offer, </a:t>
            </a:r>
            <a:r>
              <a:rPr b="1" lang="en-GB" sz="1800" spc="-1" strike="noStrike" u="sng">
                <a:solidFill>
                  <a:srgbClr val="ffffff"/>
                </a:solidFill>
                <a:uFillTx/>
                <a:latin typeface="Tahoma"/>
              </a:rPr>
              <a:t>Crime: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GB" sz="1800" spc="-1" strike="noStrike">
                <a:solidFill>
                  <a:srgbClr val="ffffff"/>
                </a:solidFill>
                <a:latin typeface="Tahoma"/>
              </a:rPr>
              <a:t>’notorious serial killers’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ff"/>
                </a:solidFill>
                <a:uFillTx/>
                <a:latin typeface="Tahoma"/>
              </a:rPr>
              <a:t>Languag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formal/Sensational Language- ‘soapbabes’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ff"/>
                </a:solidFill>
                <a:uFillTx/>
                <a:latin typeface="Tahoma"/>
              </a:rPr>
              <a:t>Form: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Larger than A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ff"/>
                </a:solidFill>
                <a:uFillTx/>
                <a:latin typeface="Tahoma"/>
              </a:rPr>
              <a:t>Style: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Glossy, vibrant primary colours, tabloid. Boxes and banner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6300720" y="1773360"/>
            <a:ext cx="2611440" cy="15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ff"/>
                </a:solidFill>
                <a:uFillTx/>
                <a:latin typeface="Tahoma"/>
              </a:rPr>
              <a:t>Target Audi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Male Age: 18-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2771640" y="1699920"/>
            <a:ext cx="100836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1835280" y="3284280"/>
            <a:ext cx="1944720" cy="43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8101080" y="2205000"/>
            <a:ext cx="71280" cy="1511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5877000"/>
            <a:ext cx="172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12000" y="2997360"/>
            <a:ext cx="2881080" cy="35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ff"/>
                </a:solidFill>
                <a:uFillTx/>
                <a:latin typeface="Tahoma"/>
              </a:rPr>
              <a:t>Represen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xualised Images of femininity-Soap Stars in bikinis, male fantasies. Approachable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‘girls next door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mages of iconic footballers, Rooney etc. and their flash motors. ‘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484360" y="404640"/>
            <a:ext cx="3559320" cy="59500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084720" y="0"/>
            <a:ext cx="2845080" cy="19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Nuts’ –</a:t>
            </a: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connotations of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testicles , the nuts or th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bollocks meaning very good!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Also nuts a little zany crazy, not seriou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1483920"/>
            <a:ext cx="2627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ff"/>
                </a:solidFill>
                <a:uFillTx/>
                <a:latin typeface="Tahoma"/>
              </a:rPr>
              <a:t>Sell lines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‘’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meet the joker’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i="1" lang="en-GB" sz="1800" spc="-1" strike="noStrike">
                <a:solidFill>
                  <a:srgbClr val="ffffff"/>
                </a:solidFill>
                <a:latin typeface="Tahoma"/>
              </a:rPr>
              <a:t>PLUS!’List of films- new releas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ff"/>
                </a:solidFill>
                <a:uFillTx/>
                <a:latin typeface="Tahoma"/>
              </a:rPr>
              <a:t>Languag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formal/Direct address quot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ff"/>
                </a:solidFill>
                <a:uFillTx/>
                <a:latin typeface="Tahoma"/>
              </a:rPr>
              <a:t>Form: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Larger than A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 u="sng">
                <a:solidFill>
                  <a:srgbClr val="ffffff"/>
                </a:solidFill>
                <a:uFillTx/>
                <a:latin typeface="Tahoma"/>
              </a:rPr>
              <a:t>Style: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limited colour scheme, house styl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6300720" y="1773360"/>
            <a:ext cx="2611440" cy="15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ff"/>
                </a:solidFill>
                <a:uFillTx/>
                <a:latin typeface="Tahoma"/>
              </a:rPr>
              <a:t>Target Audi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Male Age: 18-3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771640" y="1699920"/>
            <a:ext cx="100836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835280" y="3284280"/>
            <a:ext cx="1944720" cy="43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8101080" y="2205000"/>
            <a:ext cx="71280" cy="1511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403280" y="5877000"/>
            <a:ext cx="172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84720" y="3068640"/>
            <a:ext cx="288144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ff"/>
                </a:solidFill>
                <a:uFillTx/>
                <a:latin typeface="Tahoma"/>
              </a:rPr>
              <a:t>Im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nister image of ‘The Joker’ form ‘Batman: The Dark Knight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ff"/>
                </a:solidFill>
                <a:uFillTx/>
                <a:latin typeface="Tahoma"/>
              </a:rPr>
              <a:t>Photograph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ong shot in a seated pose which is unusual. A production shot form the film. Wh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299280" y="476280"/>
            <a:ext cx="2844720" cy="12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Empire’ –</a:t>
            </a: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connotations of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Grandness. Also an old cinema 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492280" y="981000"/>
            <a:ext cx="384192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230560" y="189000"/>
            <a:ext cx="50054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270160" y="189000"/>
            <a:ext cx="46782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300400" y="189000"/>
            <a:ext cx="457668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920" y="1483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Front Cover Analysi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9640" y="335736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nnotation task: From the magazine front covers annotate using post its – focus on the key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Tahoma"/>
              </a:rPr>
              <a:t>technical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Tahoma"/>
              </a:rPr>
              <a:t>linguistic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aspec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1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24000" y="442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Task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ompare and contrast techniques used on 2 film magazines of your cho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im to write at least 1 side of A4 – COMPLETE FOR HOMEWO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4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9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324000" y="442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Task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ompare and contrast techniques used on 2 film magazines of your cho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im to write at least 1 side of A4 – COMPLETE FOR HOMEWO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2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7" dur="2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57240" y="188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Watch Film Marketing Documentar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ake notes about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nything </a:t>
            </a:r>
            <a:r>
              <a:rPr b="1" lang="en-GB" sz="2800" spc="-1" strike="noStrike" u="sng">
                <a:solidFill>
                  <a:srgbClr val="ffffff"/>
                </a:solidFill>
                <a:uFillTx/>
                <a:latin typeface="Tahoma"/>
              </a:rPr>
              <a:t>new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you have learnt about how a film might be marke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ny marketing techniques that you thought were particularly effective/ineffec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Velvet Goldmine Poster"/>
          <p:cNvPicPr/>
          <p:nvPr/>
        </p:nvPicPr>
        <p:blipFill>
          <a:blip r:embed="rId1"/>
          <a:stretch/>
        </p:blipFill>
        <p:spPr>
          <a:xfrm>
            <a:off x="2556000" y="189000"/>
            <a:ext cx="4232160" cy="63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7240" y="-243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Essay feedback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23640" y="1604520"/>
            <a:ext cx="8280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Structure and grammar generally needs improving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Introduction – Main Body – Conclus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Spelling/sentence structur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More varied mention of conventions would have helped some of your mark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Essay feedback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39280" y="1316160"/>
            <a:ext cx="8280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Do not be too disheartened by your grades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Your knowledge and understanding will develop over the yea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Exemplar work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39280" y="1316160"/>
            <a:ext cx="8280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Read through the sheet given to you and discuss in pairs these question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is it different to your essay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techniques does it use that you could use in your next essay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The Magazine For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Whatever the genre and target audience most magazines conform to a set of formal conventi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Have a discernible front cover with main image and masthead et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Have a contents p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nclude adver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Feature artic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an you think of any other convention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Film Magazine conven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nterview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Latest new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Reviews of cinema, DVD and soundtrack relea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an you think of any oth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Importance of Front Cov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ink about the number of magazines competing for your attention in a large WHSmiths for example. The front cover has to appe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 magazine front cover performs a crucial role in enticing a reader to the public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 strong sense of the contents and style of the magazine must be conveyed by their front cov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68680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ANALYSING MAGAZINE FRONT COVER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ahoma"/>
              </a:rPr>
              <a:t>Tone and Styl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xplain why particular typefaces, types of graphics and other stylistic conventions are used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ahoma"/>
              </a:rPr>
              <a:t>Sell-lines/Splash/Slog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xplain the purpose and effectiveness of thes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ahoma"/>
              </a:rPr>
              <a:t>Masthe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onnotations/ puns of title, font, size and colo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Continued…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ahoma"/>
              </a:rPr>
              <a:t>Competitions and freeb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hy do the magazine include thes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ahoma"/>
              </a:rPr>
              <a:t>Main Ima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Use of a famous actor - what kind of representation? How do they pose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ahoma"/>
              </a:rPr>
              <a:t>Target Audie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ho do you think the target audience i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How does the reader interact with the magazin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hat else appears on the cove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2T16:23:57Z</dcterms:created>
  <dc:creator>tt</dc:creator>
  <dc:description/>
  <dc:language>en-US</dc:language>
  <cp:lastModifiedBy>#</cp:lastModifiedBy>
  <dcterms:modified xsi:type="dcterms:W3CDTF">2009-10-13T13:36:07Z</dcterms:modified>
  <cp:revision>80</cp:revision>
  <dc:subject/>
  <dc:title>SECTION B: COMPARATIVE TEXTUAL STUDY</dc:title>
</cp:coreProperties>
</file>