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00E-97CA-4EEF-AF8F-D56FB86D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26E-9C3D-4D2A-B46C-5E8F7405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D99-0FFC-4F8E-8A1E-6DAD4450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92A-8234-482B-9B70-889CA1C6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14CC5-B1A0-4A3A-96E9-E858C97E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6732C-AF31-4B07-B1E1-354D2E7C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7989F-2601-458F-8D1B-0FE6DBC5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2090E-BEE1-450F-B92C-AACB2147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C8622-A5CC-4BA9-BDA5-249C943D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146EF-1982-49CD-BBDE-5AF273EE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BFABF-B4AE-4AE7-9FA4-1CB2345D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701-D3AE-4E63-B0B6-B843DAD7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A4EF9-F249-46B9-B311-E98D8EF7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5EFDD-C383-433E-90C0-B7E890E5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4E93B-0BE0-4A3E-81CC-6AD737B9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76693-9612-4260-873A-E8DAAFCF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700F8-A08E-44C6-8D30-10F26341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D1A-739F-4F9A-8837-3AE7A729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208-8C6C-4B97-A9BC-45867997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BCB-9A84-49A0-BE9A-8F131233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B72-F3A0-48CD-9BD8-C954F30B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80C-2646-4289-B4F7-49F1809E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B07-8898-4F7B-8D30-F8D83C3A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309-BC6C-460F-90AA-2DAA5D97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A742-0C92-44B5-B00E-D923842B38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B6B4-F74A-4647-B491-87784C0089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48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der essay structure in relation to timed trailer ess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tinue to develop general knowledge of film mark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elop detailed understanding of the conventions of film magazine front co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262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ell lin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ootball and ca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premiership star car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Girls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soapbab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Abi Titmuss, Junk food: Free fry up offer,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Crim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’notorious serial killer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/Sensational Language- ‘soapbabe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Form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arger than A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tyl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Glossy, vibrant primary colours, tabloid. Boxes and bann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1773360"/>
            <a:ext cx="26114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le Age: 18-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771640" y="169992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835280" y="3284280"/>
            <a:ext cx="1944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101080" y="2205000"/>
            <a:ext cx="712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5877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997360"/>
            <a:ext cx="288108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Repres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xualised Images of femininity-Soap Stars in bikinis, male fantasies. Approachable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girls next do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s of iconic footballers, Rooney etc. and their flash motors. ‘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559320" cy="5950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84720" y="0"/>
            <a:ext cx="28450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uts’ –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nnot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testicles , the nuts or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ollocks meaning very good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lso nuts a little zany crazy, not seriou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262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ell lin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’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eet the joker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PLUS!’List of films- new releas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/Direct address quo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Form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arger than A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tyl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imited colour scheme, house sty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300720" y="1773360"/>
            <a:ext cx="26114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le Age: 18-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71640" y="169992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35280" y="3284280"/>
            <a:ext cx="1944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01080" y="2205000"/>
            <a:ext cx="712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5877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068640"/>
            <a:ext cx="28814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ister image of ‘The Joker’ form ‘Batman: The Dark Knight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Pho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shot in a seated pose which is unusual. A production shot form the film.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476280"/>
            <a:ext cx="2844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mpire’ –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nnot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Grandness. Also an old cinema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92280" y="981000"/>
            <a:ext cx="38419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7016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00400" y="189000"/>
            <a:ext cx="4576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ront Cover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33573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notation task: From the magazine front covers annotate using post its – focus on the ke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technica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linguistic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sp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240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are and contrast techniques used on 2 film magazines of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m to write at least 1 side of A4 – COMPLETE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240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are and contrast techniques used on 2 film magazines of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m to write at least 1 side of A4 – COMPLETE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5724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Watch Film Marketing Document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ake notes abo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thing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new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you have learnt about how a film might be marke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 marketing techniques that you thought were particularly effective/ineff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Velvet Goldmine Poster"/>
          <p:cNvPicPr/>
          <p:nvPr/>
        </p:nvPicPr>
        <p:blipFill>
          <a:blip r:embed="rId1"/>
          <a:stretch/>
        </p:blipFill>
        <p:spPr>
          <a:xfrm>
            <a:off x="2556000" y="189000"/>
            <a:ext cx="42321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724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ssay 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160452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tructure and grammar generally needs improving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ntroduction – Main Body – 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pelling/sentence struct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More varied mention of conventions would have helped some of your ma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ssay 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3161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o not be too disheartened by your grad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Your knowledge and understanding will develop over the ye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xemplar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280" y="13161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ad through the sheet given to you and discuss in pairs these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s it different to your es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echniques does it use that you could use in your next es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Magazine 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ever the genre and target audience most magazines conform to a set of formal conven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discernible front cover with main image and masthead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contents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lude adve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eature arti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n you think of any other conven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ilm Magazine 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test n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views of cinema, DVD and soundtrack rel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n you think of any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mportance of Front Co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nk about the number of magazines competing for your attention in a large WHSmiths for example. The front cover has to app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magazine front cover performs a crucial role in enticing a reader to the public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strong sense of the contents and style of the magazine must be conveyed by their front cov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ANALYSING MAGAZINE FRONT COV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Tone and Sty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ain why particular typefaces, types of graphics and other stylistic conventions are us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Sell-lines/Splash/Slo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ain the purpose and effectiveness of the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Masthe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notations/ puns of title, font, size and col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ontinued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Competitions and freeb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y do the magazine include the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Main Im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 of a famous actor - what kind of representation? How do they pos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o do you think the target audience 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does the reader interact with the magaz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else appears on the cov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6:23:57Z</dcterms:created>
  <dc:creator>tt</dc:creator>
  <dc:description/>
  <dc:language>en-US</dc:language>
  <cp:lastModifiedBy>#</cp:lastModifiedBy>
  <dcterms:modified xsi:type="dcterms:W3CDTF">2009-10-13T13:36:07Z</dcterms:modified>
  <cp:revision>80</cp:revision>
  <dc:subject/>
  <dc:title>SECTION B: COMPARATIVE TEXTUAL STUDY</dc:title>
</cp:coreProperties>
</file>