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F3AF-A05F-4470-84E7-5570DDE0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F31-95B4-46CC-9A95-3732D28B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BE35-A6F8-4BCF-98FB-C75125DA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776-0F0E-4083-97DD-2B83166A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BEF44-BE1F-4309-BEB7-3D2C62B0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DD601-0E55-4DBA-877D-96326A3F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10608-5A24-40AD-9078-0A9A8475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319E3-A6BE-4E8F-9DB8-84064AC2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8D465-4941-4B52-A6C4-AEFB9B68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F7BBD-057A-44A1-94DF-CE32813B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285D8-0839-447A-9A30-4F9491D0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44BB-61A7-4E05-8C4D-0F071137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8FC54-8138-4828-ACFD-2E60E111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0DD02-E627-4DCD-8D28-E4AE7F52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9DE89-54FD-4095-B181-50904AC7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F092F-4145-43D9-82B0-33D8970D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BFA66-5DD8-400A-87DE-2EDD3213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756-DC0B-45C4-BDD5-EB5936FA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3C4-D936-449F-B953-4D319232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AE8-6109-46CD-9E1A-A422C0BF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FCE-D687-4B60-9D6B-111F505C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0D8-CC31-4980-8B7D-71390D85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2DE-D5C7-4623-9E48-80102CC4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56DD-F555-4670-9313-F01202CD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B39E-E506-4C70-89E3-E0F1B8200A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C591-5DA1-40C3-8CC8-F7757FBB20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48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sider essay structure in relation to timed trailer ess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tinue to develop general knowledge of film mark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velop detailed understanding of the conventions of film magazine front co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2627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ell line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Football and car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‘premiership star cars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Girls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soapbabe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Abi Titmuss, Junk food: Free fry up offer,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Crime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’notorious serial killers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Langu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ormal/Sensational Language- ‘soapbabes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Form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Larger than A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tyle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Glossy, vibrant primary colours, tabloid. Boxes and banne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1773360"/>
            <a:ext cx="261144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Target Aud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ale Age: 18-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771640" y="1699920"/>
            <a:ext cx="1008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835280" y="3284280"/>
            <a:ext cx="194472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8101080" y="2205000"/>
            <a:ext cx="71280" cy="151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5877000"/>
            <a:ext cx="172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2997360"/>
            <a:ext cx="288108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Repres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xualised Images of femininity-Soap Stars in bikinis, male fantasies. Approachable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‘girls next do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ages of iconic footballers, Rooney etc. and their flash motors. ‘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3559320" cy="5950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84720" y="0"/>
            <a:ext cx="284508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uts’ –</a:t>
            </a: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onnotations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testicles , the nuts or t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bollocks meaning very good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Also nuts a little zany crazy, not seriou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2627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ell line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‘’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eet the joker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PLUS!’List of films- new releas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Langu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ormal/Direct address quo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Form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Larger than A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tyle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limited colour scheme, house sty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6300720" y="1773360"/>
            <a:ext cx="261144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Target Aud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ale Age: 18-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71640" y="1699920"/>
            <a:ext cx="1008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35280" y="3284280"/>
            <a:ext cx="194472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101080" y="2205000"/>
            <a:ext cx="71280" cy="151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5877000"/>
            <a:ext cx="172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4720" y="3068640"/>
            <a:ext cx="28814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ister image of ‘The Joker’ form ‘Batman: The Dark Knight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Pho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 shot in a seated pose which is unusual. A production shot form the film. Wh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476280"/>
            <a:ext cx="2844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mpire’ –</a:t>
            </a: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onnotations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Grandness. Also an old cinema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92280" y="981000"/>
            <a:ext cx="38419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3056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70160" y="189000"/>
            <a:ext cx="4678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00400" y="189000"/>
            <a:ext cx="45766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ront Cover Analy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335736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notation task: From the magazine front covers annotate using post its – focus on the key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technical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linguistic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asp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240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mpare and contrast techniques used on 2 film magazines of your ch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im to write at least 1 side of A4 – COMPLETE FOR HO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240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mpare and contrast techniques used on 2 film magazines of your ch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im to write at least 1 side of A4 – COMPLETE FOR HO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5724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Watch Film Marketing Document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ake notes abou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ything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new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you have learnt about how a film might be marke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y marketing techniques that you thought were particularly effective/ineffe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Velvet Goldmine Poster"/>
          <p:cNvPicPr/>
          <p:nvPr/>
        </p:nvPicPr>
        <p:blipFill>
          <a:blip r:embed="rId1"/>
          <a:stretch/>
        </p:blipFill>
        <p:spPr>
          <a:xfrm>
            <a:off x="2556000" y="189000"/>
            <a:ext cx="423216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724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ssay feedba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3640" y="1604520"/>
            <a:ext cx="8280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tructure and grammar generally needs improving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Introduction – Main Body – Concl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pelling/sentence struct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More varied mention of conventions would have helped some of your ma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ssay feedba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9280" y="131616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Do not be too disheartened by your grade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Your knowledge and understanding will develop over the ye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xemplar 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280" y="131616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ad through the sheet given to you and discuss in pairs these ques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s it different to your ess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echniques does it use that you could use in your next ess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he Magazine For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atever the genre and target audience most magazines conform to a set of formal conven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ve a discernible front cover with main image and masthead e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ve a contents p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clude adve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eature arti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n you think of any other conven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ilm Magazine con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atest n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views of cinema, DVD and soundtrack rel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n you think of any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mportance of Front Cov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ink about the number of magazines competing for your attention in a large WHSmiths for example. The front cover has to appe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magazine front cover performs a crucial role in enticing a reader to the public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strong sense of the contents and style of the magazine must be conveyed by their front cov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6868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ANALYSING MAGAZINE FRONT COV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Tone and Sty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plain why particular typefaces, types of graphics and other stylistic conventions are us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Sell-lines/Splash/Slog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plain the purpose and effectiveness of the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Masthe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notations/ puns of title, font, size and colo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Continued…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Competitions and freeb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y do the magazine include thes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Main Im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se of a famous actor - what kind of representation? How do they pose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Target Aud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o do you think the target audience i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w does the reader interact with the magazin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else appears on the cove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16:23:57Z</dcterms:created>
  <dc:creator>tt</dc:creator>
  <dc:description/>
  <dc:language>en-US</dc:language>
  <cp:lastModifiedBy>#</cp:lastModifiedBy>
  <dcterms:modified xsi:type="dcterms:W3CDTF">2009-10-13T13:36:07Z</dcterms:modified>
  <cp:revision>80</cp:revision>
  <dc:subject/>
  <dc:title>SECTION B: COMPARATIVE TEXTUAL STUDY</dc:title>
</cp:coreProperties>
</file>