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23A0-5BC3-45E6-9503-BD8DF62D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F334-A5A9-46E1-9DC7-C7E45E64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1E12-7501-4158-B46C-F166F952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65FB-2C26-438B-8B75-D92CE2E4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B6AC3-0F61-4824-B2A0-85C0031C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1BDA3-AEA3-4B8A-97C6-48782D62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683CC-FC88-4FFE-BF30-F8BBF554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61C24-8018-4A15-88A2-2D070797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A0375-1A10-4534-B433-E3D29D0D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032D2-E73E-4A8C-8F38-F77A1DD4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2A22F-7A7E-4AE5-B3E8-79BF7B39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3492-8ED4-4390-90C6-16FF681F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25A61-5311-4F3A-B31B-D282115A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DFF09-4F2D-4BD3-98FF-33A880BC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54B30-60DC-4EC9-BB85-B41015A7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9196F-79AB-46C0-9743-7903EF5C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8DF89-99D7-4D94-B924-6BC27A53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86AB-7C07-40B2-8FFC-3C671123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80CD-B5C6-4717-916F-4223E6E6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7C34-9EE6-4AA3-B416-CB7EE0B6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160D-6D3E-416C-BFC2-E1870E02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8720-467D-4028-A017-FB2D0FFE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A29D-6271-4810-B780-D887C1B5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9699-5377-42C3-8B0C-FC66A7DA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B981-00D9-4DA0-84A7-D03B3D20A8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2624-172B-4FCD-AFA3-B7309E4AEB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48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nsider essay structure in relation to timed trailer ess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ntinue to develop general knowledge of film mark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velop detailed understanding of the conventions of film magazine front cov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2627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Sell line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Football and car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‘premiership star cars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Girls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soapbabe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Abi Titmuss, Junk food: Free fry up offer,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Crime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’notorious serial killers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Langu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formal/Sensational Language- ‘soapbabes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Form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Larger than A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Style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Glossy, vibrant primary colours, tabloid. Boxes and banne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1773360"/>
            <a:ext cx="261144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Target Aud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Male Age: 18-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771640" y="1699920"/>
            <a:ext cx="1008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835280" y="3284280"/>
            <a:ext cx="194472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8101080" y="2205000"/>
            <a:ext cx="71280" cy="151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5877000"/>
            <a:ext cx="172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2997360"/>
            <a:ext cx="288108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Repres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xualised Images of femininity-Soap Stars in bikinis, male fantasies. Approachable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‘girls next do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ages of iconic footballers, Rooney etc. and their flash motors. ‘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84360" y="404640"/>
            <a:ext cx="3559320" cy="5950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084720" y="0"/>
            <a:ext cx="284508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uts’ –</a:t>
            </a: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connotations o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testicles , the nuts or t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bollocks meaning very good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Also nuts a little zany crazy, not seriou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2627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Sell line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‘’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meet the joker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PLUS!’List of films- new releas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Langu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formal/Direct address quo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Form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Larger than A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Style: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limited colour scheme, house styl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6300720" y="1773360"/>
            <a:ext cx="261144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Target Aud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Male Age: 18-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771640" y="1699920"/>
            <a:ext cx="1008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835280" y="3284280"/>
            <a:ext cx="194472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8101080" y="2205000"/>
            <a:ext cx="71280" cy="151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03280" y="5877000"/>
            <a:ext cx="172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4720" y="3068640"/>
            <a:ext cx="288144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Im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nister image of ‘The Joker’ form ‘Batman: The Dark Knight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Phot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 shot in a seated pose which is unusual. A production shot form the film. Wh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99280" y="476280"/>
            <a:ext cx="2844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mpire’ –</a:t>
            </a: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connotations o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Grandness. Also an old cinema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92280" y="981000"/>
            <a:ext cx="38419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30560" y="189000"/>
            <a:ext cx="500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70160" y="189000"/>
            <a:ext cx="46782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00400" y="189000"/>
            <a:ext cx="45766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1483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Front Cover Analy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335736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nnotation task: From the magazine front covers annotate using post its – focus on the key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technical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linguistic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asp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24000" y="4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mpare and contrast techniques used on 2 film magazines of your cho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im to write at least 1 side of A4 – COMPLETE FOR HO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24000" y="4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mpare and contrast techniques used on 2 film magazines of your cho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im to write at least 1 side of A4 – COMPLETE FOR HO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5724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Watch Film Marketing Documenta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ake notes abou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ything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new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you have learnt about how a film might be marke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y marketing techniques that you thought were particularly effective/ineffe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Velvet Goldmine Poster"/>
          <p:cNvPicPr/>
          <p:nvPr/>
        </p:nvPicPr>
        <p:blipFill>
          <a:blip r:embed="rId1"/>
          <a:stretch/>
        </p:blipFill>
        <p:spPr>
          <a:xfrm>
            <a:off x="2556000" y="189000"/>
            <a:ext cx="423216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7240" y="-24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Essay feedbac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3640" y="1604520"/>
            <a:ext cx="8280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Structure and grammar generally needs improving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Introduction – Main Body – Conclu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Spelling/sentence struct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More varied mention of conventions would have helped some of your mark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Essay feedbac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9280" y="131616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Do not be too disheartened by your grades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Your knowledge and understanding will develop over the ye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Exemplar wor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9280" y="131616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ad through the sheet given to you and discuss in pairs these ques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s it different to your ess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techniques does it use that you could use in your next ess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he Magazine For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hatever the genre and target audience most magazines conform to a set of formal conven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ve a discernible front cover with main image and masthead e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ve a contents p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clude adve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eature artic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n you think of any other conventio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Film Magazine conven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tervi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atest n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views of cinema, DVD and soundtrack rele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an you think of any 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mportance of Front Cov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ink about the number of magazines competing for your attention in a large WHSmiths for example. The front cover has to appe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magazine front cover performs a crucial role in enticing a reader to the public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strong sense of the contents and style of the magazine must be conveyed by their front cov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6868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ANALYSING MAGAZINE FRONT COVE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Tone and Sty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plain why particular typefaces, types of graphics and other stylistic conventions are use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Sell-lines/Splash/Slog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plain the purpose and effectiveness of thes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Masthe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nnotations/ puns of title, font, size and colo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Continued…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Competitions and freeb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y do the magazine include thes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Main Im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se of a famous actor - what kind of representation? How do they pose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Target Audi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o do you think the target audience i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ow does the reader interact with the magazin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at else appears on the cove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16:23:57Z</dcterms:created>
  <dc:creator>tt</dc:creator>
  <dc:description/>
  <dc:language>en-US</dc:language>
  <cp:lastModifiedBy>#</cp:lastModifiedBy>
  <dcterms:modified xsi:type="dcterms:W3CDTF">2009-10-13T13:36:07Z</dcterms:modified>
  <cp:revision>80</cp:revision>
  <dc:subject/>
  <dc:title>SECTION B: COMPARATIVE TEXTUAL STUDY</dc:title>
</cp:coreProperties>
</file>