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3.jpeg" ContentType="image/jpeg"/>
  <Override PartName="/ppt/media/image12.png" ContentType="image/png"/>
  <Override PartName="/ppt/media/image29.png" ContentType="image/png"/>
  <Override PartName="/ppt/media/image6.png" ContentType="image/png"/>
  <Override PartName="/ppt/media/image20.png" ContentType="image/png"/>
  <Override PartName="/ppt/media/image5.png" ContentType="image/png"/>
  <Override PartName="/ppt/media/image8.jpeg" ContentType="image/jpeg"/>
  <Override PartName="/ppt/media/image7.jpeg" ContentType="image/jpeg"/>
  <Override PartName="/ppt/media/image28.png" ContentType="image/png"/>
  <Override PartName="/ppt/media/image13.jpeg" ContentType="image/jpeg"/>
  <Override PartName="/ppt/media/image9.png" ContentType="image/png"/>
  <Override PartName="/ppt/media/image11.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3.png" ContentType="image/png"/>
  <Override PartName="/ppt/media/image17.jpeg" ContentType="image/jpeg"/>
  <Override PartName="/ppt/media/image26.png" ContentType="image/png"/>
  <Override PartName="/ppt/media/image10.png" ContentType="image/png"/>
  <Override PartName="/ppt/media/image1.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4.jpeg" ContentType="image/jpe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9E23-CB70-483F-8BA5-0462A0597CC2}"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1C51-A784-4B57-9B84-4994D2A3963B}" type="slidenum">
              <a:rPr b="0" lang="en-GB"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C4D0-276D-48C8-A47D-AC2EF6BEEC81}" type="slidenum">
              <a:rPr b="0" lang="en-GB"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A081-6056-457B-AF59-A8EE9F958518}" type="slidenum">
              <a:rPr b="0" lang="en-GB"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66588-D40F-461A-8224-02BE246AE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51EE8-D97F-4411-B088-11872F901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F5A70-21C9-4B57-9BB6-7F0018207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03FA5-E023-4104-A526-374A6039A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F6E8A-EEAB-4E94-992D-D49A4A495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AE845-A719-466D-A2F0-7F71E3265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0E0FB-27BC-47DE-8F46-577FC9C51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AE8B3-5877-46E2-9C31-6B3438CA6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B6214-0EED-4F8E-ACC5-845414057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6FAED-CC84-4C28-82D7-F5C63843F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175F4-06A8-4ED1-840C-8F4C8FA36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130E9-C7F3-4833-894B-4C1CAFB61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CE955-EE9B-4643-82A9-F906D46CF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7269B-E94E-4B5B-8D64-712E4504E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D8F05-1E88-44A4-BD33-764A87DE0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A2F2C-93D3-4C87-868C-9FB421A70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A19C4-1504-4E90-B39F-5BCCD8E2B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3C3566-837F-486A-A1CB-D60A465DF0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462C5-C0C7-488E-8083-BC13425D6A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784493-AE70-468B-AB8E-33FFE5E826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819A1B-65A1-445C-AFBA-64B33EE77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83AA10-8AA7-4429-9164-2B57043B08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FFDAD-0BA9-45A9-98D4-C6CFB5EED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13F13B-7066-427B-8399-C082546956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6A6636-F057-437C-891E-50FF7DE4C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51079-542D-4B23-A331-44568806F9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3B3A0-9DC7-411E-8360-948E20EC8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24E138-DDFA-4149-8B36-AD3B0A9FFA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439205-AEB6-4810-BC5C-BFC085DD68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FFCE05-5DBA-4521-95B5-EDB0E2E5A3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814894-A4AE-4724-9587-7CF00CAEF6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CA8B00-D75D-4A6D-A15D-620E2CE142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5ED712-6D8F-43E1-B6DD-A664AD69FC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E6FEC-4376-48EA-89E6-65306686C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46EECE-5680-4C71-A984-342777C6B2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55043-9EF7-4545-9DD4-AB1F9267D4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B1381-E739-4223-BA45-8CA56E9DC5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1C022-4F28-4258-A973-B15518F93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A5D1D-064A-47CB-BDA8-E769B8BC6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1DDBF-5534-49D6-889F-1B024836B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0D8297-CE3F-478A-8296-EC0EC54DC2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C195D9-721F-40A8-B43B-89E2A3BD13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6B0A88-4135-4A7C-9395-7633082D46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16816-1827-46DF-B571-281A451AC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98521-C889-4E4A-8B88-DD3FED42C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A28E3-4354-4600-88F7-73EE9BACD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2A923-76BC-4DF6-8B1F-894D0DF75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B538B-35B2-4A5B-9FC0-546E7B01D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F2BB-B8B0-4794-AD95-25279EDD0F6F}" type="slidenum">
              <a:rPr b="0" lang="en-GB"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76C5-47A5-47FD-A9D6-D0FB945CCD87}" type="slidenum">
              <a:rPr b="0" lang="en-GB"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C6F9-43A0-401D-B00B-82F67F152BB9}" type="slidenum">
              <a:rPr b="0" lang="en-GB"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80E3-25FA-4F18-BD28-2A1174931898}" type="slidenum">
              <a:rPr b="0" lang="en-GB"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co.uk/imgres?imgurl=http://www.crystalpeakscentre.com/Images/MainImages/WHSmith.jpg&amp;imgrefurl=http://www.crystalpeakscentre.com/Retailer.aspx?Unit_No=6/7&amp;usg=__q6KuateTlSzI-dZrdpeuHUKqPaY=&amp;h=360&amp;w=420&amp;sz=154&amp;hl=en&amp;start=14&amp;um=1&amp;itbs=1&amp;tbnid=mYn3he5uueg4iM:&amp;tbnh=107&amp;tbnw=125&amp;prev=/images?q=whsmith&amp;um=1&amp;hl=en&amp;sa=N&amp;rlz=1T4ADSA_enGB339GB339&amp;tbs=isch:1" TargetMode="External"/><Relationship Id="rId2" Type="http://schemas.openxmlformats.org/officeDocument/2006/relationships/image" Target="../media/image30.jpeg"/><Relationship Id="rId3" Type="http://schemas.openxmlformats.org/officeDocument/2006/relationships/hyperlink" Target="http://images.google.co.uk/imgres?imgurl=http://stylefish.ie/fishfood/wp-content/uploads/2009/12/tesco.jpg&amp;imgrefurl=http://stylefish.ie/fishfood/2009/12/lingerie-at-tesco/&amp;usg=__q5fP6T0ZeFO7SMUI-7k655XetZM=&amp;h=395&amp;w=800&amp;sz=30&amp;hl=en&amp;start=1&amp;um=1&amp;itbs=1&amp;tbnid=r2i1jQZVoui_WM:&amp;tbnh=71&amp;tbnw=143&amp;prev=/images?q=tesco&amp;um=1&amp;hl=en&amp;rlz=1T4ADSA_enGB339GB339&amp;tbs=isch:1" TargetMode="External"/><Relationship Id="rId4" Type="http://schemas.openxmlformats.org/officeDocument/2006/relationships/image" Target="../media/image31.jpeg"/><Relationship Id="rId5" Type="http://schemas.openxmlformats.org/officeDocument/2006/relationships/hyperlink" Target="http://images.google.co.uk/imgres?imgurl=http://www.editorsweblog.org/metro.jpg&amp;imgrefurl=http://www.editorsweblog.org/newspaper/2008/10/uk_freesheet_metro_annouunces_job_cuts.php&amp;usg=__z-96rnwTjHCss1mx1abZ32KF05w=&amp;h=738&amp;w=662&amp;sz=154&amp;hl=en&amp;start=7&amp;um=1&amp;itbs=1&amp;tbnid=NKwZVC2ZufC4kM:&amp;tbnh=141&amp;tbnw=126&amp;prev=/images?q=metro+newspaper&amp;um=1&amp;hl=en&amp;rlz=1T4ADSA_enGB339GB339&amp;tbs=isch:1" TargetMode="External"/><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uk/imgres?imgurl=http://bizbox.slate.com/blog/google.jpg&amp;imgrefurl=http://bizbox.slate.com/blog/2009/01/index.php&amp;usg=__LK4xTLfd1PdJQ5_FZWySQ7Cnuz8=&amp;h=300&amp;w=425&amp;sz=34&amp;hl=en&amp;start=2&amp;um=1&amp;itbs=1&amp;tbnid=cIGPCF08mCk7nM:&amp;tbnh=89&amp;tbnw=126&amp;prev=/images?q=google&amp;um=1&amp;hl=en&amp;sa=N&amp;rlz=1T4ADSA_enGB339GB339&amp;tbs=isch:1" TargetMode="External"/><Relationship Id="rId2" Type="http://schemas.openxmlformats.org/officeDocument/2006/relationships/image" Target="../media/image7.jpeg"/><Relationship Id="rId3" Type="http://schemas.openxmlformats.org/officeDocument/2006/relationships/hyperlink" Target="http://images.google.co.uk/imgres?imgurl=http://upload.wikimedia.org/wikipedia/commons/thumb/b/b7/Wikipedia-logo.svg/600px-Wikipedia-logo.svg.png&amp;imgrefurl=http://commons.wikimedia.org/wiki/File:Wikipedia-logo.svg&amp;usg=__XzBaOASoUTAlfKY1jtAulwLBFtw=&amp;h=600&amp;w=600&amp;sz=247&amp;hl=en&amp;start=1&amp;um=1&amp;itbs=1&amp;tbnid=6_45A2XGJIqSsM:&amp;tbnh=135&amp;tbnw=135&amp;prev=/images?q=wikipedia&amp;um=1&amp;hl=en&amp;rlz=1T4ADSA_enGB339GB339&amp;tbs=isch:1" TargetMode="External"/><Relationship Id="rId4" Type="http://schemas.openxmlformats.org/officeDocument/2006/relationships/image" Target="../media/image8.jpeg"/><Relationship Id="rId5" Type="http://schemas.openxmlformats.org/officeDocument/2006/relationships/hyperlink" Target="http://www.impawards.com/index.html" TargetMode="External"/><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uk/imgres?imgurl=http://www.mushon.com/spr09/nmrs/wp-content/uploads/2009/04/imdb-logo.jpg&amp;imgrefurl=http://www.mushon.com/spr09/nmrs/tag/interface/&amp;usg=__L7OAguKd2vCpMn6KdsFO-eNHm2w=&amp;h=329&amp;w=511&amp;sz=21&amp;hl=en&amp;start=1&amp;um=1&amp;itbs=1&amp;tbnid=-Rv3OlTFUeoKDM:&amp;tbnh=84&amp;tbnw=131&amp;prev=/images?q=imdb&amp;um=1&amp;hl=en&amp;sa=N&amp;rlz=1T4ADSA_enGB339GB339&amp;tbs=isch:1" TargetMode="External"/><Relationship Id="rId2" Type="http://schemas.openxmlformats.org/officeDocument/2006/relationships/image" Target="../media/image23.jpeg"/><Relationship Id="rId3" Type="http://schemas.openxmlformats.org/officeDocument/2006/relationships/hyperlink" Target="http://images.google.co.uk/imgres?imgurl=http://www.ep-momentum.eu/Portals/0/icons-logos/youtube-logo.png&amp;imgrefurl=http://www.ep-momentum.eu/&amp;usg=__OKgxdiKH0EF5ruBXZjqukEdiz_4=&amp;h=424&amp;w=640&amp;sz=191&amp;hl=en&amp;start=2&amp;um=1&amp;itbs=1&amp;tbnid=NLKLllaxCevhfM:&amp;tbnh=91&amp;tbnw=137&amp;prev=/images?q=youtube&amp;um=1&amp;hl=en&amp;rlz=1T4ADSA_enGB339GB339&amp;tbs=isch:1"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By Tobi Bello</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t>
            </a:r>
            <a:endParaRPr b="0" lang="en-US" sz="5000" spc="-1" strike="noStrike">
              <a:solidFill>
                <a:srgbClr val="04617b"/>
              </a:solidFill>
              <a:latin typeface="Calibri"/>
            </a:endParaRPr>
          </a:p>
        </p:txBody>
      </p:sp>
      <p:pic>
        <p:nvPicPr>
          <p:cNvPr id="246" name="Content Placeholder 2" descr=""/>
          <p:cNvPicPr/>
          <p:nvPr/>
        </p:nvPicPr>
        <p:blipFill>
          <a:blip r:embed="rId1"/>
          <a:stretch/>
        </p:blipFill>
        <p:spPr>
          <a:xfrm>
            <a:off x="324000" y="974880"/>
            <a:ext cx="8381880" cy="567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Screenshots from the Film trailer</a:t>
            </a:r>
            <a:endParaRPr b="0" lang="en-US" sz="2400" spc="-1" strike="noStrike">
              <a:solidFill>
                <a:srgbClr val="04617b"/>
              </a:solidFill>
              <a:latin typeface="Calibri"/>
            </a:endParaRPr>
          </a:p>
        </p:txBody>
      </p:sp>
      <p:pic>
        <p:nvPicPr>
          <p:cNvPr id="248" name="" descr=""/>
          <p:cNvPicPr/>
          <p:nvPr/>
        </p:nvPicPr>
        <p:blipFill>
          <a:blip r:embed="rId1"/>
          <a:stretch/>
        </p:blipFill>
        <p:spPr>
          <a:xfrm>
            <a:off x="457200" y="1934640"/>
            <a:ext cx="8229600" cy="4389480"/>
          </a:xfrm>
          <a:prstGeom prst="rect">
            <a:avLst/>
          </a:prstGeom>
          <a:ln w="0">
            <a:noFill/>
          </a:ln>
        </p:spPr>
      </p:pic>
      <p:pic>
        <p:nvPicPr>
          <p:cNvPr id="249" name="Picture 2" descr=""/>
          <p:cNvPicPr/>
          <p:nvPr/>
        </p:nvPicPr>
        <p:blipFill>
          <a:blip r:embed="rId2"/>
          <a:srcRect l="20317" t="38086" r="45094" b="26757"/>
          <a:stretch/>
        </p:blipFill>
        <p:spPr>
          <a:xfrm>
            <a:off x="214200" y="1214280"/>
            <a:ext cx="2928960" cy="1928880"/>
          </a:xfrm>
          <a:prstGeom prst="rect">
            <a:avLst/>
          </a:prstGeom>
          <a:ln w="0">
            <a:noFill/>
          </a:ln>
        </p:spPr>
      </p:pic>
      <p:pic>
        <p:nvPicPr>
          <p:cNvPr id="250" name="Picture 4" descr=""/>
          <p:cNvPicPr/>
          <p:nvPr/>
        </p:nvPicPr>
        <p:blipFill>
          <a:blip r:embed="rId3">
            <a:lum bright="10000"/>
          </a:blip>
          <a:srcRect l="20350" t="48051" r="45061" b="16796"/>
          <a:stretch/>
        </p:blipFill>
        <p:spPr>
          <a:xfrm>
            <a:off x="5143680" y="1214280"/>
            <a:ext cx="3500280" cy="2000520"/>
          </a:xfrm>
          <a:prstGeom prst="rect">
            <a:avLst/>
          </a:prstGeom>
          <a:ln w="0">
            <a:noFill/>
          </a:ln>
        </p:spPr>
      </p:pic>
      <p:pic>
        <p:nvPicPr>
          <p:cNvPr id="251" name="Picture 5" descr=""/>
          <p:cNvPicPr/>
          <p:nvPr/>
        </p:nvPicPr>
        <p:blipFill>
          <a:blip r:embed="rId4"/>
          <a:srcRect l="20350" t="48051" r="45061" b="16796"/>
          <a:stretch/>
        </p:blipFill>
        <p:spPr>
          <a:xfrm>
            <a:off x="1643040" y="3571920"/>
            <a:ext cx="4500720" cy="257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What have you learned from your audience feedback?</a:t>
            </a:r>
            <a:endParaRPr b="0" lang="en-US" sz="2400" spc="-1" strike="noStrike">
              <a:solidFill>
                <a:srgbClr val="04617b"/>
              </a:solidFill>
              <a:latin typeface="Calibri"/>
            </a:endParaRPr>
          </a:p>
        </p:txBody>
      </p:sp>
      <p:pic>
        <p:nvPicPr>
          <p:cNvPr id="253" name="Picture 1" descr=""/>
          <p:cNvPicPr/>
          <p:nvPr/>
        </p:nvPicPr>
        <p:blipFill>
          <a:blip r:embed="rId1"/>
          <a:srcRect l="22550" t="19385" r="23463" b="7377"/>
          <a:stretch/>
        </p:blipFill>
        <p:spPr>
          <a:xfrm>
            <a:off x="357120" y="2000160"/>
            <a:ext cx="3286080" cy="4643640"/>
          </a:xfrm>
          <a:prstGeom prst="rect">
            <a:avLst/>
          </a:prstGeom>
          <a:ln w="0">
            <a:noFill/>
          </a:ln>
        </p:spPr>
      </p:pic>
      <p:sp>
        <p:nvSpPr>
          <p:cNvPr id="254" name="TextBox 4"/>
          <p:cNvSpPr/>
          <p:nvPr/>
        </p:nvSpPr>
        <p:spPr>
          <a:xfrm>
            <a:off x="3857760" y="2071800"/>
            <a:ext cx="4857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feedback I got back from the respondents was what I expected as I found out that what people expected to see in the film posters and film magazines was either a shot of the main character who is in love or a two shot of the potential new couple and in film trailers they expected to see two teenagers embarking on love  with some elements of an affair with some comedy moments linked with it. Furthermore I found out that males are more reluctant to go see a teenage romantic comedy than females are. 99% of my respondents said that film trailers encourage people to go and see a film as the trailer is there to attract possible audienc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28760" y="213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2400" spc="-1" strike="noStrike">
                <a:solidFill>
                  <a:srgbClr val="04617b"/>
                </a:solidFill>
                <a:latin typeface="Calibri"/>
              </a:rPr>
              <a:t>Technical/Constructional Issues</a:t>
            </a:r>
            <a:endParaRPr b="0" lang="en-US" sz="24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ving learnt how to use Adobe Photoshop during my time studying graphics at GCSE I had no problems in making my product on Photoshop. Doing my magazine and poster on photoshop made my products look professional.</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used Adobe Premiere produce a film trailer it was  a software I was not at all familiar with in fact it was the first time I have ever used the software. However I managed to get a hand of it the more I used the software.</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ting our cast together at times was difficult as they all had other things to do but we managed use their time well and got what we needed from them.</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ting the video camera at times was also difficult as it was given to us by the school and since there was limited cameras we had to return them so other groups could use them. </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Institutions</a:t>
            </a:r>
            <a:endParaRPr b="0" lang="en-US" sz="2400" spc="-1" strike="noStrike">
              <a:solidFill>
                <a:srgbClr val="04617b"/>
              </a:solidFill>
              <a:latin typeface="Calibri"/>
            </a:endParaRPr>
          </a:p>
        </p:txBody>
      </p:sp>
      <p:sp>
        <p:nvSpPr>
          <p:cNvPr id="258" name=""/>
          <p:cNvSpPr txBox="1"/>
          <p:nvPr/>
        </p:nvSpPr>
        <p:spPr>
          <a:xfrm>
            <a:off x="500040" y="1714680"/>
            <a:ext cx="8229600" cy="43891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y film magazine will be distributed in the newsagents and big brand names such as WHSmith and Tesc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y poster can be seen in cinemas, billboards, newspapers such as the Metro and Lite, and could also be seen possibly in magazi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ilm trailer can be see in cinemas, television and the internet through viral marketing.</a:t>
            </a:r>
            <a:endParaRPr b="0" lang="en-US" sz="2600" spc="-1" strike="noStrike">
              <a:solidFill>
                <a:srgbClr val="000000"/>
              </a:solidFill>
              <a:latin typeface="Constantia"/>
            </a:endParaRPr>
          </a:p>
        </p:txBody>
      </p:sp>
      <p:pic>
        <p:nvPicPr>
          <p:cNvPr id="259" name="Picture 2" descr="http://t3.gstatic.com/images?q=tbn:mYn3he5uueg4iM:http://www.crystalpeakscentre.com/Images/MainImages/WHSmith.jpg">
            <a:hlinkClick r:id="rId1"/>
          </p:cNvPr>
          <p:cNvPicPr/>
          <p:nvPr/>
        </p:nvPicPr>
        <p:blipFill>
          <a:blip r:embed="rId2"/>
          <a:stretch/>
        </p:blipFill>
        <p:spPr>
          <a:xfrm>
            <a:off x="6929280" y="5429160"/>
            <a:ext cx="1190880" cy="1019160"/>
          </a:xfrm>
          <a:prstGeom prst="rect">
            <a:avLst/>
          </a:prstGeom>
          <a:ln w="0">
            <a:noFill/>
          </a:ln>
        </p:spPr>
      </p:pic>
      <p:pic>
        <p:nvPicPr>
          <p:cNvPr id="260" name="Picture 4" descr="http://t1.gstatic.com/images?q=tbn:r2i1jQZVoui_WM:http://stylefish.ie/fishfood/wp-content/uploads/2009/12/tesco.jpg">
            <a:hlinkClick r:id="rId3"/>
          </p:cNvPr>
          <p:cNvPicPr/>
          <p:nvPr/>
        </p:nvPicPr>
        <p:blipFill>
          <a:blip r:embed="rId4"/>
          <a:stretch/>
        </p:blipFill>
        <p:spPr>
          <a:xfrm>
            <a:off x="4714920" y="5500800"/>
            <a:ext cx="1361880" cy="676080"/>
          </a:xfrm>
          <a:prstGeom prst="rect">
            <a:avLst/>
          </a:prstGeom>
          <a:ln w="0">
            <a:noFill/>
          </a:ln>
        </p:spPr>
      </p:pic>
      <p:pic>
        <p:nvPicPr>
          <p:cNvPr id="261" name="Picture 6" descr="http://t1.gstatic.com/images?q=tbn:NKwZVC2ZufC4kM:http://www.editorsweblog.org/metro.jpg">
            <a:hlinkClick r:id="rId5"/>
          </p:cNvPr>
          <p:cNvPicPr/>
          <p:nvPr/>
        </p:nvPicPr>
        <p:blipFill>
          <a:blip r:embed="rId6"/>
          <a:stretch/>
        </p:blipFill>
        <p:spPr>
          <a:xfrm>
            <a:off x="3143160" y="5143680"/>
            <a:ext cx="1200240" cy="1342800"/>
          </a:xfrm>
          <a:prstGeom prst="rect">
            <a:avLst/>
          </a:prstGeom>
          <a:ln w="0">
            <a:noFill/>
          </a:ln>
        </p:spPr>
      </p:pic>
      <p:pic>
        <p:nvPicPr>
          <p:cNvPr id="262" name="Picture 8" descr="http://t1.gstatic.com/images?q=tbn:_m1pPMmP_HijtM:http://cache1.asset-cache.net/xc/71747253.jpg%3Fv%3D1%26c%3DIWSAsset%26k%3D2%26d%3D77BFBA49EF878921F7C3FC3F69D929FD4ABB8210373E8554AC6B3473188547B82D8A3DABB865654DB01E70F2B3269972"/>
          <p:cNvPicPr/>
          <p:nvPr/>
        </p:nvPicPr>
        <p:blipFill>
          <a:blip r:embed="rId7"/>
          <a:stretch/>
        </p:blipFill>
        <p:spPr>
          <a:xfrm>
            <a:off x="1143000" y="5143680"/>
            <a:ext cx="1285920" cy="120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0040" y="2854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2400" spc="-1" strike="noStrike">
                <a:solidFill>
                  <a:srgbClr val="04617b"/>
                </a:solidFill>
                <a:latin typeface="Calibri"/>
              </a:rPr>
              <a:t>How did you use media technologies in the construction and research, planning and evaluation stages?</a:t>
            </a:r>
            <a:endParaRPr b="0" lang="en-US" sz="24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used media technologies in the construction of my media final product, as I decided to do a lot of research on the chosen film genre for my trailer by going on websites like Wikipedia and Google.</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y looking at examples of film magazines and teenage romantic comedy posters on impawards.com I was then able to come up with ideas and planning for my final product.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was three main task I had to complete which consisted of my film magazine, film poster and film trailer.</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used Adobe Photoshop as the software for me to create my film magazine  and film poster as I had used Microsoft Publisher in the past but felt Photoshop added more quality to my media products as well as giving it a more professional look.</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so my group and I used Adobe Premiere for the construction of the film trailer it was  a software we were all not familiar with but I managed to get a hand of it the more my group used the software.</a:t>
            </a:r>
            <a:endParaRPr b="0" lang="en-US" sz="16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6" name="Picture 2" descr="http://t3.gstatic.com/images?q=tbn:cIGPCF08mCk7nM:http://bizbox.slate.com/blog/google.jpg">
            <a:hlinkClick r:id="rId1"/>
          </p:cNvPr>
          <p:cNvPicPr/>
          <p:nvPr/>
        </p:nvPicPr>
        <p:blipFill>
          <a:blip r:embed="rId2"/>
          <a:stretch/>
        </p:blipFill>
        <p:spPr>
          <a:xfrm>
            <a:off x="214200" y="6010200"/>
            <a:ext cx="1200240" cy="847800"/>
          </a:xfrm>
          <a:prstGeom prst="rect">
            <a:avLst/>
          </a:prstGeom>
          <a:ln w="0">
            <a:noFill/>
          </a:ln>
        </p:spPr>
      </p:pic>
      <p:pic>
        <p:nvPicPr>
          <p:cNvPr id="207" name="Picture 4" descr="http://t1.gstatic.com/images?q=tbn:6_45A2XGJIqSsM:http://upload.wikimedia.org/wikipedia/commons/thumb/b/b7/Wikipedia-logo.svg/600px-Wikipedia-logo.svg.png">
            <a:hlinkClick r:id="rId3"/>
          </p:cNvPr>
          <p:cNvPicPr/>
          <p:nvPr/>
        </p:nvPicPr>
        <p:blipFill>
          <a:blip r:embed="rId4"/>
          <a:stretch/>
        </p:blipFill>
        <p:spPr>
          <a:xfrm>
            <a:off x="3571920" y="5572080"/>
            <a:ext cx="1285920" cy="1285920"/>
          </a:xfrm>
          <a:prstGeom prst="rect">
            <a:avLst/>
          </a:prstGeom>
          <a:ln w="0">
            <a:noFill/>
          </a:ln>
        </p:spPr>
      </p:pic>
      <p:pic>
        <p:nvPicPr>
          <p:cNvPr id="208" name="Picture 6" descr="IMP Awards">
            <a:hlinkClick r:id="rId5"/>
          </p:cNvPr>
          <p:cNvPicPr/>
          <p:nvPr/>
        </p:nvPicPr>
        <p:blipFill>
          <a:blip r:embed="rId6"/>
          <a:stretch/>
        </p:blipFill>
        <p:spPr>
          <a:xfrm>
            <a:off x="7105680" y="5715000"/>
            <a:ext cx="2038320" cy="95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ilm Magazines</a:t>
            </a:r>
            <a:endParaRPr b="0" lang="en-US" sz="2400" spc="-1" strike="noStrike">
              <a:solidFill>
                <a:srgbClr val="04617b"/>
              </a:solidFill>
              <a:latin typeface="Calibri"/>
            </a:endParaRPr>
          </a:p>
        </p:txBody>
      </p:sp>
      <p:pic>
        <p:nvPicPr>
          <p:cNvPr id="210" name="" descr=""/>
          <p:cNvPicPr/>
          <p:nvPr/>
        </p:nvPicPr>
        <p:blipFill>
          <a:blip r:embed="rId1"/>
          <a:stretch/>
        </p:blipFill>
        <p:spPr>
          <a:xfrm>
            <a:off x="457200" y="1934640"/>
            <a:ext cx="8229600" cy="4389480"/>
          </a:xfrm>
          <a:prstGeom prst="rect">
            <a:avLst/>
          </a:prstGeom>
          <a:ln w="0">
            <a:noFill/>
          </a:ln>
        </p:spPr>
      </p:pic>
      <p:pic>
        <p:nvPicPr>
          <p:cNvPr id="211" name="Picture 8" descr="http://files.list.co.uk/images/2009/11/17/filmamgazines-LST068177.jpg"/>
          <p:cNvPicPr/>
          <p:nvPr/>
        </p:nvPicPr>
        <p:blipFill>
          <a:blip r:embed="rId2"/>
          <a:stretch/>
        </p:blipFill>
        <p:spPr>
          <a:xfrm>
            <a:off x="357120" y="1243080"/>
            <a:ext cx="87868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0004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Generic Film Magazine Conventions</a:t>
            </a:r>
            <a:endParaRPr b="0" lang="en-US" sz="2400" spc="-1" strike="noStrike">
              <a:solidFill>
                <a:srgbClr val="04617b"/>
              </a:solidFill>
              <a:latin typeface="Calibri"/>
            </a:endParaRPr>
          </a:p>
        </p:txBody>
      </p:sp>
      <p:sp>
        <p:nvSpPr>
          <p:cNvPr id="213" name=""/>
          <p:cNvSpPr txBox="1"/>
          <p:nvPr/>
        </p:nvSpPr>
        <p:spPr>
          <a:xfrm>
            <a:off x="457200" y="1934640"/>
            <a:ext cx="8229600" cy="492300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eature Artic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Interview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Latest New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Reviews of cinema, DVD and soundtrack releas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ontents P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dvertisemen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ain Im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asthea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ell Lin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ompetition and Adver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ontents P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eature Artic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14" name="TextBox 3" descr=""/>
          <p:cNvPicPr/>
          <p:nvPr/>
        </p:nvPicPr>
        <p:blipFill>
          <a:blip r:embed="rId1"/>
          <a:stretch/>
        </p:blipFill>
        <p:spPr>
          <a:xfrm>
            <a:off x="347760" y="3938760"/>
            <a:ext cx="8163000" cy="59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5712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orms and Conventions(my film magazine)</a:t>
            </a:r>
            <a:endParaRPr b="0" lang="en-US" sz="2400" spc="-1" strike="noStrike">
              <a:solidFill>
                <a:srgbClr val="04617b"/>
              </a:solidFill>
              <a:latin typeface="Calibri"/>
            </a:endParaRPr>
          </a:p>
        </p:txBody>
      </p:sp>
      <p:pic>
        <p:nvPicPr>
          <p:cNvPr id="216" name="Picture 2" descr="Tobi's_film_magazine_first_draft1_edited-2.jpg"/>
          <p:cNvPicPr/>
          <p:nvPr/>
        </p:nvPicPr>
        <p:blipFill>
          <a:blip r:embed="rId1"/>
          <a:stretch/>
        </p:blipFill>
        <p:spPr>
          <a:xfrm>
            <a:off x="500040" y="1143000"/>
            <a:ext cx="2776680" cy="4389480"/>
          </a:xfrm>
          <a:prstGeom prst="rect">
            <a:avLst/>
          </a:prstGeom>
          <a:ln w="0">
            <a:noFill/>
          </a:ln>
        </p:spPr>
      </p:pic>
      <p:pic>
        <p:nvPicPr>
          <p:cNvPr id="217" name="TextBox 5" descr=""/>
          <p:cNvPicPr/>
          <p:nvPr/>
        </p:nvPicPr>
        <p:blipFill>
          <a:blip r:embed="rId2"/>
          <a:stretch/>
        </p:blipFill>
        <p:spPr>
          <a:xfrm>
            <a:off x="3346560" y="1238400"/>
            <a:ext cx="1371600" cy="639720"/>
          </a:xfrm>
          <a:prstGeom prst="rect">
            <a:avLst/>
          </a:prstGeom>
          <a:ln w="0">
            <a:noFill/>
          </a:ln>
        </p:spPr>
      </p:pic>
      <p:sp>
        <p:nvSpPr>
          <p:cNvPr id="218" name="TextBox 6"/>
          <p:cNvSpPr/>
          <p:nvPr/>
        </p:nvSpPr>
        <p:spPr>
          <a:xfrm>
            <a:off x="3357720" y="1500120"/>
            <a:ext cx="5786280" cy="313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400" spc="-1" strike="noStrike">
                <a:solidFill>
                  <a:srgbClr val="000000"/>
                </a:solidFill>
                <a:latin typeface="Constantia"/>
              </a:rPr>
              <a:t>Model on the front cover is  in the feature article therefore he is the main focus of the magazine. This conforms to the conventions of all mainstream magazines as they have the artist/actor/model on the front cover if  the feature article is on the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 </a:t>
            </a:r>
            <a:r>
              <a:rPr b="0" lang="en-GB" sz="1400" spc="-1" strike="noStrike">
                <a:solidFill>
                  <a:srgbClr val="000000"/>
                </a:solidFill>
                <a:latin typeface="Constantia"/>
              </a:rPr>
              <a:t>Model looks into the camera, having direct contact with the intended target audience again conforming to a convention of film magazine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onventional medium close up of the model</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Model imposing the master  head this conventionally used by magazine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However model his smiling a little and this subverts codes of film magazines  as they have models on front covers who do not show no facial expressions or emotion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19" name="TextBox 7" descr=""/>
          <p:cNvPicPr/>
          <p:nvPr/>
        </p:nvPicPr>
        <p:blipFill>
          <a:blip r:embed="rId3"/>
          <a:stretch/>
        </p:blipFill>
        <p:spPr>
          <a:xfrm>
            <a:off x="3346560" y="4095720"/>
            <a:ext cx="1566720" cy="641520"/>
          </a:xfrm>
          <a:prstGeom prst="rect">
            <a:avLst/>
          </a:prstGeom>
          <a:ln w="0">
            <a:noFill/>
          </a:ln>
        </p:spPr>
      </p:pic>
      <p:sp>
        <p:nvSpPr>
          <p:cNvPr id="220" name="TextBox 8"/>
          <p:cNvSpPr/>
          <p:nvPr/>
        </p:nvSpPr>
        <p:spPr>
          <a:xfrm>
            <a:off x="3357720" y="4429080"/>
            <a:ext cx="5572080" cy="7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A convention where it informs the reader what other features they are in the magazine.</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ompetitions and prizes</a:t>
            </a:r>
            <a:endParaRPr b="0" lang="en-US" sz="1400" spc="-1" strike="noStrike">
              <a:solidFill>
                <a:srgbClr val="000000"/>
              </a:solidFill>
              <a:latin typeface="Constantia"/>
            </a:endParaRPr>
          </a:p>
        </p:txBody>
      </p:sp>
      <p:pic>
        <p:nvPicPr>
          <p:cNvPr id="221" name="TextBox 9" descr=""/>
          <p:cNvPicPr/>
          <p:nvPr/>
        </p:nvPicPr>
        <p:blipFill>
          <a:blip r:embed="rId4"/>
          <a:stretch/>
        </p:blipFill>
        <p:spPr>
          <a:xfrm>
            <a:off x="3346560" y="5095800"/>
            <a:ext cx="2030400" cy="639720"/>
          </a:xfrm>
          <a:prstGeom prst="rect">
            <a:avLst/>
          </a:prstGeom>
          <a:ln w="0">
            <a:noFill/>
          </a:ln>
        </p:spPr>
      </p:pic>
      <p:sp>
        <p:nvSpPr>
          <p:cNvPr id="222" name="TextBox 10"/>
          <p:cNvSpPr/>
          <p:nvPr/>
        </p:nvSpPr>
        <p:spPr>
          <a:xfrm>
            <a:off x="3357720" y="5500800"/>
            <a:ext cx="557208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master head bigger than every other text on the front cover and it is the most prominent and enticing font on the front cover which attracts reader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cxnSp>
        <p:nvCxnSpPr>
          <p:cNvPr id="223" name="Straight Arrow Connector 13"/>
          <p:cNvCxnSpPr/>
          <p:nvPr/>
        </p:nvCxnSpPr>
        <p:spPr>
          <a:xfrm>
            <a:off x="927720" y="5500440"/>
            <a:ext cx="143640" cy="143640"/>
          </a:xfrm>
          <a:prstGeom prst="straightConnector1">
            <a:avLst/>
          </a:prstGeom>
          <a:ln w="9360">
            <a:solidFill>
              <a:srgbClr val="065093"/>
            </a:solidFill>
            <a:miter/>
            <a:tailEnd len="med" type="arrow" w="med"/>
          </a:ln>
        </p:spPr>
      </p:cxnSp>
      <p:sp>
        <p:nvSpPr>
          <p:cNvPr id="224" name="TextBox 14"/>
          <p:cNvSpPr/>
          <p:nvPr/>
        </p:nvSpPr>
        <p:spPr>
          <a:xfrm>
            <a:off x="214200" y="5688000"/>
            <a:ext cx="3143520" cy="115956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Barcode and price, also the issue and date of the magazine is stated towards the top as well as the banner follow conventions magazine front covers.</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7138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ilm Posters</a:t>
            </a:r>
            <a:br>
              <a:rPr sz="4900"/>
            </a:br>
            <a:endParaRPr b="0" lang="en-US" sz="2400" spc="-1" strike="noStrike">
              <a:solidFill>
                <a:srgbClr val="04617b"/>
              </a:solidFill>
              <a:latin typeface="Calibri"/>
            </a:endParaRPr>
          </a:p>
        </p:txBody>
      </p:sp>
      <p:pic>
        <p:nvPicPr>
          <p:cNvPr id="226" name="" descr=""/>
          <p:cNvPicPr/>
          <p:nvPr/>
        </p:nvPicPr>
        <p:blipFill>
          <a:blip r:embed="rId1"/>
          <a:stretch/>
        </p:blipFill>
        <p:spPr>
          <a:xfrm>
            <a:off x="457200" y="1934640"/>
            <a:ext cx="8229600" cy="4389480"/>
          </a:xfrm>
          <a:prstGeom prst="rect">
            <a:avLst/>
          </a:prstGeom>
          <a:ln w="0">
            <a:noFill/>
          </a:ln>
        </p:spPr>
      </p:pic>
      <p:pic>
        <p:nvPicPr>
          <p:cNvPr id="227" name="Picture 2" descr="http://www.filmdetail.com/wp-content/uploads/2008/11/40-great-independent-film-posters-1.jpg"/>
          <p:cNvPicPr/>
          <p:nvPr/>
        </p:nvPicPr>
        <p:blipFill>
          <a:blip r:embed="rId2"/>
          <a:stretch/>
        </p:blipFill>
        <p:spPr>
          <a:xfrm>
            <a:off x="428760" y="1357200"/>
            <a:ext cx="8286480" cy="520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85840" y="142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orms and Conventions (my poster)</a:t>
            </a:r>
            <a:endParaRPr b="0" lang="en-US" sz="2400" spc="-1" strike="noStrike">
              <a:solidFill>
                <a:srgbClr val="04617b"/>
              </a:solidFill>
              <a:latin typeface="Calibri"/>
            </a:endParaRPr>
          </a:p>
        </p:txBody>
      </p:sp>
      <p:pic>
        <p:nvPicPr>
          <p:cNvPr id="229" name="" descr=""/>
          <p:cNvPicPr/>
          <p:nvPr/>
        </p:nvPicPr>
        <p:blipFill>
          <a:blip r:embed="rId1"/>
          <a:stretch/>
        </p:blipFill>
        <p:spPr>
          <a:xfrm>
            <a:off x="457200" y="1934640"/>
            <a:ext cx="8229600" cy="4389480"/>
          </a:xfrm>
          <a:prstGeom prst="rect">
            <a:avLst/>
          </a:prstGeom>
          <a:ln w="0">
            <a:noFill/>
          </a:ln>
        </p:spPr>
      </p:pic>
      <p:pic>
        <p:nvPicPr>
          <p:cNvPr id="230" name="Picture 2" descr="Tobi's_film_poster_edited-12.jpg"/>
          <p:cNvPicPr/>
          <p:nvPr/>
        </p:nvPicPr>
        <p:blipFill>
          <a:blip r:embed="rId2"/>
          <a:stretch/>
        </p:blipFill>
        <p:spPr>
          <a:xfrm>
            <a:off x="214200" y="1285920"/>
            <a:ext cx="3276720" cy="4586400"/>
          </a:xfrm>
          <a:prstGeom prst="rect">
            <a:avLst/>
          </a:prstGeom>
          <a:ln w="0">
            <a:noFill/>
          </a:ln>
        </p:spPr>
      </p:pic>
      <p:pic>
        <p:nvPicPr>
          <p:cNvPr id="231" name="TextBox 4" descr=""/>
          <p:cNvPicPr/>
          <p:nvPr/>
        </p:nvPicPr>
        <p:blipFill>
          <a:blip r:embed="rId3"/>
          <a:stretch/>
        </p:blipFill>
        <p:spPr>
          <a:xfrm>
            <a:off x="3638520" y="1322280"/>
            <a:ext cx="3086280" cy="409680"/>
          </a:xfrm>
          <a:prstGeom prst="rect">
            <a:avLst/>
          </a:prstGeom>
          <a:ln w="0">
            <a:noFill/>
          </a:ln>
        </p:spPr>
      </p:pic>
      <p:sp>
        <p:nvSpPr>
          <p:cNvPr id="232" name="TextBox 5"/>
          <p:cNvSpPr/>
          <p:nvPr/>
        </p:nvSpPr>
        <p:spPr>
          <a:xfrm>
            <a:off x="3786120" y="1643040"/>
            <a:ext cx="5357880" cy="1433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400" spc="-1" strike="noStrike">
                <a:solidFill>
                  <a:srgbClr val="000000"/>
                </a:solidFill>
                <a:latin typeface="Constantia"/>
              </a:rPr>
              <a:t>The unique selling point of this film is that this is a teenage romantic comedy based in and around the urban areas of  East London and having the main character being  a black British male challenges the stereotypes of the traditional white American male in teenage romantic comedies.</a:t>
            </a:r>
            <a:endParaRPr b="0" lang="en-US" sz="1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 </a:t>
            </a:r>
            <a:endParaRPr b="0" lang="en-US" sz="1400" spc="-1" strike="noStrike">
              <a:solidFill>
                <a:srgbClr val="000000"/>
              </a:solidFill>
              <a:latin typeface="Constantia"/>
            </a:endParaRPr>
          </a:p>
        </p:txBody>
      </p:sp>
      <p:pic>
        <p:nvPicPr>
          <p:cNvPr id="233" name="TextBox 6" descr=""/>
          <p:cNvPicPr/>
          <p:nvPr/>
        </p:nvPicPr>
        <p:blipFill>
          <a:blip r:embed="rId4"/>
          <a:stretch/>
        </p:blipFill>
        <p:spPr>
          <a:xfrm>
            <a:off x="3713040" y="2682720"/>
            <a:ext cx="932040" cy="408240"/>
          </a:xfrm>
          <a:prstGeom prst="rect">
            <a:avLst/>
          </a:prstGeom>
          <a:ln w="0">
            <a:noFill/>
          </a:ln>
        </p:spPr>
      </p:pic>
      <p:sp>
        <p:nvSpPr>
          <p:cNvPr id="234" name="TextBox 7"/>
          <p:cNvSpPr/>
          <p:nvPr/>
        </p:nvSpPr>
        <p:spPr>
          <a:xfrm>
            <a:off x="3714840" y="3000240"/>
            <a:ext cx="5143320" cy="1798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poster tells the audience that this is a teenage romantic film by using red for the font colour, this gives connotations of love and intimacy.</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title and tagline of the film tells us that this is a romantic fil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Film is coming out on valentine’s day February 14 also tells us that this is a romantic film.  </a:t>
            </a:r>
            <a:endParaRPr b="0" lang="en-US" sz="1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 </a:t>
            </a:r>
            <a:endParaRPr b="0" lang="en-US" sz="1400" spc="-1" strike="noStrike">
              <a:solidFill>
                <a:srgbClr val="000000"/>
              </a:solidFill>
              <a:latin typeface="Constantia"/>
            </a:endParaRPr>
          </a:p>
        </p:txBody>
      </p:sp>
      <p:pic>
        <p:nvPicPr>
          <p:cNvPr id="235" name="TextBox 8" descr=""/>
          <p:cNvPicPr/>
          <p:nvPr/>
        </p:nvPicPr>
        <p:blipFill>
          <a:blip r:embed="rId5"/>
          <a:stretch/>
        </p:blipFill>
        <p:spPr>
          <a:xfrm>
            <a:off x="3713040" y="4541760"/>
            <a:ext cx="2090880" cy="408240"/>
          </a:xfrm>
          <a:prstGeom prst="rect">
            <a:avLst/>
          </a:prstGeom>
          <a:ln w="0">
            <a:noFill/>
          </a:ln>
        </p:spPr>
      </p:pic>
      <p:sp>
        <p:nvSpPr>
          <p:cNvPr id="236" name="TextBox 9"/>
          <p:cNvSpPr/>
          <p:nvPr/>
        </p:nvSpPr>
        <p:spPr>
          <a:xfrm>
            <a:off x="3441600" y="4857840"/>
            <a:ext cx="51501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wo shot of a boy and a girl, this may suggest a love story.</a:t>
            </a:r>
            <a:endParaRPr b="0" lang="en-US" sz="1400" spc="-1" strike="noStrike">
              <a:solidFill>
                <a:srgbClr val="000000"/>
              </a:solidFill>
              <a:latin typeface="Constantia"/>
            </a:endParaRPr>
          </a:p>
        </p:txBody>
      </p:sp>
      <p:pic>
        <p:nvPicPr>
          <p:cNvPr id="237" name="TextBox 10" descr=""/>
          <p:cNvPicPr/>
          <p:nvPr/>
        </p:nvPicPr>
        <p:blipFill>
          <a:blip r:embed="rId6"/>
          <a:stretch/>
        </p:blipFill>
        <p:spPr>
          <a:xfrm>
            <a:off x="3713040" y="5108400"/>
            <a:ext cx="4649760" cy="408240"/>
          </a:xfrm>
          <a:prstGeom prst="rect">
            <a:avLst/>
          </a:prstGeom>
          <a:ln w="0">
            <a:noFill/>
          </a:ln>
        </p:spPr>
      </p:pic>
      <p:sp>
        <p:nvSpPr>
          <p:cNvPr id="238" name="TextBox 11"/>
          <p:cNvSpPr/>
          <p:nvPr/>
        </p:nvSpPr>
        <p:spPr>
          <a:xfrm>
            <a:off x="3714840" y="5473800"/>
            <a:ext cx="492912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use of red to connote love.</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haracters names  mentioned to show that they are the main characters of the fil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Date of film mention at the botto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Background of the sky demonstrates the quote “Love is in the air.”</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ilm Trailers conventions</a:t>
            </a:r>
            <a:endParaRPr b="0" lang="en-US" sz="24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Highlight the best bits of the fil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howcase stars/ director of the fil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Often very fast paced depending on the genre, i.e. A trailer for a action movie will be fast paced as action movies are often upbeat and tends to give audience an adrenaline rush.</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One liner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Dramatic camera ang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ction is interspersed with ang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Voiceover (Narrato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usic</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itles may not appear until the e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ontage editing</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ilm Trailer</a:t>
            </a:r>
            <a:endParaRPr b="0" lang="en-US" sz="2400" spc="-1" strike="noStrike">
              <a:solidFill>
                <a:srgbClr val="04617b"/>
              </a:solidFill>
              <a:latin typeface="Calibri"/>
            </a:endParaRPr>
          </a:p>
        </p:txBody>
      </p:sp>
      <p:sp>
        <p:nvSpPr>
          <p:cNvPr id="242" name=""/>
          <p:cNvSpPr txBox="1"/>
          <p:nvPr/>
        </p:nvSpPr>
        <p:spPr>
          <a:xfrm>
            <a:off x="457200" y="1285920"/>
            <a:ext cx="8229600" cy="5214960"/>
          </a:xfrm>
          <a:prstGeom prst="rect">
            <a:avLst/>
          </a:prstGeom>
          <a:noFill/>
          <a:ln w="0">
            <a:noFill/>
          </a:ln>
        </p:spPr>
        <p:txBody>
          <a:bodyPr lIns="90000" rIns="90000" tIns="46800" bIns="46800"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onstruction of the film trailer was done in a grou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decided as a group that we would create a teenage romantic comedy film trailer therefore each of us went to our own bit of research on the genre so we can have an idea of what was expected to be seen in the trailer.</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 done my research by going on websites like YouTube and Imdb.com and taking notes on the teenage romantic comedies I saw.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recording our scenes none of us had any real problems with the video camera, we took a number of shots and later chose which ones we would use in the trailer.</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the post production stage we had to do editing in which we had problems with at first as we did not have any experience with the software we was using but began to get a hang on of it the more we used the software. Also we had to record a voiceover as this played a vital part of the trailer.</a:t>
            </a:r>
            <a:endParaRPr b="0" lang="en-US" sz="2000" spc="-1" strike="noStrike">
              <a:solidFill>
                <a:srgbClr val="000000"/>
              </a:solidFill>
              <a:latin typeface="Constantia"/>
            </a:endParaRPr>
          </a:p>
        </p:txBody>
      </p:sp>
      <p:pic>
        <p:nvPicPr>
          <p:cNvPr id="243" name="Picture 2" descr="http://t3.gstatic.com/images?q=tbn:-Rv3OlTFUeoKDM:http://www.mushon.com/spr09/nmrs/wp-content/uploads/2009/04/imdb-logo.jpg">
            <a:hlinkClick r:id="rId1"/>
          </p:cNvPr>
          <p:cNvPicPr/>
          <p:nvPr/>
        </p:nvPicPr>
        <p:blipFill>
          <a:blip r:embed="rId2"/>
          <a:stretch/>
        </p:blipFill>
        <p:spPr>
          <a:xfrm>
            <a:off x="7286760" y="6058080"/>
            <a:ext cx="1247760" cy="799920"/>
          </a:xfrm>
          <a:prstGeom prst="rect">
            <a:avLst/>
          </a:prstGeom>
          <a:ln w="0">
            <a:noFill/>
          </a:ln>
        </p:spPr>
      </p:pic>
      <p:pic>
        <p:nvPicPr>
          <p:cNvPr id="244" name="Picture 4" descr="http://t3.gstatic.com/images?q=tbn:NLKLllaxCevhfM:http://www.ep-momentum.eu/Portals/0/icons-logos/youtube-logo.png">
            <a:hlinkClick r:id="rId3"/>
          </p:cNvPr>
          <p:cNvPicPr/>
          <p:nvPr/>
        </p:nvPicPr>
        <p:blipFill>
          <a:blip r:embed="rId4"/>
          <a:stretch/>
        </p:blipFill>
        <p:spPr>
          <a:xfrm>
            <a:off x="5429160" y="5991120"/>
            <a:ext cx="1305000" cy="8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20:01:04Z</dcterms:created>
  <dc:creator>Tobi</dc:creator>
  <dc:description/>
  <dc:language>en-US</dc:language>
  <cp:lastModifiedBy>Tobi</cp:lastModifiedBy>
  <dcterms:modified xsi:type="dcterms:W3CDTF">2010-04-25T13:01:02Z</dcterms:modified>
  <cp:revision>44</cp:revision>
  <dc:subject/>
  <dc:title>Evaluation</dc:title>
</cp:coreProperties>
</file>