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7D932-B3AE-4D84-8867-BCE272517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2591C-ED49-4087-BB54-4FB89C882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42430-383A-4CD6-9855-B69064E45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90F3B-7BB0-4240-9FC3-1BA8C476B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1940D44-2320-4B9A-B5CC-D87B14C37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2E29185-F207-4106-8981-8BD71DBB2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DA64AA-0039-400D-A37B-846BE0D87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013C60-FC7E-449E-80C4-0465AEA10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B5AB61-531B-49D7-BA82-8DB9DF1A2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F290F9-FF35-4AEF-BF03-CC789AB57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5E33D4-DDB7-4553-B00D-238838247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76253-59F0-43CA-A88D-0B7FB0CD4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F6D642-8268-42CF-97B7-64584D142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5C2FB9-8688-4CE7-8CEB-8A44EBCD0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0C3118-2A71-448A-818D-D3A4604FD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F17F0D2-4D34-46FF-94A0-C8AFA8C03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77A277C-86AC-43DC-8FF3-AE8159695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403C6E-541D-4897-87D4-B77849DDFC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EB58A4-7667-4D7A-8146-DBAC5773F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40900F-EE02-4C41-849C-BDCC4C294C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F555FD-1E77-47C4-8F48-9F1337B90D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1C3E0A-4534-4E9A-A3FA-51B9925C2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37EDA-E560-422E-B2A5-563AF0D56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F59397-629C-4775-AC27-8109BF6F3D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3F7D4-1C66-4CC8-AB33-3A54538164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F730D7-CF4D-400A-9846-8E5BFF7DD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9EE9E-D7F6-4BCB-B5FC-EC72F8EA0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3CD22-88D2-4908-847A-00362B470E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D0CFFD-4C57-4C2B-9BA8-89F6CA692D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20F17C-B2F1-4CCB-BC2B-E825B7BF34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761ADA87-E616-4AB7-A600-66936BC8EA3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F300398-B33F-4575-9CBB-61E0ACE719B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A57DC73-7D3C-4082-8BC0-041A23A4979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6CA13-49D1-4AAD-B9D3-2356F6178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F9875A0-EB47-4994-B54A-6DA50133A15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45EE42A-ACF4-4194-A5AB-AC67B5CD833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035FCDA-8DB7-46B4-8CC1-13A442033B6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A5803E2-B014-4346-8DC6-D8CC159943E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4B9E124-F0FC-4BB6-B0AF-C1AB88EFB1E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DFD2047-A27E-46D0-84E4-C8F08F0D88A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B47BBF3-F46E-472E-80B4-696CC5ADF0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7BB5BF5E-0618-45F9-AFC8-1F6173B8C65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CF49AD74-B6DB-4E6F-A221-6964F1E97AB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DC991-4B21-4BAE-A5B9-9BF11434F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22262-0F71-4E6F-AE00-CABA624D2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6CC8B-A212-4690-823B-03DBE4DB1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9BC6A-2CF7-4AAA-9C17-CBE0664AA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D8665-A4DD-4564-B619-DB99C3B0F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5FEF-030D-4054-AA51-D0B0ED90A99D}"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8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8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eb80a"/>
          </a:solidFill>
          <a:ln w="38160">
            <a:solidFill>
              <a:srgbClr val="feb80a"/>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7DEA-0963-49EA-9FC9-388F6562CE85}"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EE66-BCBC-49BA-8C90-315FB8EA23D1}"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8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8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E0FB-2AB8-4E18-86F8-A0226551A4ED}"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7dec9"/>
                </a:solidFill>
                <a:latin typeface="Constantia"/>
              </a:rPr>
              <a:t>Korede Balogun</a:t>
            </a:r>
            <a:endParaRPr b="0" lang="en-US" sz="2200" spc="-1" strike="noStrike">
              <a:solidFill>
                <a:srgbClr val="ffffff"/>
              </a:solidFill>
              <a:latin typeface="Constantia"/>
            </a:endParaRPr>
          </a:p>
        </p:txBody>
      </p:sp>
      <p:pic>
        <p:nvPicPr>
          <p:cNvPr id="171" name="Rectangle 3" descr=""/>
          <p:cNvPicPr/>
          <p:nvPr/>
        </p:nvPicPr>
        <p:blipFill>
          <a:blip r:embed="rId1"/>
          <a:stretch/>
        </p:blipFill>
        <p:spPr>
          <a:xfrm>
            <a:off x="2432160" y="2286000"/>
            <a:ext cx="4402080" cy="1146240"/>
          </a:xfrm>
          <a:prstGeom prst="rect">
            <a:avLst/>
          </a:prstGeom>
          <a:ln w="0">
            <a:noFill/>
          </a:ln>
        </p:spPr>
      </p:pic>
      <p:sp>
        <p:nvSpPr>
          <p:cNvPr id="172" name="TextBox 5"/>
          <p:cNvSpPr/>
          <p:nvPr/>
        </p:nvSpPr>
        <p:spPr>
          <a:xfrm>
            <a:off x="4786200" y="6143760"/>
            <a:ext cx="40719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Level Media G321</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23880"/>
            <a:ext cx="8229600" cy="4572000"/>
          </a:xfrm>
          <a:prstGeom prst="rect">
            <a:avLst/>
          </a:prstGeom>
          <a:noFill/>
          <a:ln w="0">
            <a:noFill/>
          </a:ln>
        </p:spPr>
        <p:txBody>
          <a:bodyPr anchor="t">
            <a:normAutofit fontScale="93000"/>
          </a:bodyPr>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Although I left my preliminary task (school magazine) quite satisfied I would personally say that my main task work (music magazine) is more realistic and in my opinion more appealing. </a:t>
            </a:r>
            <a:endParaRPr b="0" lang="en-US" sz="2200" spc="-1" strike="noStrike">
              <a:solidFill>
                <a:srgbClr val="ffffff"/>
              </a:solidFill>
              <a:latin typeface="Constantia"/>
            </a:endParaRPr>
          </a:p>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The idea of a school magazine is mainly to inform while a music magazine can cover gossip, informing, persuade and sell/competitions.</a:t>
            </a:r>
            <a:endParaRPr b="0" lang="en-US" sz="2200" spc="-1" strike="noStrike">
              <a:solidFill>
                <a:srgbClr val="ffffff"/>
              </a:solidFill>
              <a:latin typeface="Constantia"/>
            </a:endParaRPr>
          </a:p>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From my preliminary task I understood the codes and expected features of different types of magazines in which I inputted in the production of Mic Check.</a:t>
            </a:r>
            <a:endParaRPr b="0" lang="en-US" sz="2200" spc="-1" strike="noStrike">
              <a:solidFill>
                <a:srgbClr val="ffffff"/>
              </a:solidFill>
              <a:latin typeface="Constantia"/>
            </a:endParaRPr>
          </a:p>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 </a:t>
            </a:r>
            <a:r>
              <a:rPr b="0" lang="en-GB" sz="2200" spc="-1" strike="noStrike">
                <a:solidFill>
                  <a:srgbClr val="ffffff"/>
                </a:solidFill>
                <a:latin typeface="Constantia"/>
              </a:rPr>
              <a:t>another thing that differs a school magazine to a music magazine is that a school magazine is obligated to appeal to every pupil and parent regardless of religion, ethnicity and IQ. While on the other hand, a music magazine purposely targets a demographic and by so is capable of doing anything possible in order to target its audience and allows more creativity.</a:t>
            </a:r>
            <a:endParaRPr b="0" lang="en-US" sz="2200" spc="-1" strike="noStrike">
              <a:solidFill>
                <a:srgbClr val="ffffff"/>
              </a:solidFill>
              <a:latin typeface="Constantia"/>
            </a:endParaRPr>
          </a:p>
        </p:txBody>
      </p:sp>
      <p:pic>
        <p:nvPicPr>
          <p:cNvPr id="194" name="Title 1" descr=""/>
          <p:cNvPicPr/>
          <p:nvPr/>
        </p:nvPicPr>
        <p:blipFill>
          <a:blip r:embed="rId1"/>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3880"/>
            <a:ext cx="8229600" cy="4572000"/>
          </a:xfrm>
          <a:prstGeom prst="rect">
            <a:avLst/>
          </a:prstGeom>
          <a:noFill/>
          <a:ln w="0">
            <a:noFill/>
          </a:ln>
        </p:spPr>
        <p:txBody>
          <a:bodyPr anchor="t">
            <a:normAutofit fontScale="91000"/>
          </a:bodyPr>
          <a:p>
            <a:pPr marL="248040" indent="-2480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f I were to go through this project again I do not think I would change too much although I would have done an extra article that relates to my main sell line.</a:t>
            </a:r>
            <a:endParaRPr b="0" lang="en-US" sz="2600" spc="-1" strike="noStrike">
              <a:solidFill>
                <a:srgbClr val="ffffff"/>
              </a:solidFill>
              <a:latin typeface="Constantia"/>
            </a:endParaRPr>
          </a:p>
          <a:p>
            <a:pPr marL="248040" indent="-2480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 chose not do my feature article on my main sell line as I realised that for it to be effective a interview article would be required or artist feature and this would seem pretty easy so I felt to challenge myself on more grave topic such as “knife crime”  and take the role of a journalist.</a:t>
            </a:r>
            <a:endParaRPr b="0" lang="en-US" sz="2600" spc="-1" strike="noStrike">
              <a:solidFill>
                <a:srgbClr val="ffffff"/>
              </a:solidFill>
              <a:latin typeface="Constantia"/>
            </a:endParaRPr>
          </a:p>
          <a:p>
            <a:pPr marL="248040" indent="-2480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lso the background of my contents page would be darker as to follow the darkness of the focal image on the front cover.</a:t>
            </a:r>
            <a:endParaRPr b="0" lang="en-US" sz="2600" spc="-1" strike="noStrike">
              <a:solidFill>
                <a:srgbClr val="ffffff"/>
              </a:solidFill>
              <a:latin typeface="Constantia"/>
            </a:endParaRPr>
          </a:p>
        </p:txBody>
      </p:sp>
      <p:pic>
        <p:nvPicPr>
          <p:cNvPr id="19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6" descr=""/>
          <p:cNvPicPr/>
          <p:nvPr/>
        </p:nvPicPr>
        <p:blipFill>
          <a:blip r:embed="rId1"/>
          <a:stretch/>
        </p:blipFill>
        <p:spPr>
          <a:xfrm>
            <a:off x="500040" y="642960"/>
            <a:ext cx="2114640" cy="2990880"/>
          </a:xfrm>
          <a:prstGeom prst="rect">
            <a:avLst/>
          </a:prstGeom>
          <a:ln cap="sq" w="444600">
            <a:solidFill>
              <a:srgbClr val="000000"/>
            </a:solidFill>
            <a:miter/>
          </a:ln>
          <a:effectLst>
            <a:outerShdw dist="190409" dir="2700000" blurRad="0" rotWithShape="0">
              <a:srgbClr val="000000">
                <a:alpha val="40000"/>
              </a:srgbClr>
            </a:outerShdw>
          </a:effectLst>
        </p:spPr>
      </p:pic>
      <p:pic>
        <p:nvPicPr>
          <p:cNvPr id="174" name="Picture 7" descr=""/>
          <p:cNvPicPr/>
          <p:nvPr/>
        </p:nvPicPr>
        <p:blipFill>
          <a:blip r:embed="rId2"/>
          <a:stretch/>
        </p:blipFill>
        <p:spPr>
          <a:xfrm>
            <a:off x="4429080" y="500040"/>
            <a:ext cx="4040280" cy="2857680"/>
          </a:xfrm>
          <a:prstGeom prst="rect">
            <a:avLst/>
          </a:prstGeom>
          <a:ln cap="sq" w="444600">
            <a:solidFill>
              <a:srgbClr val="000000"/>
            </a:solidFill>
            <a:miter/>
          </a:ln>
          <a:effectLst>
            <a:outerShdw dist="190409" dir="2700000" blurRad="0" rotWithShape="0">
              <a:srgbClr val="000000">
                <a:alpha val="40000"/>
              </a:srgbClr>
            </a:outerShdw>
          </a:effectLst>
        </p:spPr>
      </p:pic>
      <p:pic>
        <p:nvPicPr>
          <p:cNvPr id="175" name="Picture 8" descr=""/>
          <p:cNvPicPr/>
          <p:nvPr/>
        </p:nvPicPr>
        <p:blipFill>
          <a:blip r:embed="rId3"/>
          <a:stretch/>
        </p:blipFill>
        <p:spPr>
          <a:xfrm>
            <a:off x="2786040" y="3286080"/>
            <a:ext cx="2165400" cy="3062160"/>
          </a:xfrm>
          <a:prstGeom prst="rect">
            <a:avLst/>
          </a:prstGeom>
          <a:ln w="0">
            <a:noFill/>
          </a:ln>
          <a:effectLst>
            <a:outerShdw dist="139498" dir="2700000" blurRad="0" rotWithShape="0">
              <a:srgbClr val="333333">
                <a:alpha val="65000"/>
              </a:srgbClr>
            </a:outerShdw>
          </a:effectLst>
        </p:spPr>
      </p:pic>
      <p:pic>
        <p:nvPicPr>
          <p:cNvPr id="176" name="Rectangle 8" descr=""/>
          <p:cNvPicPr/>
          <p:nvPr/>
        </p:nvPicPr>
        <p:blipFill>
          <a:blip r:embed="rId4"/>
          <a:stretch/>
        </p:blipFill>
        <p:spPr>
          <a:xfrm>
            <a:off x="414360" y="3449520"/>
            <a:ext cx="2023920" cy="427320"/>
          </a:xfrm>
          <a:prstGeom prst="rect">
            <a:avLst/>
          </a:prstGeom>
          <a:ln w="0">
            <a:noFill/>
          </a:ln>
        </p:spPr>
      </p:pic>
      <p:pic>
        <p:nvPicPr>
          <p:cNvPr id="177" name="Rectangle 9" descr=""/>
          <p:cNvPicPr/>
          <p:nvPr/>
        </p:nvPicPr>
        <p:blipFill>
          <a:blip r:embed="rId5"/>
          <a:stretch/>
        </p:blipFill>
        <p:spPr>
          <a:xfrm>
            <a:off x="2620800" y="6242040"/>
            <a:ext cx="2548080" cy="450720"/>
          </a:xfrm>
          <a:prstGeom prst="rect">
            <a:avLst/>
          </a:prstGeom>
          <a:ln w="0">
            <a:noFill/>
          </a:ln>
        </p:spPr>
      </p:pic>
      <p:pic>
        <p:nvPicPr>
          <p:cNvPr id="178" name="Rectangle 10" descr=""/>
          <p:cNvPicPr/>
          <p:nvPr/>
        </p:nvPicPr>
        <p:blipFill>
          <a:blip r:embed="rId6"/>
          <a:stretch/>
        </p:blipFill>
        <p:spPr>
          <a:xfrm>
            <a:off x="5486400" y="3309840"/>
            <a:ext cx="2865600" cy="45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Now that I have completed the production of my music magazine to my satisfaction and best ability. I now feel it essential to evaluate it suggesting improvements and highlighting what is effective and how it is effective. Also explaining the purpose and production process to making the product.</a:t>
            </a:r>
            <a:endParaRPr b="0" lang="en-US" sz="2600" spc="-1" strike="noStrike">
              <a:solidFill>
                <a:srgbClr val="ffffff"/>
              </a:solidFill>
              <a:latin typeface="Constantia"/>
            </a:endParaRPr>
          </a:p>
        </p:txBody>
      </p:sp>
      <p:pic>
        <p:nvPicPr>
          <p:cNvPr id="18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523880"/>
            <a:ext cx="8229600" cy="4572000"/>
          </a:xfrm>
          <a:prstGeom prst="rect">
            <a:avLst/>
          </a:prstGeom>
          <a:noFill/>
          <a:ln w="0">
            <a:noFill/>
          </a:ln>
        </p:spPr>
        <p:txBody>
          <a:bodyPr anchor="t">
            <a:normAutofit fontScale="95000"/>
          </a:bodyPr>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My “Mic Check” magazine followed the codes and conventions of a real music magazin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On my front cover the use of 3 significant colours and the arrangement of texts around and not covering the focal imag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There are certain words I used in my contents page such as “choong” meaning good looking which will relate to the target audience as this is terminology they are familiar with. I also repeated this method in my two page spread.</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The focal image on my front cover challenges codes and conventions of a regular music mag as they tend to reveal the face of the artist in order to sell the magazine. I chose to conceal the face of the subject as this makes it more exiting and encourages the reader to purchase the magazine in order to find out who the “well known” person is and also links to the main sell lin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However what works well throughout the three featured items is the consistency of colour, this brings the whole package together and displays that the pages are truly from the same magazine issu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2"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Mic Check as it is targeted for the working class dominantly black community attempts to represent this social group. </a:t>
            </a:r>
            <a:endParaRPr b="0" lang="en-US" sz="1800" spc="-1" strike="noStrike">
              <a:solidFill>
                <a:srgbClr val="ffffff"/>
              </a:solidFill>
              <a:latin typeface="Constantia"/>
            </a:endParaRPr>
          </a:p>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magazine does this by the image of a young black boy in a ‘hoody’(hooded jersey) and </a:t>
            </a:r>
            <a:r>
              <a:rPr b="0" i="1" lang="en-GB" sz="1800" spc="-1" strike="noStrike">
                <a:solidFill>
                  <a:srgbClr val="ffffff"/>
                </a:solidFill>
                <a:latin typeface="Constantia"/>
              </a:rPr>
              <a:t>New Era </a:t>
            </a:r>
            <a:r>
              <a:rPr b="0" lang="en-GB" sz="1800" spc="-1" strike="noStrike">
                <a:solidFill>
                  <a:srgbClr val="ffffff"/>
                </a:solidFill>
                <a:latin typeface="Constantia"/>
              </a:rPr>
              <a:t>hat (which is the stereotypical dress code for this social group) on the front cover and the feature article. This is done to familiarise the target with the expected content of the magazine.</a:t>
            </a:r>
            <a:endParaRPr b="0" lang="en-US" sz="1800" spc="-1" strike="noStrike">
              <a:solidFill>
                <a:srgbClr val="ffffff"/>
              </a:solidFill>
              <a:latin typeface="Constantia"/>
            </a:endParaRPr>
          </a:p>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topic I chose to write about in my feature article is very associated with this social group and the Channel U is very popular amongst grime artists and listeners therefore the mentioning of this medium makes the magazine more realistic and familiar. The topic of the two page spread [knife crime] is very serious and currently has major coverage in mainstream media also in the underground scene furthermore the subject is often associated with the demographics of my target audience.</a:t>
            </a:r>
            <a:endParaRPr b="0" lang="en-US" sz="1800" spc="-1" strike="noStrike">
              <a:solidFill>
                <a:srgbClr val="ffffff"/>
              </a:solidFill>
              <a:latin typeface="Constantia"/>
            </a:endParaRPr>
          </a:p>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s well as the images and mentioning well known grime associates, the use of British slang also represents the manner of speaking of my target audience </a:t>
            </a:r>
            <a:endParaRPr b="0" lang="en-US" sz="1800" spc="-1" strike="noStrike">
              <a:solidFill>
                <a:srgbClr val="ffffff"/>
              </a:solidFill>
              <a:latin typeface="Constantia"/>
            </a:endParaRPr>
          </a:p>
        </p:txBody>
      </p:sp>
      <p:pic>
        <p:nvPicPr>
          <p:cNvPr id="184"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If Mic Check were to be distributed I am definite that it would be sold in the same outlets as regular music magazine and would be in high competition as the other leading names on the magazine shelves. Some examples of these outlets and stores are: WHSmith, Asda, Tesco,  local newsagents and off-licences </a:t>
            </a:r>
            <a:endParaRPr b="0" lang="en-US" sz="2400" spc="-1" strike="noStrike">
              <a:solidFill>
                <a:srgbClr val="ffffff"/>
              </a:solidFill>
              <a:latin typeface="Constantia"/>
            </a:endParaRPr>
          </a:p>
          <a:p>
            <a:pPr marL="272880" indent="-272880">
              <a:lnSpc>
                <a:spcPct val="9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ese locations are places that grime consumers may appear regularly or on occasion.</a:t>
            </a:r>
            <a:endParaRPr b="0" lang="en-US" sz="2400" spc="-1" strike="noStrike">
              <a:solidFill>
                <a:srgbClr val="ffffff"/>
              </a:solidFill>
              <a:latin typeface="Constantia"/>
            </a:endParaRPr>
          </a:p>
          <a:p>
            <a:pPr marL="272880" indent="-272880">
              <a:lnSpc>
                <a:spcPct val="9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o target a more specific male audience I would also distribute Mic Check at gyms in London and also GAME an outlet that sell console and computer games for cheap prices which is very popular amongst british hip hop and grime listeners.</a:t>
            </a:r>
            <a:endParaRPr b="0" lang="en-US" sz="2400" spc="-1" strike="noStrike">
              <a:solidFill>
                <a:srgbClr val="ffffff"/>
              </a:solidFill>
              <a:latin typeface="Constantia"/>
            </a:endParaRPr>
          </a:p>
        </p:txBody>
      </p:sp>
      <p:pic>
        <p:nvPicPr>
          <p:cNvPr id="18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523880"/>
            <a:ext cx="8229600" cy="4572000"/>
          </a:xfrm>
          <a:prstGeom prst="rect">
            <a:avLst/>
          </a:prstGeom>
          <a:noFill/>
          <a:ln w="0">
            <a:noFill/>
          </a:ln>
        </p:spPr>
        <p:txBody>
          <a:bodyPr anchor="t">
            <a:normAutofit fontScale="93000"/>
          </a:bodyPr>
          <a:p>
            <a:pPr marL="253440" indent="-2534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s from my research, grime music was birthed in the UK and with the aid of big names such as Dizzee Rascal and Sway is only just being heard about in the US therefore meaning the genre is still a niche category of music . </a:t>
            </a:r>
            <a:endParaRPr b="0" lang="en-US" sz="2400" spc="-1" strike="noStrike">
              <a:solidFill>
                <a:srgbClr val="ffffff"/>
              </a:solidFill>
              <a:latin typeface="Constantia"/>
            </a:endParaRPr>
          </a:p>
          <a:p>
            <a:pPr marL="253440" indent="-2534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s a result of this  I only mainly target the typical listeners of grime of which demographics follow that described before as black, working class and within the ages of 13 to approximately 25 living in the UK London in particular.</a:t>
            </a:r>
            <a:endParaRPr b="0" lang="en-US" sz="2400" spc="-1" strike="noStrike">
              <a:solidFill>
                <a:srgbClr val="ffffff"/>
              </a:solidFill>
              <a:latin typeface="Constantia"/>
            </a:endParaRPr>
          </a:p>
          <a:p>
            <a:pPr marL="253440" indent="-2534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From these demographics ALL the features of Mic Check were constructed to fit the requirements and knowledge of this demographic</a:t>
            </a:r>
            <a:endParaRPr b="0" lang="en-US" sz="2400" spc="-1" strike="noStrike">
              <a:solidFill>
                <a:srgbClr val="ffffff"/>
              </a:solidFill>
              <a:latin typeface="Constantia"/>
            </a:endParaRPr>
          </a:p>
        </p:txBody>
      </p:sp>
      <p:pic>
        <p:nvPicPr>
          <p:cNvPr id="188"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523880"/>
            <a:ext cx="8229600" cy="4572000"/>
          </a:xfrm>
          <a:prstGeom prst="rect">
            <a:avLst/>
          </a:prstGeom>
          <a:noFill/>
          <a:ln w="0">
            <a:noFill/>
          </a:ln>
        </p:spPr>
        <p:txBody>
          <a:bodyPr anchor="t">
            <a:normAutofit fontScale="94000"/>
          </a:bodyPr>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s I described the demographics of my target audience in the previous slide I aimed to address this social groups readership by considering the mise-en-scene to be used in the photography, the language used in text </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first thing a consumer sees when searching for a magazine is the front cover so on this I used an attractive combination of colours (red, blue and white) these colours are bright and stand out on the page but not too immature that it seems childish </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  </a:t>
            </a:r>
            <a:r>
              <a:rPr b="0" lang="en-GB" sz="1800" spc="-1" strike="noStrike">
                <a:solidFill>
                  <a:srgbClr val="ffffff"/>
                </a:solidFill>
                <a:latin typeface="Constantia"/>
              </a:rPr>
              <a:t>the mise-en-scene of a hooded person reflects to the target audience and allows them to be able to relate to it.</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lso the sell lines are topics that will interest them “knife crime” especially as the sudden increase in knife crime in the UK. </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free give away is highly appealing as the CD is of a very recognisable grime artist (Ms Dynamite) who of recent years had not been in the lime light and to be granted the opportunity to get their hands on her new single especially as it is FOR FREE makes the reader even more enthusiastic to purchase the magazine.</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19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28760" y="1357200"/>
            <a:ext cx="8229600" cy="4572000"/>
          </a:xfrm>
          <a:prstGeom prst="rect">
            <a:avLst/>
          </a:prstGeom>
          <a:noFill/>
          <a:ln w="0">
            <a:noFill/>
          </a:ln>
        </p:spPr>
        <p:txBody>
          <a:bodyPr anchor="t">
            <a:normAutofit fontScale="88000"/>
          </a:bodyPr>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Software: </a:t>
            </a:r>
            <a:r>
              <a:rPr b="0" lang="en-GB" sz="1200" spc="-1" strike="noStrike">
                <a:solidFill>
                  <a:srgbClr val="ffffff"/>
                </a:solidFill>
                <a:latin typeface="Constantia"/>
              </a:rPr>
              <a:t>I found myself using Microsoft publisher and adobe photoshop quite often in the production of my magazine. I found that when editing a picture is required such as the first two drafts of my front cover and my “Lord of the Mics” feature article image adobe photoshop is the best programme for it. However as a new user to photoshop I found it extremely difficult to start off with repeatedly having to be tutored about nearly every aspect from shading to cropping and outlining until I finally felt confident enough to go it alone and experiment with the software.</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nstantia"/>
              </a:rPr>
              <a:t>However whenever a large amount of text was required such as the contents page and my two page spreads I found publisher was much easier to use and was easier to arrange. With the two page articles when text flowed unto the next lines with dashes I had to prevent this as it looked unprofessional so many I times I had to re-check ma work to ensure this didn't occur. </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Photography: </a:t>
            </a:r>
            <a:r>
              <a:rPr b="0" lang="en-GB" sz="1200" spc="-1" strike="noStrike">
                <a:solidFill>
                  <a:srgbClr val="ffffff"/>
                </a:solidFill>
                <a:latin typeface="Constantia"/>
              </a:rPr>
              <a:t>when I decided the music genre to do I already had a set mind plan as to what focal image I wanted and how I would go about making the best of it. This image of a hooded black boy in a studio idea came into action in my first and second drafts of my magazine covers, however the facilities in the studio were small i.e. the booth and lack of proper lighting therefore it was difficult for me to catch the angles I wanted to, but I still attempted to make the most I could.</a:t>
            </a:r>
            <a:endParaRPr b="0" lang="en-US" sz="1200" spc="-1" strike="noStrike">
              <a:solidFill>
                <a:srgbClr val="ffffff"/>
              </a:solidFill>
              <a:latin typeface="Constanti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nstantia"/>
              </a:rPr>
              <a:t>I later thought I would use a different surrounding (a roadside) with a shady mysterious effect to the picture. </a:t>
            </a:r>
            <a:endParaRPr b="0" lang="en-US" sz="1200" spc="-1" strike="noStrike">
              <a:solidFill>
                <a:srgbClr val="ffffff"/>
              </a:solidFill>
              <a:latin typeface="Constanti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nstantia"/>
              </a:rPr>
              <a:t>The image I used for my “words of advice” article on the second page may be considered as gruesome but I felt to include this as a serious topic is being spoken about and the seriousness of it should be shown in the shock effect I intend for the picture. The group picture on the first page is to imitate the students ‘selected’ in the article and by so makes the article and images that surround it relevant.</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Typography: </a:t>
            </a:r>
            <a:r>
              <a:rPr b="0" lang="en-GB" sz="1200" spc="-1" strike="noStrike">
                <a:solidFill>
                  <a:srgbClr val="ffffff"/>
                </a:solidFill>
                <a:latin typeface="Constantia"/>
              </a:rPr>
              <a:t>in my rationale I experimented with  typography and colours for my masthead in order to deliver the best bold but legible font  that stands out and dominates the page.</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Editing: </a:t>
            </a:r>
            <a:r>
              <a:rPr b="0" lang="en-GB" sz="1200" spc="-1" strike="noStrike">
                <a:solidFill>
                  <a:srgbClr val="ffffff"/>
                </a:solidFill>
                <a:latin typeface="Constantia"/>
              </a:rPr>
              <a:t>to make my magazine the “I” in mic check had to be edited from an image from google and then fitted into the name using photoshop and then resized to make sure it is the appropriate size. Also I had to edit the drafts of my contents page and front covers to make sure it is up to my satisfaction and as I asked a few people of my demographic target audience if they would purchase e the magazine as I was creating it in order to appear like a magazine they see as realistic and attractive</a:t>
            </a:r>
            <a:endParaRPr b="0" lang="en-US" sz="1200" spc="-1" strike="noStrike">
              <a:solidFill>
                <a:srgbClr val="ffffff"/>
              </a:solidFill>
              <a:latin typeface="Constantia"/>
            </a:endParaRPr>
          </a:p>
        </p:txBody>
      </p:sp>
      <p:pic>
        <p:nvPicPr>
          <p:cNvPr id="192"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17:19:57Z</dcterms:created>
  <dc:creator>User</dc:creator>
  <dc:description/>
  <dc:language>en-US</dc:language>
  <cp:lastModifiedBy>Korede</cp:lastModifiedBy>
  <dcterms:modified xsi:type="dcterms:W3CDTF">2010-03-12T21:38:52Z</dcterms:modified>
  <cp:revision>38</cp:revision>
  <dc:subject/>
  <dc:title>Evaluation</dc:title>
</cp:coreProperties>
</file>