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20AE9-CC55-4DE9-B655-B1A8B89D2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0999-9D59-42F7-AE30-92235874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338C8-64DA-4E83-A241-1159533A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07BB-B2B2-44BE-B2F5-826E96396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5A012-34D9-41A1-96CD-A4622550B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2C236-E4DF-499F-B9BD-0E6345BBE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F018C-116C-4EE1-BE3B-D012FDF5E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80F1C-854C-4C37-8861-0B0B608E5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BABDE-8894-4FF3-9FC7-1DD24AB29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540A9-B030-433D-AFE7-F391345E3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D81E5-3E3E-4160-AA07-94459C34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CE49-B68D-4DBE-A6D6-9151875E0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BBEBD-6AE5-4FC9-9590-0B9395C6D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8F6EE-C0C1-474B-8B95-6E3D74715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BA193-73FE-420F-AC60-0993490AA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642BF-9616-4655-A655-9734D3BA7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B993F-26DB-4F72-BAF0-89CDC747E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876E-1955-4150-B2D8-8DA87E007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D3D3-53EA-4125-8962-FB22CEB4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FF82-A4DB-4700-9CD8-B1AA87883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6386-C231-4D49-BBEA-81AF77DD5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912F-08B4-4293-90A4-4408326A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9647-AEFA-427C-B434-6D4C819DF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03A2-A136-459F-8D34-B4D3FFD70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6EE9-FB9C-4D4D-8D50-D51AA025088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4C68-C622-4314-8420-58B4E6E95A4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Allison</cp:lastModifiedBy>
  <dcterms:modified xsi:type="dcterms:W3CDTF">2010-01-29T16:20:32Z</dcterms:modified>
  <cp:revision>6</cp:revision>
  <dc:subject/>
  <dc:title>BORAT!</dc:title>
</cp:coreProperties>
</file>