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E2573-B5CC-4B27-BC88-8DE649BD4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896D9-2431-4CF0-A6E1-821EDBF6B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A7E08-AED3-4D27-91C2-1972D6E29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3BE36-F8DD-489E-B5A0-A14BD54A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B6C28-E5A3-4062-BB66-FF4D1A76A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74DDE-39CE-4A4D-8A9A-66471C82E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2AB2B-A0CD-48C4-A2A4-D620D621C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F5BF-6AC9-45CF-96FF-E130BFE51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ADAB6-3541-4C64-A11B-01642C511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CA04B-4029-4E11-9147-2A773E736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C2BE9-B0F8-4949-B2E2-9BFE96929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A323-9ABE-4890-842F-C9BBA3F57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011EA-A9B2-4DEE-A5D3-32E5FA78A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74AC-6B68-46AA-9D45-97A579E8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73945-1CCE-40D9-BA8A-9A436B095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170BC-41DC-498C-944A-60BAB4A37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2B229-A315-42C6-9CBD-F883E817F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6ED6A-0A60-4F43-986D-54C90E5DB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A4641-9D84-4AEF-9E38-F3F350B0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D193C-DCCC-4C46-BE78-FFF8E0B6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0674-0122-4934-93D6-0C2DA340E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35BB-1CC1-42ED-A52B-69DC987C7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B2FA-9736-4ED2-8502-354D1B9F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0202-D2BF-41F3-A9F1-EFE765A07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6120-59B4-4DBD-890E-E9AF064AC86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75A8-64C6-4763-A084-6C19FA17E6E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Allison</cp:lastModifiedBy>
  <dcterms:modified xsi:type="dcterms:W3CDTF">2010-01-29T16:20:32Z</dcterms:modified>
  <cp:revision>6</cp:revision>
  <dc:subject/>
  <dc:title>BORAT!</dc:title>
</cp:coreProperties>
</file>