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B822C-E2E3-4CDF-B08A-6A687498E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49ADF-B9EA-4FE9-B146-41FB08F6C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734AE-D695-4411-9B14-E1C4A3C29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7D4D3-F637-45C9-9FC1-8485464FF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C9765-66D2-492A-BF9E-AFCB97531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709B7-E6E1-45EB-AEBA-61A2AD0A1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53CE1-86F4-4AEC-8A78-5D1C215E2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F15E1-13BD-4DAF-80EC-4436E9B16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B9056-7D0A-4B80-8A60-79ACD0BA9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F59FF-46FA-4006-8782-C3FFFF843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A167-BACB-4090-B9D6-D78218E30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F55EF-8433-4C23-B4A4-798D2C8AF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D91F-1F64-4D58-892A-A596F4A46A2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oad Tri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What is a Road Trip movie?</a:t>
            </a:r>
            <a:endParaRPr b="0" lang="en-US" sz="6600" spc="-1" strike="noStrike">
              <a:solidFill>
                <a:srgbClr val="000000"/>
              </a:solidFill>
              <a:latin typeface="Calibri"/>
            </a:endParaRPr>
          </a:p>
        </p:txBody>
      </p:sp>
      <p:sp>
        <p:nvSpPr>
          <p:cNvPr id="44" name=""/>
          <p:cNvSpPr txBox="1"/>
          <p:nvPr/>
        </p:nvSpPr>
        <p:spPr>
          <a:xfrm>
            <a:off x="213840" y="1642680"/>
            <a:ext cx="8929800" cy="5000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 road film is a film genre in which the film's plot takes place during a journey.</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genre has its roots in spoken and written tales of epic journeys, such as the Odyssey and the Aeneid. It is a story in which the hero changes, grows or improves over the course of the story.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on-the-road plot was used in American Cinema but grew in the years after World War II, reflecting a boom in automobile production and the growth of youth culture.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ven so, awareness of the "road picture" as a genre came only in the 1960s with Easy Rider and Bonnie and Cly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Repertoire of Elements</a:t>
            </a:r>
            <a:endParaRPr b="0" lang="en-US" sz="8000" spc="-1" strike="noStrike">
              <a:solidFill>
                <a:srgbClr val="000000"/>
              </a:solidFill>
              <a:latin typeface="Calibri"/>
            </a:endParaRPr>
          </a:p>
        </p:txBody>
      </p:sp>
      <p:sp>
        <p:nvSpPr>
          <p:cNvPr id="46" name=""/>
          <p:cNvSpPr txBox="1"/>
          <p:nvPr/>
        </p:nvSpPr>
        <p:spPr>
          <a:xfrm>
            <a:off x="457200" y="2142720"/>
            <a:ext cx="822960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Like their antecedents, the road movie tends towards an episodic structure. In each episode, there is a challenge to be met, although not all of them will be met successfully. In most episodes, a piece of the plot is revealed - knowledge or allies are gained, and so on. Sometimes this progress is inverted, and each episode represents a loss rather than a 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Content Placeholder 2"/>
          <p:cNvSpPr/>
          <p:nvPr/>
        </p:nvSpPr>
        <p:spPr>
          <a:xfrm>
            <a:off x="457200" y="714240"/>
            <a:ext cx="8229600" cy="541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
          <p:cNvSpPr/>
          <p:nvPr/>
        </p:nvSpPr>
        <p:spPr>
          <a:xfrm>
            <a:off x="500040" y="421920"/>
            <a:ext cx="821520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oad movies traditionally end in one of four ways:</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met with triumph at their ultimate destination, the protagonists return home, wiser for their experiences.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at the end of the journey, the protagonists find a new home at their destination.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he journey continues endlessly.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a:t>
            </a:r>
            <a:r>
              <a:rPr b="0" lang="en-GB" sz="3200" spc="-1" strike="noStrike">
                <a:solidFill>
                  <a:srgbClr val="ffffff"/>
                </a:solidFill>
                <a:latin typeface="Calibri"/>
                <a:ea typeface="Times New Roman"/>
              </a:rPr>
              <a:t>realized </a:t>
            </a:r>
            <a:r>
              <a:rPr b="0" lang="en-US" sz="3200" spc="-1" strike="noStrike">
                <a:solidFill>
                  <a:srgbClr val="ffffff"/>
                </a:solidFill>
                <a:latin typeface="Calibri"/>
                <a:ea typeface="Times New Roman"/>
              </a:rPr>
              <a:t>that, as a result of their journey, they can never go home, the protagonists either choose death or are kille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Technical Aspects</a:t>
            </a:r>
            <a:endParaRPr b="0" lang="en-US" sz="8000" spc="-1" strike="noStrike">
              <a:solidFill>
                <a:srgbClr val="000000"/>
              </a:solidFill>
              <a:latin typeface="Calibri"/>
            </a:endParaRPr>
          </a:p>
        </p:txBody>
      </p:sp>
      <p:sp>
        <p:nvSpPr>
          <p:cNvPr id="50" name=""/>
          <p:cNvSpPr txBox="1"/>
          <p:nvPr/>
        </p:nvSpPr>
        <p:spPr>
          <a:xfrm>
            <a:off x="457200" y="2143080"/>
            <a:ext cx="8229600" cy="398304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s always, there is some form of transport (usually a car) as well as other things such as maps and alcohol.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lothes are always modern and lighting tends to natural.</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ifferent angles aren’t usually used, especially in comedy road trip films such as “Euro Trip” as there is no real need for t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2"/>
          <p:cNvSpPr/>
          <p:nvPr/>
        </p:nvSpPr>
        <p:spPr>
          <a:xfrm>
            <a:off x="457200" y="357120"/>
            <a:ext cx="8229600" cy="614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ajority of the films are edited as continuity whilst high action films such as terminator use montage edit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usic used in road trip films vary from what sub genres. For example, comedies with have more uplifting songs with funny lyrics. Action movies with have music that's harsher and have a tough sound.</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pecial Effects are not commonly used but films with other sub genres may have special effects such as blood and weird green fairies that appear when strong alcohol is dru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ontent Placeholder 2"/>
          <p:cNvSpPr/>
          <p:nvPr/>
        </p:nvSpPr>
        <p:spPr>
          <a:xfrm>
            <a:off x="457200" y="428760"/>
            <a:ext cx="6114960" cy="607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low are some of the highest grossing road trip films (amount to d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uro trip - $20,796,847</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ld Hogs - $168,273,550</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umb and Dumber - $127,175,374</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orat - $128,505,958</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re We There Yet? - $82,674,398</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V - $71,726,025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angover - $276,964,638</a:t>
            </a:r>
            <a:endParaRPr b="0" lang="en-US" sz="3200" spc="-1" strike="noStrike">
              <a:solidFill>
                <a:srgbClr val="000000"/>
              </a:solidFill>
              <a:latin typeface="Arial"/>
            </a:endParaRPr>
          </a:p>
        </p:txBody>
      </p:sp>
      <p:pic>
        <p:nvPicPr>
          <p:cNvPr id="53" name="Picture 1" descr=""/>
          <p:cNvPicPr/>
          <p:nvPr/>
        </p:nvPicPr>
        <p:blipFill>
          <a:blip r:embed="rId1"/>
          <a:stretch/>
        </p:blipFill>
        <p:spPr>
          <a:xfrm>
            <a:off x="7429680" y="4219560"/>
            <a:ext cx="1714320" cy="2638440"/>
          </a:xfrm>
          <a:prstGeom prst="rect">
            <a:avLst/>
          </a:prstGeom>
          <a:ln w="0">
            <a:noFill/>
          </a:ln>
        </p:spPr>
      </p:pic>
      <p:pic>
        <p:nvPicPr>
          <p:cNvPr id="54" name="Picture 2" descr=""/>
          <p:cNvPicPr/>
          <p:nvPr/>
        </p:nvPicPr>
        <p:blipFill>
          <a:blip r:embed="rId2"/>
          <a:stretch/>
        </p:blipFill>
        <p:spPr>
          <a:xfrm>
            <a:off x="7429680" y="0"/>
            <a:ext cx="1714320" cy="2475000"/>
          </a:xfrm>
          <a:prstGeom prst="rect">
            <a:avLst/>
          </a:prstGeom>
          <a:ln w="0">
            <a:noFill/>
          </a:ln>
        </p:spPr>
      </p:pic>
      <p:pic>
        <p:nvPicPr>
          <p:cNvPr id="55" name="Picture 3" descr=""/>
          <p:cNvPicPr/>
          <p:nvPr/>
        </p:nvPicPr>
        <p:blipFill>
          <a:blip r:embed="rId3"/>
          <a:stretch/>
        </p:blipFill>
        <p:spPr>
          <a:xfrm>
            <a:off x="7429680" y="2428920"/>
            <a:ext cx="171432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8:18:52Z</dcterms:created>
  <dc:creator>carolina</dc:creator>
  <dc:description/>
  <dc:language>en-US</dc:language>
  <cp:lastModifiedBy>carolina</cp:lastModifiedBy>
  <dcterms:modified xsi:type="dcterms:W3CDTF">2009-11-13T17:42:52Z</dcterms:modified>
  <cp:revision>14</cp:revision>
  <dc:subject/>
  <dc:title>Genre Research</dc:title>
</cp:coreProperties>
</file>