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6011D-17CD-471B-BFC7-DBD94EED7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F5B33-36D4-4280-82BA-239172A9E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D1F60-D384-42FB-ABF3-D26AE8D3E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4C1F5-744E-48B5-800E-A84947C9D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F643E-6624-4BC4-AC7A-34A5B3019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AAA95-5339-4C77-A73F-C664A3918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9FDBA-1366-4E45-BC60-424D821E7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13AFF-3B48-40C1-A30B-03F3008A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6A958-32CF-489E-BE18-C37B5BEDE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22812-215F-45A9-B468-81497F9F6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D6AE7-B8BF-4438-A19E-3CF73664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62173-9A4F-4EC2-BA76-BF2A133A8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D56C-036C-478A-A37E-585E4FBB117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antecedents,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1920"/>
            <a:ext cx="82152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168,273,55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127,175,374</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 $128,505,95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 $82,674,39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71,726,025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276,964,63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carolina</cp:lastModifiedBy>
  <dcterms:modified xsi:type="dcterms:W3CDTF">2009-11-13T17:42:52Z</dcterms:modified>
  <cp:revision>14</cp:revision>
  <dc:subject/>
  <dc:title>Genre Research</dc:title>
</cp:coreProperties>
</file>