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63B41F-4D62-48ED-935E-67CB6AFE89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438D9-4FB2-4DF3-9B47-5140ACC1D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4193F-8214-494C-9FE9-56733033C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F9710F-77DB-4E05-B3CB-DD4429967C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7264C-82B3-4B5A-B0FB-7CA8B0640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FB707-6352-43D0-B556-D7D5EDE87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B0DA9-E3E7-4DA5-8005-D610D5C33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FA7A3-D9E5-496D-9E92-C99D62DDC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99077-7CBD-4026-97A8-AC6C0ACFF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33963-39A7-47CE-8C3F-3D73CD929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0C2F1-6242-456F-9526-FC471B97E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8172E-3B2E-4AD1-9BF7-433B5B554F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15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E026E-B121-42E5-A2CB-83EAA692451D}"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imdb.com/video/screenplay/vi1559560985/"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4240" y="13572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Genre</a:t>
            </a:r>
            <a:r>
              <a:rPr b="1" lang="es-ES" sz="9600" spc="-1" strike="noStrike">
                <a:solidFill>
                  <a:srgbClr val="ffffff"/>
                </a:solidFill>
                <a:latin typeface="Calibri"/>
              </a:rPr>
              <a:t> </a:t>
            </a:r>
            <a:r>
              <a:rPr b="1" lang="en-GB" sz="9600" spc="-1" strike="noStrike">
                <a:solidFill>
                  <a:srgbClr val="ffffff"/>
                </a:solidFill>
                <a:latin typeface="Calibri"/>
              </a:rPr>
              <a:t>Research-</a:t>
            </a:r>
            <a:br>
              <a:rPr sz="9600"/>
            </a:br>
            <a:r>
              <a:rPr b="1" lang="en-GB" sz="9600" spc="-1" strike="noStrike">
                <a:solidFill>
                  <a:srgbClr val="ffffff"/>
                </a:solidFill>
                <a:latin typeface="Calibri"/>
              </a:rPr>
              <a:t>Film</a:t>
            </a:r>
            <a:endParaRPr b="0" lang="en-US" sz="9600" spc="-1" strike="noStrike">
              <a:solidFill>
                <a:srgbClr val="000000"/>
              </a:solidFill>
              <a:latin typeface="Calibri"/>
            </a:endParaRPr>
          </a:p>
        </p:txBody>
      </p:sp>
      <p:sp>
        <p:nvSpPr>
          <p:cNvPr id="42" name="PlaceHolder 2"/>
          <p:cNvSpPr>
            <a:spLocks noGrp="1"/>
          </p:cNvSpPr>
          <p:nvPr>
            <p:ph type="subTitle"/>
          </p:nvPr>
        </p:nvSpPr>
        <p:spPr>
          <a:xfrm>
            <a:off x="1371600" y="4500360"/>
            <a:ext cx="6400800" cy="157140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Rat Race</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40315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ffffff"/>
                </a:solidFill>
                <a:latin typeface="Calibri"/>
              </a:rPr>
              <a:t>Film – “Rat Race”</a:t>
            </a:r>
            <a:endParaRPr b="0" lang="en-US" sz="8000" spc="-1" strike="noStrike">
              <a:solidFill>
                <a:srgbClr val="000000"/>
              </a:solidFill>
              <a:latin typeface="Calibri"/>
            </a:endParaRPr>
          </a:p>
        </p:txBody>
      </p:sp>
      <p:sp>
        <p:nvSpPr>
          <p:cNvPr id="44" name=""/>
          <p:cNvSpPr txBox="1"/>
          <p:nvPr/>
        </p:nvSpPr>
        <p:spPr>
          <a:xfrm>
            <a:off x="539640" y="1557000"/>
            <a:ext cx="8136000" cy="508644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A group of billionaires led by a Las Vegas casino owner search for things to bet on. They decide to pull a group of six strangers together to race from Vegas to Silver City, New Mexico to posses $2 million hidden in a locker. First one there gets all of the money. The first team are two brothers (Duane and Blaine, who talks indecipherably because of a newly pierced tongue). When they cannot catch a plane, they plot to destroy an airport control tower in a very funny sequence. Their tricks carry them into a hot air balloon chase that catches a cow with a dangling rope and into a monster truck competition.</a:t>
            </a: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The second team is an estranged mother reunited with her daughter, who is struggling to start a business. They face an insane squirrel-selling woman and steal a rocket car scheduled for a land speed record attempt and break the record.</a:t>
            </a: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 </a:t>
            </a:r>
            <a:r>
              <a:rPr b="0" lang="en-GB" sz="2000" spc="-1" strike="noStrike">
                <a:solidFill>
                  <a:srgbClr val="ffffff"/>
                </a:solidFill>
                <a:latin typeface="Calibri"/>
              </a:rPr>
              <a:t>A hated NFL referee is stranded in the desert by an furious cabbie and hijacks a busload of Lucille Ball look-alikes on the way to a convention by knocking out the drive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152"/>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6840" y="691920"/>
            <a:ext cx="8218440" cy="56163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Jewish family man on a family vacation joins the race without telling his wife why they are rushing across the country. He makes most of the journey with the rest of the family unconscious after taking vast amounts of sleeping pills in their milkshakes. When his daughter insists on stopping at a Barbie museum, none of them realise it is a Klaus Barbie Nazi Museum. Their escape involves the theft of Hitler's personal touring car and culminates with the man having his tongue burned and accidentally crashing into a WWII Veteran's convention with a Hitler-like lipstick moustache.</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 narcoleptic Italian gets a ride with an ambulance driver, who is carting a human heart for a transplant. Through various clumsiness, the heart ends up flying out of the truck's window and the two have to recover it from a playful dog.</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final race member is a straight-laced future lawyer who at first declines to participate in the race, but re-thinks his position after he meets a smart, beautiful woman who is flying a helicopter to New Mexico. He quickly finds out that she is disturbed after she flies over her boy friend's house and starts an attack on the boy friend when she sees him in the pool with an ex-girl friend. An air pursuit results in the crash of the helicopt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Poster</a:t>
            </a:r>
            <a:endParaRPr b="0" lang="en-US" sz="9600" spc="-1" strike="noStrike">
              <a:solidFill>
                <a:srgbClr val="000000"/>
              </a:solidFill>
              <a:latin typeface="Calibri"/>
            </a:endParaRPr>
          </a:p>
        </p:txBody>
      </p:sp>
      <p:pic>
        <p:nvPicPr>
          <p:cNvPr id="47" name="Picture 4" descr=""/>
          <p:cNvPicPr/>
          <p:nvPr/>
        </p:nvPicPr>
        <p:blipFill>
          <a:blip r:embed="rId1"/>
          <a:stretch/>
        </p:blipFill>
        <p:spPr>
          <a:xfrm>
            <a:off x="428760" y="1643040"/>
            <a:ext cx="3054240" cy="4525920"/>
          </a:xfrm>
          <a:prstGeom prst="rect">
            <a:avLst/>
          </a:prstGeom>
          <a:ln w="0">
            <a:noFill/>
          </a:ln>
        </p:spPr>
      </p:pic>
      <p:sp>
        <p:nvSpPr>
          <p:cNvPr id="48" name="TextBox 3"/>
          <p:cNvSpPr/>
          <p:nvPr/>
        </p:nvSpPr>
        <p:spPr>
          <a:xfrm>
            <a:off x="3500280" y="1357200"/>
            <a:ext cx="5643720" cy="57632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most notable thing about the poster is the actors. Instead of the normality that is a whole human body, the shoulders down are cartoon. This connotes part of the genre of the film.</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t Race being in gold suggest wealth, as the money that seems to of have been thrown in the air. This hints as to what the plot is – a race to get money.</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costumes used by all the different characters is key to show the characters personality. For example, the man in the Hawaiian shirt implies the idea that he is on holiday</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Trailer</a:t>
            </a:r>
            <a:endParaRPr b="0" lang="en-US" sz="9600" spc="-1" strike="noStrike">
              <a:solidFill>
                <a:srgbClr val="000000"/>
              </a:solidFill>
              <a:latin typeface="Calibri"/>
            </a:endParaRPr>
          </a:p>
        </p:txBody>
      </p:sp>
      <p:sp>
        <p:nvSpPr>
          <p:cNvPr id="50" name=""/>
          <p:cNvSpPr txBox="1"/>
          <p:nvPr/>
        </p:nvSpPr>
        <p:spPr>
          <a:xfrm>
            <a:off x="214200" y="1071360"/>
            <a:ext cx="8715600" cy="5500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www.imdb.com/video/screenplay/vi1559560985/</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In the trailer, we are shown many funny scenes. All these different scenes build up until the end in which we see a cow hanging by a rope attached to a hot air balloon hit a coach full of Lucy fans. This particular scene is full of laughs, something that every audience will enjo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his enables the audience to find out the basic plot as well as get an introduction to the characters and their personal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alibri"/>
              </a:rPr>
              <a:t>Facts</a:t>
            </a:r>
            <a:endParaRPr b="0" lang="en-US" sz="7200" spc="-1" strike="noStrike">
              <a:solidFill>
                <a:srgbClr val="000000"/>
              </a:solidFill>
              <a:latin typeface="Calibri"/>
            </a:endParaRPr>
          </a:p>
        </p:txBody>
      </p:sp>
      <p:sp>
        <p:nvSpPr>
          <p:cNvPr id="52" name=""/>
          <p:cNvSpPr txBox="1"/>
          <p:nvPr/>
        </p:nvSpPr>
        <p:spPr>
          <a:xfrm>
            <a:off x="285840" y="1428480"/>
            <a:ext cx="8686800" cy="51433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n total, the film made $85,498,534. On its opening weekend it made $11,662,094.</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distributor was Paramount.</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Rat Race is ranked 11 in the top road trip/comedy films ever.</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s based on the 1963 comedy classic It's a Mad Mad Mad Mad World (1963)</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n It's a Mad Mad Mad Mad World (1963) the characters are in a race for $350,000. In this movie, they are in a race for $2 million. Adjusted for inflation, $2 million is almost exactly what $350,000 was worth in 1963.</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1T18:45:23Z</dcterms:created>
  <dc:creator>carolina</dc:creator>
  <dc:description/>
  <dc:language>en-US</dc:language>
  <cp:lastModifiedBy>Theo</cp:lastModifiedBy>
  <dcterms:modified xsi:type="dcterms:W3CDTF">2009-11-16T14:51:38Z</dcterms:modified>
  <cp:revision>28</cp:revision>
  <dc:subject/>
  <dc:title>Slide 1</dc:title>
</cp:coreProperties>
</file>