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64165-D67C-41C3-AC0A-C3AC8B351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0B9C8-A554-4E94-8FF4-7BFBD9A6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3B462-75AA-491D-8A04-105FB82F1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1310A-F1AC-4B9A-91D2-3E959658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457AF-1D87-4886-8576-84560F1E2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A18D1-2FA7-4980-ADCB-5753092A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9429F-593D-463B-B001-E6FBAA7FA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8453A-A64A-4997-931D-61771F1B6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3E5F1-7B78-4ACA-9DDA-C1F9B98C9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D9FEE-2FA9-4B4E-B1AB-E8F0AC7C6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CC246-F2B1-47A0-A121-5A94F837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67330-833D-441A-8771-CE743695C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7D815-5666-4138-B3D0-EB777DD1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D0DCE-1355-482D-B70C-5084AA759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1DD66-677A-4B3E-9889-3962E605A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132BC-22E8-4A65-B4AB-5BA9DBE6B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81D7C-248E-489D-92A5-A2E7D87DC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18030-EF31-40DB-9C67-766AB697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25536-DA42-4000-AD19-15EF878C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2241-1EF0-47DA-94C6-38A8B0B3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FC45-B434-4078-92B0-29EC966BC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5D27-0434-4561-A871-5D288E9A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66B7-2443-48A0-A46B-396167BF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1E0C-7051-4FA6-A606-18EB5E014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1D86-CAD1-4563-83B6-ABBF73CA16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E925-3D26-4018-9503-3BF94A8519F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Shahan</cp:lastModifiedBy>
  <dcterms:modified xsi:type="dcterms:W3CDTF">2009-11-30T11:11:19Z</dcterms:modified>
  <cp:revision>6</cp:revision>
  <dc:subject/>
  <dc:title>BORAT!</dc:title>
</cp:coreProperties>
</file>