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048A6-979D-4C21-9A9F-D6C1D45E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7CB4-667A-4966-BEC7-D1848157D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BACC-5D9E-4631-93FD-D4E0F38A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9E3C-6069-419B-9730-76D715F1F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9EBAD-CB7C-415A-B052-0FA362AD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6A8EC-8D7F-40D8-A67F-013CF392A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1D348-868B-4FC9-B0F1-0B5CD2CFC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340B4-6380-4959-AD0E-11CAF6C62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552A7-41D2-4BC4-9564-ACC31A7B5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CE402-D347-4A11-9A0B-F8968804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B9760-0969-4D97-B452-8DA533F01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9BD59-50BB-407F-834E-3156B3BA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971F-F88D-42CF-B6CF-331268985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1310-4141-4200-AC2E-5A24DAF75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AEF8A-199C-4F7C-A6B8-759B86AAA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B80CB-3D75-4013-9CC8-EE144CCBC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C798A-862D-4788-BACA-D27725F2F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E738A-21D8-4845-9EDF-05460F232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FCE8A-3506-4A09-9EEA-77408990F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6E72-377A-49CA-B40D-DF3CF0EEF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0E1B-6CCA-40F2-8ACF-1E492DE7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0746E-5786-498A-9CEC-BFC10D57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EB3E-4596-49B4-A151-7F352836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E137-9063-4D9D-B946-1FA527113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DC93-5207-42B9-BBD2-A94568C3853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F166-95ED-461A-8F09-AEDD6B6C0DB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Shahan</cp:lastModifiedBy>
  <dcterms:modified xsi:type="dcterms:W3CDTF">2009-11-30T11:11:19Z</dcterms:modified>
  <cp:revision>6</cp:revision>
  <dc:subject/>
  <dc:title>BORAT!</dc:title>
</cp:coreProperties>
</file>