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4E513-4BEF-42D4-8947-5AC116F0D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859F7-2648-4CFE-9044-E680A7D68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EF2D2-F6E3-4395-ABFE-206C0D9A7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FDA13-B7D6-47E7-831F-FC67A268F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908E0-4736-4372-BA43-C66CE353B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69A38-CC56-4EC9-B9CD-D1B8BFD09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78F10-E3FA-4090-BA1D-CC69532DE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731DA-F810-4F06-BBF5-D77120C01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D160A-565C-4EA5-8F91-E22E0A216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0B39F-0D04-4CDE-8BFB-A1C38D462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F09E4-E565-4FF0-9864-E65D0AF9E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5C01D-5AC1-4AE8-A370-1332B712B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96F2-2D56-452C-A723-DE7FFC8544B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dvanced Portfolio:</a:t>
            </a:r>
            <a:br>
              <a:rPr sz="4400"/>
            </a:br>
            <a:r>
              <a:rPr b="0" lang="en-GB" sz="4400" spc="-1" strike="noStrike">
                <a:solidFill>
                  <a:srgbClr val="000000"/>
                </a:solidFill>
                <a:latin typeface="Calibri"/>
              </a:rPr>
              <a:t>Evalua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KCD</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Korede, Katie, Chanelle, Diana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Dianah</a:t>
            </a:r>
            <a:endParaRPr b="0" lang="en-US" sz="4400" spc="-1" strike="noStrike">
              <a:solidFill>
                <a:srgbClr val="000000"/>
              </a:solidFill>
              <a:latin typeface="Calibri"/>
            </a:endParaRPr>
          </a:p>
        </p:txBody>
      </p:sp>
      <p:pic>
        <p:nvPicPr>
          <p:cNvPr id="6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Chanelle</a:t>
            </a:r>
            <a:endParaRPr b="0" lang="en-US" sz="4400" spc="-1" strike="noStrike">
              <a:solidFill>
                <a:srgbClr val="000000"/>
              </a:solidFill>
              <a:latin typeface="Calibri"/>
            </a:endParaRPr>
          </a:p>
        </p:txBody>
      </p:sp>
      <p:pic>
        <p:nvPicPr>
          <p:cNvPr id="6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atie</a:t>
            </a:r>
            <a:endParaRPr b="0" lang="en-US" sz="4400" spc="-1" strike="noStrike">
              <a:solidFill>
                <a:srgbClr val="000000"/>
              </a:solidFill>
              <a:latin typeface="Calibri"/>
            </a:endParaRPr>
          </a:p>
        </p:txBody>
      </p:sp>
      <p:pic>
        <p:nvPicPr>
          <p:cNvPr id="6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have you learned from your audience feedback?</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o obtain information from whom exactly our target audience would be we carried out primary research by questionnair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rom these questionnaires we were able to establish who exactly preferred Gangster/Crime films by age, gender and if needs be ethnicity. We were also able to understand the typical convention expected by the audience to feature in Gangster Crime films such as money, seductive female(s), fast car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o our amazement a vast majority of the respondents knew very little of British Film Director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Media Technology did we use?</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me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mera- Rec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ernet</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obe Photoshop/Arcsoft Photo editor</a:t>
            </a:r>
            <a:r>
              <a:rPr b="0" lang="en-GB" sz="2000" spc="-1" strike="noStrike">
                <a:solidFill>
                  <a:srgbClr val="000000"/>
                </a:solidFill>
                <a:latin typeface="Calibri"/>
              </a:rPr>
              <a:t>(softwares)</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rip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icrosoft Publisher, Power Poi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id you use media technologies in the construction and research, planning and evaluation stages?</a:t>
            </a:r>
            <a:endParaRPr b="0" lang="en-US" sz="2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RESEARCH:</a:t>
            </a:r>
            <a:r>
              <a:rPr b="0" lang="en-GB" sz="1500" spc="-1" strike="noStrike">
                <a:solidFill>
                  <a:srgbClr val="000000"/>
                </a:solidFill>
                <a:latin typeface="Calibri"/>
              </a:rPr>
              <a:t> the internet allowed us to carry out secondary research into existing films from the genre, the highest grossing film, the most popular, iconography. More importantly with the internet we were able view existing trailers, see film magazines and film posters to comprehend what are the expected conventions. The information we gathered we were able to set them out presentably unto Microsoft PowerPoint, Publisher and Word document formats.</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PLANNING: </a:t>
            </a:r>
            <a:r>
              <a:rPr b="0" lang="en-GB" sz="1500" spc="-1" strike="noStrike">
                <a:solidFill>
                  <a:srgbClr val="000000"/>
                </a:solidFill>
                <a:latin typeface="Calibri"/>
              </a:rPr>
              <a:t>With the aid of Microsoft Publisher were able to easily manipulate the arrangements of our ancillary tasks without ruining our total composition before placing them unto photoshop/photoeditor. Before taking our official photos to be used in our ancillary texts we first of all experimented with the camera by taking pictures of different settings and random objects from alternative angles and lightings by doing this we were able to become familiar with the camera settings and also we were able to trial different styles of photography so we could get an idea of what we wanted to feature in our final production</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CONSTRUCTION: </a:t>
            </a:r>
            <a:r>
              <a:rPr b="0" lang="en-GB" sz="1500" spc="-1" strike="noStrike">
                <a:solidFill>
                  <a:srgbClr val="000000"/>
                </a:solidFill>
                <a:latin typeface="Calibri"/>
              </a:rPr>
              <a:t>well with photoshop/photoeditor we could edit our images and fonts on our posters and magazines while the camera we were able to take the pictures in the first place.</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EVALUATION:</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is the criteria for our advanced portfolio?</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ur A2 advanced portfolio consisted of 2 ancillary task of which we all completed individuall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film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film magazine front cov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a group production of a film teaser trailer lasting for 1minu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In what ways does your media product use, develop or challenge forms and conventions of real media products?</a:t>
            </a:r>
            <a:endParaRPr b="0" lang="en-US" sz="2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nre for our film promotion package was a Gangster/Crime genre. To capture this we ensured to scenes and locations which establish the city at which the gangster activity is happening which is often used in this gen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urthermore likewise with professional filmmakers we drew up a pitch to allow us a set mind of the storyline and detailed this further in a storyboard that gave us a template as to the clips and scenes to shoot and include in our trail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e preferably decided to convert to most of the conventions in terms of our film posters featuring weapons and a twist of romance with a female as well as our magazine front cover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orede</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ith my film poster although I could not include an image of a female as to compliment the romance part of our storyline. I instead chose to connotate romance with the red tone of the gun while also connotating danger and havo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angle at which the focal image is taken is from a low angle giving emphasis on the main character making him seem of power and high dominance talk less of him main role in the film.</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critical acclaim give the poster a sense of worth and notability.</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imilar colour scheme was used in respect to my front cover of my magazin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rief eye catching sell lines are listed in bright (not overpowering) colours likewise with existing magazine front cover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Dianah</a:t>
            </a:r>
            <a:endParaRPr b="0" lang="en-US" sz="4400" spc="-1" strike="noStrike">
              <a:solidFill>
                <a:srgbClr val="000000"/>
              </a:solidFill>
              <a:latin typeface="Calibri"/>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Chanelle</a:t>
            </a:r>
            <a:endParaRPr b="0" lang="en-US" sz="4400" spc="-1" strike="noStrike">
              <a:solidFill>
                <a:srgbClr val="000000"/>
              </a:solidFill>
              <a:latin typeface="Calibri"/>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atie</a:t>
            </a:r>
            <a:endParaRPr b="0" lang="en-US" sz="4400" spc="-1" strike="noStrike">
              <a:solidFill>
                <a:srgbClr val="000000"/>
              </a:solidFill>
              <a:latin typeface="Calibri"/>
            </a:endParaRPr>
          </a:p>
        </p:txBody>
      </p:sp>
      <p:pic>
        <p:nvPicPr>
          <p:cNvPr id="5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alibri"/>
              </a:rPr>
              <a:t>How effective is the combination of your main product and ancillary texts?</a:t>
            </a:r>
            <a:endParaRPr b="0" lang="en-US" sz="31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ur main product and ancillary texts work correspondently well together as we ensured that we featured the same characters (cast) throughout as to avoid confusion and maintain consistency. </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ong with this our ancillary texts created an expectation of an overwhelming film to be produced of which theme the trailer completes this idea with great filming angles, non-diegetic music as well as diegetic music, settings, lighting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ored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ing consistency is key for the whole production package to be effective of which attributes I believe I have kept to. Keeping the same cast, storyline and prop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34:10Z</dcterms:created>
  <dc:creator>User</dc:creator>
  <dc:description/>
  <dc:language>en-US</dc:language>
  <cp:lastModifiedBy>Theo</cp:lastModifiedBy>
  <dcterms:modified xsi:type="dcterms:W3CDTF">2010-04-22T09:25:56Z</dcterms:modified>
  <cp:revision>12</cp:revision>
  <dc:subject/>
  <dc:title>Advanced Portfolio: Evaluation</dc:title>
</cp:coreProperties>
</file>