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3FFD6-E624-494D-BD38-F97509744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FC276-3EBB-47E4-B1A9-91CCA92D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430F9-34E2-4198-838D-287AB039B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EB3DD-36FE-4F6D-9C48-3D078425C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B04FC-1F40-45D7-A928-2CAA805F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0F246-5D65-4EAF-B3E5-82764D82B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968C2-E6FB-4D9A-95E7-2C0FA8678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E97C0-DCDE-4D4B-AC6B-3E3C35F4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16FE-08E2-4BD4-86A2-E4BD9907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80E3-B630-4CA0-AEDB-AE0F897B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785A-0C7A-4487-9AE7-ACF5D45A1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533A-64DA-40DF-9E02-29BD6C18A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FE67-A607-4F1D-AF24-5C75561199D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10Z</dcterms:modified>
  <cp:revision>12</cp:revision>
  <dc:subject/>
  <dc:title>Advanced Portfolio: Evaluation</dc:title>
</cp:coreProperties>
</file>