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8170C-18D5-4A0E-80F3-82A94A613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4963-39BF-4B78-ABF9-EFEED2AD1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E513E-4FA6-4F63-8D08-B0B17C4FD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7F0AB-EAE8-436C-B785-62F7F2629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DF59-E071-4531-BF9C-97E76E710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2941E-1E78-4125-86EE-E9501FAB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BE321-8A52-4DC6-964B-8558228C9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A79DE-3A40-4AB4-B207-511580F39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F45BC-C773-4E26-8258-E3B2A985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FE2A-0F01-4E6E-9343-1C4C46D7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C340-BC70-4CF0-B26C-27D509002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E6305-6E9C-433A-8A6B-A78086168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E7E7-E264-42A1-B2B0-A273EB37356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10Z</dcterms:modified>
  <cp:revision>12</cp:revision>
  <dc:subject/>
  <dc:title>Advanced Portfolio: Evaluation</dc:title>
</cp:coreProperties>
</file>