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472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A920-A253-495D-B27F-580703F64E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iler should be between 1 and 2 minutes long – no more or 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00BC-3BFC-458B-AA7B-5B736B9C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703-BA1E-4064-936C-FD9FF03C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596-7B98-44ED-ACEE-3FFFD4FA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2E06-8DA4-4879-8BFD-86F19226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30455-6A16-413C-ADBA-01232060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817F5-FDD8-4310-844E-BF648144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C4BAB-9D99-4696-B624-9A274CF6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C205B-D3BF-4493-B9A1-6902407C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B5CF8-2CAC-4EE0-9E6B-21137047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FFB30-2F37-44E7-AAB8-EA28A2ED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01F19-96FF-4BD1-AC08-AA010E43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A198-2954-42FB-B76A-5085C1F5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01602-C9DF-4B13-AA78-C559FF8F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F74DE-D6CE-4BCA-89D5-19A9BBB8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37634-9BC1-4675-AFC8-19B7CB3B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3D96D-D280-4287-83D0-CD0385DC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2ED85-95F6-42B6-A3A3-9512214E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7A2E-1845-4CA9-B43B-10122AF5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478D-25A0-44D6-B4E7-B5DA1F75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567-15C1-4D63-B5DC-6537D047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DBB9-1FB7-49EB-B719-BE5626FA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626C-A98E-4586-AD12-C544053F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FF4D-4722-40E4-A085-2922A00B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64B9-E2CD-4E7E-88D5-B01B2F1C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FFBA-9E9C-4E37-901E-D57AD1E6E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3BAE-2CA4-424B-8EBD-9F886599D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397240" y="2109960"/>
          <a:ext cx="2266920" cy="22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240" y="2109960"/>
                    <a:ext cx="2266920" cy="22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vanced Portfolio– A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Film Promotion Package 2009/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rie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uhaus 93"/>
              </a:rPr>
              <a:t>To create promotional package for a new film: to include a trailer, poster and front page of a film magaz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you need to know about your Prom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auhaus 93"/>
              </a:rPr>
              <a:t>You need to choose your grou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Promotional package must be for a fil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Largely original images must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Production must show evidence of student’s ability to plan, construct and 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next 3 week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uhaus 93"/>
              </a:rPr>
              <a:t>Define and become familiar with film trailers and film marke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uhaus 93"/>
              </a:rPr>
              <a:t>Analysis of technical aspects in filmma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uhaus 93"/>
              </a:rPr>
              <a:t>Look at past production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90400" y="1628280"/>
            <a:ext cx="7653240" cy="45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Decide which groups you will be working in – you must work groups of 3 or 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0:39:00Z</dcterms:created>
  <dc:creator>chan</dc:creator>
  <dc:description/>
  <dc:language>en-US</dc:language>
  <cp:lastModifiedBy>doug</cp:lastModifiedBy>
  <dcterms:modified xsi:type="dcterms:W3CDTF">2009-09-09T18:08:38Z</dcterms:modified>
  <cp:revision>5</cp:revision>
  <dc:subject/>
  <dc:title>Advanced Production – A2</dc:title>
</cp:coreProperties>
</file>