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472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3434-32AD-48B8-BCED-CA5852185A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iler should be between 1 and 2 minutes long – no more or 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D594-8975-4C1F-BBD4-2E287159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4EC6-198B-4124-A6A6-FE4233E9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D04B-6DCC-4E2B-A42F-EEF17039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8224-031D-4DE5-9F18-C67BA1F3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823FF-FB13-498E-B0CE-CCCE8B81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E9B1C-EE16-4A5D-A04A-D65B1735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F6C94-A304-40E1-9665-6242033E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A58E3-55AE-47A9-99DA-BE427839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D4525-CD07-4390-8D3F-CC5C7860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7ED7D-C352-45F1-A29B-A909E26A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1B197-30A2-484B-9DD8-8D94C8C7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EBC7-7DFC-4B7F-A800-1F7E2174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E9A17-9BE7-4025-A9FD-AEDE9F32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3DC85-CD7C-4514-B1F1-C995135F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B8E98-084B-4D96-B4B6-637B3415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0DE72-8FA4-4D33-8541-E16E7AF5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718E8-BDA1-4A97-A9AA-52EC108B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98EF-C830-4FBE-85BF-0B6C03E7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43D7-F45C-4DA3-8952-56C888F2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F170-3B86-45AC-B8DE-54582EF6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B411-F1FC-4E77-AB30-CCADFFC1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52A1-6A68-4D56-9B14-376DD03C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9210-5980-4624-B54A-FFDCC272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89EF-5426-46E3-9985-184F5591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91BC-8E36-4898-BD4C-FF9991B87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368D-1C58-48BE-AD9B-BE6A15373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397240" y="2109960"/>
          <a:ext cx="2266920" cy="22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240" y="2109960"/>
                    <a:ext cx="2266920" cy="22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vanced Portfolio– A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Film Promotion Package 2009/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rie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uhaus 93"/>
              </a:rPr>
              <a:t>To create promotional package for a new film: to include a trailer, poster and front page of a film magaz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you need to know about your Prom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auhaus 93"/>
              </a:rPr>
              <a:t>You need to choose your grou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Promotional package must be for a fil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Largely original images must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Production must show evidence of student’s ability to plan, construct and 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next 3 week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uhaus 93"/>
              </a:rPr>
              <a:t>Define and become familiar with film trailers and film market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uhaus 93"/>
              </a:rPr>
              <a:t>Analysis of technical aspects in filmmak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uhaus 93"/>
              </a:rPr>
              <a:t>Look at past production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90400" y="1628280"/>
            <a:ext cx="7653240" cy="45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Decide which groups you will be working in – you must work groups of 3 or 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0:39:00Z</dcterms:created>
  <dc:creator>chan</dc:creator>
  <dc:description/>
  <dc:language>en-US</dc:language>
  <cp:lastModifiedBy>doug</cp:lastModifiedBy>
  <dcterms:modified xsi:type="dcterms:W3CDTF">2009-09-09T18:08:38Z</dcterms:modified>
  <cp:revision>5</cp:revision>
  <dc:subject/>
  <dc:title>Advanced Production – A2</dc:title>
</cp:coreProperties>
</file>