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472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8012-0CAD-4847-9C7C-E40DBC7A3D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iler should be between 1 and 2 minutes long – no more or 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6AED-9A81-4213-8BA0-3129CDC7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EB81-BF96-4407-98CD-DEE49484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4BD7-F590-4C67-BFDF-BD7275AF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A219-0239-4E78-B80E-71007964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46811-CADD-4527-B633-C0125C64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0F5F3-F573-4DA6-B88C-9599457C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FFD80-E411-4B14-A56A-F5864C7F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D500A-871D-4028-A15A-6B2C87C4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DF190-BF4E-415D-8CA3-E8D537F4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84A5D-FB80-482C-959E-011ABD11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11172-D46F-4788-9342-7C34EC30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50E9-D3CA-43E5-BDF0-A6A42013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7984E-FC5C-4DDC-B99A-C65EFFE2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88D92-599A-4B89-96F3-5FAA9533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C1C2E-536C-4742-BB1A-92CDC7CD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22026-357A-4F78-85D1-5286B9A9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691A0-1ADB-4F08-9769-4A53C4C7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A370-12F9-4B18-9030-8F41515A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102C-8F97-4632-B8BB-19EF1EAA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73C5-50A6-40EE-86A0-3371DA43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BA8D-04B4-41F0-95D2-C9CB014D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0E1A-CF0B-428C-98D1-3BE78070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17A2-6260-4CAD-9E38-A37DEB19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DDDF-786C-4275-A767-B3305FBB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BF1C-87E8-4962-887B-7CA6C5CF1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2F95-9392-445C-AE04-C1D58B210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397240" y="2109960"/>
          <a:ext cx="2266920" cy="22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240" y="2109960"/>
                    <a:ext cx="2266920" cy="22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vanced Portfolio– A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Film Promotion Package 2009/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rie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uhaus 93"/>
              </a:rPr>
              <a:t>To create promotional package for a new film: to include a trailer, poster and front page of a film magaz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you need to know about your Prom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auhaus 93"/>
              </a:rPr>
              <a:t>You need to choose your grou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Promotional package must be for a fil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Largely original images must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Production must show evidence of student’s ability to plan, construct and 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next 3 week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uhaus 93"/>
              </a:rPr>
              <a:t>Define and become familiar with film trailers and film market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uhaus 93"/>
              </a:rPr>
              <a:t>Analysis of technical aspects in filmmak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uhaus 93"/>
              </a:rPr>
              <a:t>Look at past production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90400" y="1628280"/>
            <a:ext cx="7653240" cy="45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Decide which groups you will be working in – you must work groups of 3 or 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0:39:00Z</dcterms:created>
  <dc:creator>chan</dc:creator>
  <dc:description/>
  <dc:language>en-US</dc:language>
  <cp:lastModifiedBy>doug</cp:lastModifiedBy>
  <dcterms:modified xsi:type="dcterms:W3CDTF">2009-09-09T18:08:38Z</dcterms:modified>
  <cp:revision>5</cp:revision>
  <dc:subject/>
  <dc:title>Advanced Production – A2</dc:title>
</cp:coreProperties>
</file>