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828-82A4-45C9-8134-69E6335F71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ler should be between 1 and 2 minutes long – no more or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CFE-4C48-49C7-9245-5471CE61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AAF-EA20-45C6-91D5-56DC612B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BFF-6A27-432E-9A91-7497FAB6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56B-A95E-4BF5-92FF-BD167189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D6DA9-2AA2-4999-9D62-E0F0269C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E25C0-AFAC-4748-962C-1181869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14A6E-A9C1-40F7-A0CF-3CB8C6E4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C2D60-5111-4D37-AB13-6983F267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5075E-6543-4C75-A457-F73E622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55B88-A05D-4157-9A7A-09CF9A69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082D6-262E-48C4-A148-1B438CF8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FD0-B22A-4542-BD6E-AF31177F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8AA73-915C-4AFF-B258-4560788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FD8E3-A5EC-4843-9C53-B567BA6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12ABC-A076-46E3-9F19-9C94E939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BB1D5-A74B-4D51-86D3-ABAB654E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899B9-64C4-4C21-8ACC-8662186B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C55-5236-4955-8270-CDA8CD2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F32-3A24-4533-BAAA-CCF4A0AF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691-C5F8-42F0-9BAD-91D5F35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9C7-FF23-4B3C-ADF3-8075498A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2E6-715B-4DED-AA7A-E2B101E4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1BF-4C33-4D44-9DC2-CC655DF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D2F-DCFA-4952-B7AC-E1EEADE9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2D63-5E52-49F9-AC5F-4E68E89A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348-6C1D-47D2-B298-4F6B2E37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Portfolio– 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ilm Promotion Package 2009/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To create promotional package for a new film: to include a trailer, poster and front page of a film magaz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need to know about your Pro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uhaus 93"/>
              </a:rPr>
              <a:t>You need to choose you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motional package must be for a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Largely original images must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duction must show evidence of student’s ability to plan, construct and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3 wee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Define and become familiar with film trailers and film marke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Analysis of technical aspects in filmm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Look at past productio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90400" y="1628280"/>
            <a:ext cx="76532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Decide which groups you will be working in – you must work groups of 3 or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0:39:00Z</dcterms:created>
  <dc:creator>chan</dc:creator>
  <dc:description/>
  <dc:language>en-US</dc:language>
  <cp:lastModifiedBy>doug</cp:lastModifiedBy>
  <dcterms:modified xsi:type="dcterms:W3CDTF">2009-09-09T18:08:38Z</dcterms:modified>
  <cp:revision>5</cp:revision>
  <dc:subject/>
  <dc:title>Advanced Production – A2</dc:title>
</cp:coreProperties>
</file>