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FEB9-C7FF-425F-B435-3EB5DA3C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e and Total Film – more popu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ht and Sound – more “seri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tle White Lies – independent movie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go Magazine – international, for independent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F16-4DEE-435E-8B0C-7C3068ED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D61-094D-408F-8B83-F4BFE7C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D32-0EFB-450F-9812-9EE8B591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735-B314-4544-AC35-BC7BDA1F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B1C-E476-4724-B5B1-C369B65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F28-9641-43E0-BF93-8CF5BDA9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C0D-2694-43D5-A386-56AC83C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78D-B8E8-44DF-826C-18AF9FC4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DC0-4491-4FD3-8625-DA894DC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4F2-92A9-424C-9C2A-8C8CA5B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D76-33FC-49BF-934B-F8E9D99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EF1-0B6E-4FB6-98C8-1E00016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762D-5CC9-432C-A761-3382B18AA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ap coursework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gin to understand and develop opinions about Magazine conventions, focusing on Front Cov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- genre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at are the generic conventions of film magaz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nd to be genr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d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s of cinema, DVD and soundtrack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53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Annotate techniques used on the following front covers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cover features film star/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s of speci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use of font (size/colou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ve tagline for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clamation ma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– 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do you think the film magazines we have discussed are aim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s are especially vital to both of your chosen gen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p’s 8 spheres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ti hero or false h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l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nor or g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se 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of these character types can necessarily be applied to every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ban Drama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ce?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? To move the audience in an emotional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 struggle, involving hardship/pain etc (“social realism” – a serious story) of man/women again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/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key themes: Passion, tension, betrayal (and revenge and/or forg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over into other gen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nture (hero on a qu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gedy (fatal flaw resulting in downfall – the tragic hero)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otionally satisfying end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il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ive me your printed copies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name: mediaclass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word: pleasa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your files on in an organized, logical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label them correctly (i.e. with your 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han_trailer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on Friday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tch sheet (hard 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 post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dvanced Portfolio – Ancillary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 tasks to be completed alongside the main tas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motional Trailer for a new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rsework worth 50% of your A2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ncillary Tas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the front page of a Film Magazine and a poster for a new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e in before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nstruction is worth 60 marks for all 3 tasks. The ancillary tasks are worth 20 of the mark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-30528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7936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magazines is two 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gazines continue to appear on the market and sell in huge numbers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actile and visu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medium differs from every other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table and ea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the internet has had an impact on the magazine market, much of what features in magazines 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xclusive to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agazin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discernible front cover with main image and masthea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ntents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ad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715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38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azines can be classified according to their content, their target audience and their frequency of publication (monthly, week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genres of magazines can you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Brainstorm titles of film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498760" cy="32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563920" cy="355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72360" y="2708280"/>
            <a:ext cx="23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2:37Z</dcterms:created>
  <dc:creator>#</dc:creator>
  <dc:description/>
  <dc:language>en-US</dc:language>
  <cp:lastModifiedBy>Maninder Singh</cp:lastModifiedBy>
  <dcterms:modified xsi:type="dcterms:W3CDTF">2009-09-28T12:55:38Z</dcterms:modified>
  <cp:revision>10</cp:revision>
  <dc:subject/>
  <dc:title>Foundation Portfolio – Magazine Production</dc:title>
</cp:coreProperties>
</file>