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6BA9-E4A4-4094-8AD0-89A4330F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e and Total Film – more popu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ht and Sound – more “seri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tle White Lies – independent movie 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igo Magazine – international, for independent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421-7F72-4CC3-B401-F3B8836B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D18-3009-4F55-906F-BEE5C5CD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988-F23B-4CFA-87BB-C7001E75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B67-5344-4F95-9CE4-3D4755FA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D8C-A0B3-4D76-A4B6-85E5EF00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60E-AAE4-411A-BA3D-22F78867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583-9CFE-4494-AC7F-721C254E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D95-4358-4828-B919-64E95E37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8DB-213A-46AC-A409-C14134FC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54A-4E32-4121-9402-D58C021C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202-2184-4E8D-A747-0590BC8A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577-40E8-4119-AD66-A64D75C8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110-A1A2-450F-BE34-A3742199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cap coursework requirements an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gin to understand and develop opinions about Magazine conventions, focusing on Front Cov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- genre 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at are the generic conventions of film magaz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tend to be genr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d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s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s of cinema, DVD and soundtrack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280" y="1268280"/>
            <a:ext cx="853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Annotate techniques used on the following front covers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nt cover features film star/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s of specia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stent use of font (size/colour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ve tagline for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f exclamation mar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– 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do you think the film magazines we have discussed are aime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ych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s are especially vital to both of your chosen genr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5524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p’s 8 spheres of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ti hero or false h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ll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lp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nor or gi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se m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ll of these character types can necessarily be applied to every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rban Drama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ce?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? To move the audience in an emotional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a struggle, involving hardship/pain etc (“social realism” – a serious story) of man/women again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/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key themes: Passion, tension, betrayal (and revenge and/or forg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over into other gen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nture (hero on a qu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gedy (fatal flaw resulting in downfall – the tragic hero)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otionally satisfying end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il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give me your printed copies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name: mediaclass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word: pleasan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t your files on in an organized, logical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label them correctly (i.e. with your nam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han_traileranaly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l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on Friday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to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tch sheet (hard co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 post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dvanced Portfolio – Ancillary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2 tasks to be completed alongside the main tas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omotional Trailer for a new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ursework worth 50% of your A2 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Ancillary Task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: the front page of a Film Magazine and a poster for a new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ue in before Christ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construction is worth 60 marks for all 3 tasks. The ancillary tasks are worth 20 of the mark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-30528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179360"/>
            <a:ext cx="828036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urpose of magazines is two f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gazines continue to appear on the market and sell in huge numbers.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tactile and visu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the medium differs from every other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table and eas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hough the internet has had an impact on the magazine market, much of what features in magazines 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xclusive to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Magazin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discernible front cover with main image and masthead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contents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ad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715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r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38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azines can be classified according to their content, their target audience and their frequency of publication (monthly, weekl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genres of magazines can you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: Brainstorm titles of film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2498760" cy="323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563920" cy="355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72360" y="2708280"/>
            <a:ext cx="234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9:12:37Z</dcterms:created>
  <dc:creator>#</dc:creator>
  <dc:description/>
  <dc:language>en-US</dc:language>
  <cp:lastModifiedBy>Maninder Singh</cp:lastModifiedBy>
  <dcterms:modified xsi:type="dcterms:W3CDTF">2009-09-28T12:55:38Z</dcterms:modified>
  <cp:revision>10</cp:revision>
  <dc:subject/>
  <dc:title>Foundation Portfolio – Magazine Production</dc:title>
</cp:coreProperties>
</file>