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315-568B-4D6C-907F-A5BB53A9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8CA-4DD0-41F8-A2B2-AD0D59D2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122-2A52-43CD-8AEA-44E1C4D9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94D-4F56-4634-BEC0-A6931E4D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0D3-30E1-455B-8242-C444A116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FFB-3ECE-4DE0-A413-1F22314F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081-F6D8-4787-9F8A-9EDAC43A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201-9534-454E-B1E6-C2CF4C23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CC5-A0AB-47DF-B865-945652E0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972-19E7-493D-9D21-4503D045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0D5-FBD6-4F7E-B7E7-2420FE7A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202-0DB2-4282-9217-14A7E32D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9BA5-B302-4BDB-B15C-B2476BE62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anced Portfolio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3068280"/>
            <a:ext cx="68007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To be presented individually as a PowerPoint with visual stimuli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To be presented as a group as a filmed DVD extra to include visual stimuli (images, final posters/mags clips from trail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at ways does your media product use, develop or challenge forms and conventions of real media product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effective is the combination of your main product and ancillary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ve you learned from your audience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you use media technologies in the construction and research, planning and evaluation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9:40:56Z</dcterms:created>
  <dc:creator>#</dc:creator>
  <dc:description/>
  <dc:language>en-US</dc:language>
  <cp:lastModifiedBy>maninder singh</cp:lastModifiedBy>
  <dcterms:modified xsi:type="dcterms:W3CDTF">2010-03-05T13:46:46Z</dcterms:modified>
  <cp:revision>2</cp:revision>
  <dc:subject/>
  <dc:title>Advanced Portfolio</dc:title>
</cp:coreProperties>
</file>