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432-83F4-4A5C-A866-3F3AA1F8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531-B82D-4A98-8719-E05ABBBF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5EB-5088-461D-8952-35D43DDE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C18-5CB1-48E3-AC96-E7278396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A95-AE27-46E3-AD2D-F355E54A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4F8-04BA-4E51-A55E-5ABE76B1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92C-2816-4958-9625-6DF45328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29F-F7B6-428F-B355-6E0D0CDA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256-E96A-4850-9A3D-D10BBF5B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B0A-050D-4078-938F-95E40352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921-7D63-4D90-AA17-E5265187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FDA-0B79-4DA6-B656-12EC794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D9F8-3483-4B06-B004-F69DDE0BB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anced Portfolio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3068280"/>
            <a:ext cx="68007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To be presented individually as a PowerPoint with visual stimuli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To be presented as a group as a filmed DVD extra to include visual stimuli (images, final posters/mags clips from trail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at ways does your media product use, develop or challenge forms and conventions of real media product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effective is the combination of your main product and ancillary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ve you learned from your audience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you use media technologies in the construction and research, planning and evaluation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9:40:56Z</dcterms:created>
  <dc:creator>#</dc:creator>
  <dc:description/>
  <dc:language>en-US</dc:language>
  <cp:lastModifiedBy>maninder singh</cp:lastModifiedBy>
  <dcterms:modified xsi:type="dcterms:W3CDTF">2010-03-05T13:46:46Z</dcterms:modified>
  <cp:revision>2</cp:revision>
  <dc:subject/>
  <dc:title>Advanced Portfolio</dc:title>
</cp:coreProperties>
</file>