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9E8-96E0-404A-908D-DEBAADD9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7DB-ED43-488D-BA4E-0209735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767-B8EE-44B1-AA0C-0738C6C9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7D5-2105-4A84-8873-F025FED3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6C6-CFE9-4463-9D9E-94C1F499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95B-FA76-4122-9477-D81B0A1B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4B5-D435-4FF9-B497-3C39922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615-A1D3-4769-A255-582CC13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31D-26B8-4589-9AC7-D94BA36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609-B032-43A5-9AC3-BDB21AB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79C-4C9A-426F-9E3A-60E60A3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E04-F73A-46F9-81E3-712073F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84AB-CE0F-4730-9756-1AE993B0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maninder singh</cp:lastModifiedBy>
  <dcterms:modified xsi:type="dcterms:W3CDTF">2010-03-05T13:46:46Z</dcterms:modified>
  <cp:revision>2</cp:revision>
  <dc:subject/>
  <dc:title>Advanced Portfolio</dc:title>
</cp:coreProperties>
</file>