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7A1-A5FD-4A93-8DA0-C64ECB6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040-2046-401F-874B-3C381168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2E2-91F3-4F9D-A2A3-9FDB7DF3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5FB-01FD-4F7C-BDCC-0C4EA102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B52-CBBD-461B-AEFC-9AB6222A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5F2-A46A-447C-89FA-51C79307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996-0675-4EFB-90D6-31754E9E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8F9-33B7-484E-80BF-00534E3B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236-6DDC-4C9D-9B74-A7FE8C58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277-1C26-469E-B6D8-DC0EEBAD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846-E74E-4B17-8557-2CA47E13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3C8-6742-4EE7-8BD4-2B8D97F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AA53-98A8-40A8-AD70-20BA1DF1E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individually as a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presented as a group as a filmed DVD extra to include visual stimuli (images, final posters/mags clips from trail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maninder singh</cp:lastModifiedBy>
  <dcterms:modified xsi:type="dcterms:W3CDTF">2010-03-05T13:46:46Z</dcterms:modified>
  <cp:revision>2</cp:revision>
  <dc:subject/>
  <dc:title>Advanced Portfolio</dc:title>
</cp:coreProperties>
</file>