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9CE-0F98-4A9A-93FC-92002C66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A7F-73ED-4F86-A60A-1F46ADCA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E6D-3E1B-46D3-858E-966CD8A5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64D-5606-4B40-928F-B3AF0A7F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00C-3374-47A8-9FBA-9F83DF1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628-A483-43DC-BB02-F1933D96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506-5CB4-4632-BBD4-AE921BA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796-267D-43BE-B64E-B560FE69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F3F-DB6B-4153-BD57-27E1D5A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F12-1AFB-4F66-BABB-45FA743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D2F-2979-46BD-829C-E4AD4F5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5A4-3669-4F2E-B710-E66E7F55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3D6-0D8E-4A1D-98AA-5FFDA521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anced Portfolio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3068280"/>
            <a:ext cx="68007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o be presented individually as a PowerPoint with visual stimuli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o be presented as a group as a filmed DVD extra to include visual stimuli (images, final posters/mags clips from trail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your media product use, develop or challenge forms and conventions of real media product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ffective is the combination of your main product and ancillary 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learned from your audienc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use media technologies in the construction and research, planning and evaluation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maninder singh</cp:lastModifiedBy>
  <dcterms:modified xsi:type="dcterms:W3CDTF">2010-03-05T13:46:46Z</dcterms:modified>
  <cp:revision>2</cp:revision>
  <dc:subject/>
  <dc:title>Advanced Portfolio</dc:title>
</cp:coreProperties>
</file>