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472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6ED6-10F4-4082-84A6-BF99236542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iler should be between 1 and 2 minutes long – no more or 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D49-3123-4408-B43E-E60361E5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C73A-05FB-4A3D-A4F5-6BBFBEDD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58FE-C8D1-4480-A490-44B4D050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5A60-8501-4B03-8DA9-71722020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87C1F-B28F-47F1-8C68-000FDC7E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9DBBD-B63B-4CDE-BC34-26CBD9B6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49AE0-88E2-4061-BAD9-103054F7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7810E-6E06-46FE-91E4-B85F4395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24AAC-2EEE-4B37-8862-308BD985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ACF09-4F2B-4857-8BE8-0AA4B3AE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A1F63-B9F2-4F30-A4F4-00397341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2695-18F7-4A19-8C20-5A27E094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2C3C9-D265-4F1C-ACFF-CE29366C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CB6AD-516C-4BBD-B962-E7A09D3F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ADD85-7A9D-4431-BF7F-3FC88F11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82CC9-782A-4459-B34E-C6A98857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96F92-162E-4064-A1E1-416DCBDF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F8AC-23ED-42B2-9AAE-58AA1381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F937-422C-4D20-9223-3C4F004A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2E63-A396-444F-A8F5-8311DF2E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A619-2EB4-424E-9A67-305C6F6C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DC5D-2EEE-4693-B0BD-B54E6995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DB3B-A1F7-404B-8676-C1582D06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5A2E-DE7F-430B-BE7D-0A959812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B76D-AB86-4576-AEBF-29C5DB983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8640-B356-4D18-A21D-C0D1BE852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397240" y="2109960"/>
          <a:ext cx="2266920" cy="22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240" y="2109960"/>
                    <a:ext cx="2266920" cy="22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vanced Portfolio– A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Film Promotion Package 2009/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rie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uhaus 93"/>
              </a:rPr>
              <a:t>To create promotional package for a new film: to include a trailer, poster and front page of a film magaz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you need to know about your Prom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auhaus 93"/>
              </a:rPr>
              <a:t>You need to choose your grou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Promotional package must be for a fil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Largely original images must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Production must show evidence of student’s ability to plan, construct and 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next 3 week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uhaus 93"/>
              </a:rPr>
              <a:t>Define and become familiar with film trailers and film marke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uhaus 93"/>
              </a:rPr>
              <a:t>Analysis of technical aspects in filmma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uhaus 93"/>
              </a:rPr>
              <a:t>Look at past production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90400" y="1628280"/>
            <a:ext cx="7653240" cy="45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Decide which groups you will be working in – you must work groups of 3 or 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0:39:00Z</dcterms:created>
  <dc:creator>chan</dc:creator>
  <dc:description/>
  <dc:language>en-US</dc:language>
  <cp:lastModifiedBy>doug</cp:lastModifiedBy>
  <dcterms:modified xsi:type="dcterms:W3CDTF">2009-09-09T18:08:38Z</dcterms:modified>
  <cp:revision>5</cp:revision>
  <dc:subject/>
  <dc:title>Advanced Production – A2</dc:title>
</cp:coreProperties>
</file>