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BD8A-47DC-42BA-BD82-A5F25723C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you match any of these to the characters in the fil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ire and Total Film – more popu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ht and Sound – more “seriou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tle White Lies – independent movie magaz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tigo Magazine – international, for independent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1696-79A4-4F0D-A5F5-4B7C2966A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61B2-52A6-4AEB-9363-7D7D8AB6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E759-95A4-40CA-A51E-C2A21CB99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F2B3-C60A-4625-A456-8A2190E01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1EBA-8C2D-482B-8B1C-5AF6E147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E385-91D5-4F2A-9566-AD5EFADC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EFAC-18FA-4A8B-B5D0-2669C978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7014-00B2-47B7-93B9-D2E39EE6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FF24-4068-4BE8-8D88-7316C066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3992-5616-4DD0-AD4B-26DCAB8A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4450-05AC-4F0C-8758-B9AE8A61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E0F9-7C51-4343-A4D2-66960693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E41F-422B-4536-A831-A1811D8BA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recap coursework requirements and expec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begin to understand and develop opinions about Magazine conventions, focusing on Front Cover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lm mags - genre conven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: What are the generic conventions of film magazi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tend to be genre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atured 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test n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views of cinema, DVD and soundtrack rel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ents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lm magaz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1280" y="1268280"/>
            <a:ext cx="8533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61560" indent="-61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sk: Annotate techniques used on the following front covers, 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nt cover features film star/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tails of special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istent use of font (size/colour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ptive tagline for magaz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of exclamation mark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30560" y="189000"/>
            <a:ext cx="500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70160" y="189000"/>
            <a:ext cx="46782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300400" y="189000"/>
            <a:ext cx="45766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lm mags – target aud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do you think the film magazines we have discussed are aimed 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graph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ychograph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racters are especially vital to both of your chosen genre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155240"/>
            <a:ext cx="9144000" cy="62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pp’s 8 spheres of 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adimir Propp was a Russian writer who through reading hundreds of European folktales and stories came to the conclusion there were 8 main character types that a story would revolve around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h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nti hero or false her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vill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inces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help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onor or giv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wise m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a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all of these character types can necessarily be applied to every s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rban Drama fil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sence? Confli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rpose? To move the audience in an emotional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rrativ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ually a struggle, involving hardship/pain etc (“social realism” – a serious story) of man/women again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/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o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key themes: Passion, tension, betrayal (and revenge and/or forgiven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oss-over into other gen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enture (hero on a quest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gedy (fatal flaw resulting in downfall – the tragic hero) 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otionally satisfying ending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e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iler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give me your printed copies ple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iki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rname: mediaclass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sword: pleasant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t your files on in an organized, logical fash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label them correctly (i.e. with your nam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han_traileranalysi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m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e N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iler analysis (on wikispa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e on Friday 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ctob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tch sheet (hard cop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ative poster analysis (on wikispa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</a:rPr>
              <a:t>Advanced Portfolio – Ancillary T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2 tasks to be completed alongside the main task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Promotional Trailer for a new fi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Coursework worth 50% of your A2 m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Ancillary Tasks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: the front page of a Film Magazine and a poster for a new fil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Due in before Christ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The construction is worth 60 marks for all 3 tasks. The ancillary tasks are worth 20 of the marks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440" y="-305280"/>
            <a:ext cx="5791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rpose of Magaz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4920" y="1179360"/>
            <a:ext cx="8280360" cy="56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purpose of magazines is two fo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Enter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In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gazines continue to appear on the market and sell in huge numbers.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Why?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tactile and visual natur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of the medium differs from every other medi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portable and easy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to acc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though the internet has had an impact on the magazine market, much of what features in magazines is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xclusive to the 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Magazine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ever the genre and target audience most magazines conform to a set of formal conven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a discernible front cover with main image and masthead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a contents p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 adve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ature arti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5715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re of Magaz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4920" y="1905120"/>
            <a:ext cx="838188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gazines can be classified according to their content, their target audience and their frequency of publication (monthly, weekl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genres of magazines can you na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lm magaz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7777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 1: Brainstorm titles of film magaz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95280" y="2924280"/>
            <a:ext cx="2498760" cy="3235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492360" y="2205000"/>
            <a:ext cx="2563920" cy="3551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372360" y="2708280"/>
            <a:ext cx="2340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9:12:37Z</dcterms:created>
  <dc:creator>#</dc:creator>
  <dc:description/>
  <dc:language>en-US</dc:language>
  <cp:lastModifiedBy>Maninder Singh</cp:lastModifiedBy>
  <dcterms:modified xsi:type="dcterms:W3CDTF">2009-09-28T12:55:38Z</dcterms:modified>
  <cp:revision>10</cp:revision>
  <dc:subject/>
  <dc:title>Foundation Portfolio – Magazine Production</dc:title>
</cp:coreProperties>
</file>