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0B4-54DA-49A8-8DAA-D58D7D5D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61A-847D-4922-ADC2-4AA2545D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FF5-2AC6-473C-B6B2-F0FF59A0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24E-9622-4BDD-A1CC-2D5BA611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740E9-2751-4257-AE30-0219CFC8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6D900-59E3-47DE-B21C-AC5AF0F7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5320C-D096-4FE9-88C1-821A0D21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8CAB2-DF83-4041-AAF1-546E2911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94C23-A89B-4F00-B148-0736E8B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6DED7-C250-433B-ADFB-F1A8DBB8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B8AB3-6171-4E3B-9C35-FAE2995B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6D2-DD6D-41CB-B89A-804D1EFC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BD833-1499-48C2-8DC8-F914EAF7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B6837-B3E9-4905-8162-583C0CEC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BC056-82DD-425C-B854-000ECA88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0D19A-E9E6-421A-B27E-F81DF7B0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6834D-5B63-4724-BDAC-978EEAED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998-AEA9-4440-8A6F-AE082124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6AE-B384-4039-B636-B76CC13E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F25-DE88-4BD2-AB9F-A52A8D41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FDB-3D16-4F62-9263-BC819FF4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789-4BBB-41B2-991A-323B595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CB8-646B-4CA4-9BB9-75C99F7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CF9-2E7C-4B68-9CE5-DBC7C744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AF05-7A45-4C71-8C99-12F548EFC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6145-DD22-4204-98BE-D7E1EDEB8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udience Resear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6400800" cy="1752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: Develop understanding of Audience 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tly…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questionnaire is useless until the data both qualitative and quantitative has been analys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 not ‘sit on’ the completed typed master copy. Photocopy, give out, retrieve and analyse as quickly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 one will be allowed to begin the coursework until they have evidenced their audience research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lf of my sample were aged 16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5680" y="1946160"/>
          <a:ext cx="6431040" cy="429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1946160"/>
                    <a:ext cx="643104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youngest age group were more likely to think film marketing is importa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t surprisingly therefore, the younger age group were more likely to get to the cinema early to watch the trai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ongst 16-24 year olds, Action/Thriller films were most popular, especially with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9920" y="2540160"/>
            <a:ext cx="6400800" cy="1752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dience research is possibly the most important element of research in post productio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im of audience resear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find out who your target audience/demographic 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gather evidence of audience expectations of the film, genre and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ensure you adhere to those audience expecta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or choose to subver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udience Research Methods – can you name any (think of the DVD we watched)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cus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view scree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36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Coursework deadline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Monday 19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October</a:t>
            </a:r>
            <a:br>
              <a:rPr sz="4000"/>
            </a:br>
            <a:br>
              <a:rPr sz="4000"/>
            </a:b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Task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Write the 1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draft of your questionnair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You must then have the questionnaire answered over the holi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be a balance of open and closed ques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alitative (word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quantitative (da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ave a flow, build to longer answer open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formulate your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identify your target demograph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not be too long and onerou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uitable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osed or optional or op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thn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ccup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eferred genres of fil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dire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ything that the sample can give a yes or no answer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get to the cinema early to watch the trail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buy any film magazin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281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pen exam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Please state what it is about trailer’s made in this genre that you admire/like/enjoy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How important do you feel the marketing of a film is to its succe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Can you name a trailer you particularly enjoyed and explain why?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s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need to think carefully about who you give the questionnaire 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mographic of sample – age group(s), gender mix, ethnic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ize of the sample – ideally 12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intelligence of the samp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3:09:36Z</dcterms:created>
  <dc:creator>administrator</dc:creator>
  <dc:description/>
  <dc:language>en-US</dc:language>
  <cp:lastModifiedBy>Shereen</cp:lastModifiedBy>
  <dcterms:modified xsi:type="dcterms:W3CDTF">2009-10-19T14:39:01Z</dcterms:modified>
  <cp:revision>10</cp:revision>
  <dc:subject/>
  <dc:title>Audience Research</dc:title>
</cp:coreProperties>
</file>