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DE9D-390D-413B-AF10-78BE03B4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224A-DF74-4D15-AE9E-2003EDC7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172B-4958-4700-ABA7-23FBB421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E610-6BC8-42BE-B994-E24A6957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F4C63-E268-4FA3-9135-F543BD08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853D7-07EB-43A7-9197-D3F01EE6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1C07A-F228-4DDF-AD7E-47D2957B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4810B-F2C5-4E61-9D9D-085FFC13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6A07F-A264-4105-AB67-C07EB06A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68E58-ADC8-4555-BDB7-02E473E8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B1EE2-1165-42F6-AA7B-5B3A5016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D5C2-F466-4239-A126-549555F2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01DDE-655E-456F-BDD8-E5942380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C1604-616A-4876-8864-29D9D106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B2DAC-8017-4004-BC36-662C70B1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67E38-C36F-465A-BD6D-501BED06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02BF1-5AEB-4476-9209-118F903C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6EDE-F494-4DA3-9447-789BBD15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65E6-83FA-4722-981A-8B24DE65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1DEC-831E-4EFB-A5DF-3DD9AE32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5E48-5446-4962-AF6F-B88705F6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26FF-5D98-4336-9F31-6F38BBB9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CC39-6A72-4BBE-8E9D-31242652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41F-BBAE-4C90-8312-6C79B0DF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C656-60B0-43AE-8059-20DDA7456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CAF6-C15B-4758-B1D9-0A490F17F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469880"/>
          </a:xfrm>
          <a:prstGeom prst="rect">
            <a:avLst/>
          </a:prstGeom>
          <a:noFill/>
          <a:ln w="9360">
            <a:solidFill>
              <a:srgbClr val="00c6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udience Resear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6400800" cy="1752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: Develop understanding of Audience Rese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Lastly… analy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questionnaire is useless until the data both qualitative and quantitative has been analyse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o not ‘sit on’ the completed typed master copy. Photocopy, give out, retrieve and analyse as quickly as poss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o one will be allowed to begin the coursework until they have evidenced their audience research find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alf of my sample were aged 16-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5680" y="1946160"/>
          <a:ext cx="6431040" cy="429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5680" y="1946160"/>
                    <a:ext cx="6431040" cy="42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youngest age group were more likely to think film marketing is importa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47640" y="1916280"/>
          <a:ext cx="6431040" cy="429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916280"/>
                    <a:ext cx="6431040" cy="42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ot surprisingly therefore, the younger age group were more likely to get to the cinema early to watch the trail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47640" y="1916280"/>
          <a:ext cx="6431040" cy="429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916280"/>
                    <a:ext cx="6431040" cy="42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mongst 16-24 year olds, Action/Thriller films were most popular, especially with 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47640" y="1916280"/>
          <a:ext cx="6431040" cy="429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916280"/>
                    <a:ext cx="6431040" cy="42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39920" y="2540160"/>
            <a:ext cx="6400800" cy="17524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udience research is possibly the most important element of research in post production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im of audience research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find out who your target audience/demographic a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gather evidence of audience expectations of the film, genre and fo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ensure you adhere to those audience expectations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.or choose to subvert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udience Research Methods – can you name any (think of the DVD we watched)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Questionnai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cus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eview screen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836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ff"/>
                </a:solidFill>
                <a:uFillTx/>
                <a:latin typeface="Tahoma"/>
              </a:rPr>
              <a:t>Coursework deadline: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Monday 19</a:t>
            </a:r>
            <a:r>
              <a:rPr b="0" lang="en-GB" sz="4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October</a:t>
            </a:r>
            <a:br>
              <a:rPr sz="4000"/>
            </a:br>
            <a:br>
              <a:rPr sz="4000"/>
            </a:br>
            <a:r>
              <a:rPr b="1" lang="en-GB" sz="4000" spc="-1" strike="noStrike" u="sng">
                <a:solidFill>
                  <a:srgbClr val="ffffff"/>
                </a:solidFill>
                <a:uFillTx/>
                <a:latin typeface="Tahoma"/>
              </a:rPr>
              <a:t>Task: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Write the 1</a:t>
            </a:r>
            <a:r>
              <a:rPr b="0" lang="en-GB" sz="40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draft of your questionnaire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You must then have the questionnaire answered over the holiday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Questionnai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be a balance of open and closed ques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qualitative (word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d quantitative (da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have a flow, build to longer answer open ques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help you formulate your ide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help you identify your target demograph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not be too long and onerou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Suitable 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losed or optional or op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Gend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thni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ccup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referred genres of fil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pecific interest in st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pecific interest in dire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nything that the sample can give a yes or no answer 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o you get to the cinema early to watch the trailer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o you buy any film magazine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281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Open examp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‘ </a:t>
            </a: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Please state what it is about trailer’s made in this genre that you admire/like/enjoy.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How important do you feel the marketing of a film is to its succes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‘ </a:t>
            </a: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Can you name a trailer you particularly enjoyed and explain why?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he sam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You need to think carefully about who you give the questionnaire 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mographic of sample – age group(s), gender mix, ethnic grou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ize of the sample – ideally 12-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intelligence of the samp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3:09:36Z</dcterms:created>
  <dc:creator>administrator</dc:creator>
  <dc:description/>
  <dc:language>en-US</dc:language>
  <cp:lastModifiedBy>Shereen</cp:lastModifiedBy>
  <dcterms:modified xsi:type="dcterms:W3CDTF">2009-10-19T14:39:01Z</dcterms:modified>
  <cp:revision>10</cp:revision>
  <dc:subject/>
  <dc:title>Audience Research</dc:title>
</cp:coreProperties>
</file>