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D16-5D5D-4FDB-9DB2-1DAEF17B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958-E530-408A-A2DF-2C329FF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B61-E004-477B-8BF0-0FA04F2C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77B-1626-49E8-BDB0-BECA5807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E862A-23D2-48AF-A733-2134A932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8D06B-71B6-4592-95B5-F90105A7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22E85-11D5-48CC-9FBF-467D6968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873DE-CC02-4155-B648-59C77A9A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B28BA-3D6E-4E33-B989-D9343BDB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8A134-16D9-4FF3-BCFC-B9CD92C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ACA56-2917-43A6-A056-DE4EA8A0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37D-ED65-4F5A-BD31-2C545913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72DA-1216-42CD-AE11-FDF94814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6DF8B-029F-4035-8827-24DA066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14527-B7A2-492B-81D4-B6AAFAFA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0DF9-C802-49F6-9F52-78167E63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5C397-A525-4FE3-9DD7-A4D1C805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0C0-1E29-476F-85D9-98C8BDE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222-4466-4B28-B3B2-93FD51F4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DC4-DC74-45E6-9815-E650F343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485-6FB2-4A2C-B3F7-69404EF5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B00-6C0A-4698-84B5-88ABB89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C3F-213D-4B8B-9E14-367BDC4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6BA-CA59-4ED8-8BCA-E5568E9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CCFC-ED65-4AA8-BD39-6AF385FD9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009E-D044-4DEC-AABF-011EF6687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udience 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6400800" cy="1752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: Develop understanding of Audience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ly…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naire is useless until the data both qualitative and quantitative has been analys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 not ‘sit on’ the completed typed master copy. Photocopy, give out, retrieve and analyse as quickly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 one will be allowed to begin the coursework until they have evidenced their audience research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lf of my sample were aged 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5680" y="1946160"/>
          <a:ext cx="6431040" cy="429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1946160"/>
                    <a:ext cx="643104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youngest age group were more likely to think film marketing is importa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ot surprisingly therefore, the younger age group were more likely to get to the cinema early to watch the trai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ongst 16-24 year olds, Action/Thriller films were most popular, especially with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47640" y="1916280"/>
          <a:ext cx="6431040" cy="42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916280"/>
                    <a:ext cx="643104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9920" y="2540160"/>
            <a:ext cx="6400800" cy="1752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udience research is possibly the most important element of research in post produc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im of audience resear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find out who your target audience/demographic 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gather evidence of audience expectations of the film, genre an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ensure you adhere to those audience expect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or choose to subver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udience Research Methods – can you name any (think of the DVD we watched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cus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view scree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Coursework deadline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Monday 19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October</a:t>
            </a:r>
            <a:br>
              <a:rPr sz="4000"/>
            </a:br>
            <a:br>
              <a:rPr sz="4000"/>
            </a:br>
            <a:r>
              <a:rPr b="1" lang="en-GB" sz="4000" spc="-1" strike="noStrike" u="sng">
                <a:solidFill>
                  <a:srgbClr val="ffffff"/>
                </a:solidFill>
                <a:uFillTx/>
                <a:latin typeface="Tahoma"/>
              </a:rPr>
              <a:t>Task: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Write the 1</a:t>
            </a:r>
            <a:r>
              <a:rPr b="0" lang="en-GB" sz="4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draft of your questionnair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You must then have the questionnaire answered ove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estionna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be a balance of open and closed ques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alitative (word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quantitative (da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ave a flow, build to longer answer open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formulate your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help you identify your target demograph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hould not be too long and onerou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Suitable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losed or optional or op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eferred genres of fil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fic interest in dire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thing that the sample can give a yes or no answer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get to the cinema early to watch the trail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 you buy any film magazin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281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pen exam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Please state what it is about trailer’s made in this genre that you admire/like/enjoy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How important do you feel the marketing of a film is to its succe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‘ </a:t>
            </a: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Can you name a trailer you particularly enjoyed and explain why?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s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need to think carefully about who you give the questionnaire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graphic of sample – age group(s), gender mix, ethnic grou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ize of the sample – ideally 12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intelligence of the s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3:09:36Z</dcterms:created>
  <dc:creator>administrator</dc:creator>
  <dc:description/>
  <dc:language>en-US</dc:language>
  <cp:lastModifiedBy>Shereen</cp:lastModifiedBy>
  <dcterms:modified xsi:type="dcterms:W3CDTF">2009-10-19T14:39:01Z</dcterms:modified>
  <cp:revision>10</cp:revision>
  <dc:subject/>
  <dc:title>Audience Research</dc:title>
</cp:coreProperties>
</file>